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5D56-A386-46EF-A1EA-7D76B1E3CE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A7DE-4F18-472F-A9C2-CE498D470F4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1752-0821-4920-AF71-E900107D0BE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C105-BC23-449B-A670-9F6CC036392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787D-E34D-4D72-9C6A-C0B68EB00DB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DDA1-CFA7-4D89-B9F1-E297DB940B1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66EF-CDCD-4C8F-B9A9-40FA9F5805D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5237-473B-4611-B80C-0E6F4DDFE0C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0466-DF4D-4CA6-882B-0372A6AC956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744A-8246-4933-A46C-02F7656F967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B060-AB14-4399-A9BA-2EC10789D53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8527-56CD-4130-80BC-7EA198B4F29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EDEF-853B-421F-9F62-DA150C1B631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1417-9116-4C15-9B2C-04DE17FED8C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663F-C981-43E0-A48A-835D974950F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4984-81B4-4E21-A554-76E8CFF1854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F03-9146-42B2-AA22-2EC981CA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5CC-E046-42B9-B8BE-6BA062D2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A07-01F9-4466-8CCB-6C2F518C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EAB-0264-4737-B7A9-E84545B3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45AE-E78D-4C95-89C4-A1CD8358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B76C-BAAF-433C-98A5-CFA9F27D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1831-4D3A-400A-96D1-9027A125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DAFB-929F-4AE0-A150-89DBD5C1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CAD3-92B5-4E07-B270-96AAFE8B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D93A-0B00-42A9-B131-B75ADD41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69FE-C55E-4903-989B-10B5F0BA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7A3-3A1B-44FE-B6B7-C45D35C5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5184-0285-4974-A302-C654739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BA4A-7BCF-4696-87FD-E57145DA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EF89-FD78-415F-9BB9-7424DB02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81B1-5C12-458E-93F0-C0903A66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B317-2F8B-4222-AB06-3A4631F9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4CD-7FD6-4832-9235-478C22FF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0D1-7EF3-4213-AC9F-03CF82D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207-A6F8-4A3A-A488-5563E2D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AE8-97F7-45D5-B958-368E933C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8ED-114F-42DF-8A0F-1F266559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648-BB5C-48D1-952F-17C97BB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808-1080-4823-A337-6FE554DD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0276-3B85-4A87-B373-6AD989FC5DF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92C9-A239-4DFF-80C1-7BFDD0D5914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Ecology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: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81280" y="43434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 hierarchy of org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i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rface of the eart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osed of many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rge or small as we dec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ackyard, O’Melveney Park, Hedge along Room 110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4" descr="globe2"/>
          <p:cNvPicPr/>
          <p:nvPr/>
        </p:nvPicPr>
        <p:blipFill>
          <a:blip r:embed="rId1"/>
          <a:stretch/>
        </p:blipFill>
        <p:spPr>
          <a:xfrm>
            <a:off x="7086600" y="2286000"/>
            <a:ext cx="120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one species live in one place at on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(diff. species) that live in a particular are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5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4495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abit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physical location of commu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implest level of organiz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4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920" y="4648320"/>
            <a:ext cx="7315200" cy="15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ery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contain 100’s to 1000’s of interacting spec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levels_4"/>
          <p:cNvPicPr/>
          <p:nvPr/>
        </p:nvPicPr>
        <p:blipFill>
          <a:blip r:embed="rId1"/>
          <a:stretch/>
        </p:blipFill>
        <p:spPr>
          <a:xfrm>
            <a:off x="2057400" y="990720"/>
            <a:ext cx="5638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N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69152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cology is an integrated and dynamic study of the 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igin of the word…”ecology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eek orig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IKOS = househo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OS = study of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“house/environment” in which we 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cology is study of interactions betwee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non-living components in the environmen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igh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utrients in so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lar rad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mosphere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D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8" descr="bd05217_"/>
          <p:cNvPicPr/>
          <p:nvPr/>
        </p:nvPicPr>
        <p:blipFill>
          <a:blip r:embed="rId1"/>
          <a:stretch/>
        </p:blipFill>
        <p:spPr>
          <a:xfrm>
            <a:off x="4495680" y="2362320"/>
            <a:ext cx="4496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iving organisms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croorganisms in soil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bd05223_"/>
          <p:cNvPicPr/>
          <p:nvPr/>
        </p:nvPicPr>
        <p:blipFill>
          <a:blip r:embed="rId1"/>
          <a:stretch/>
        </p:blipFill>
        <p:spPr>
          <a:xfrm>
            <a:off x="2895480" y="2971800"/>
            <a:ext cx="624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study Ecology involves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non-living (a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limat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ydr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Oceanogra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hemi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soil analysi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1814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29200" y="1828800"/>
            <a:ext cx="373392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living (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animal behavi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Taxon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mathematics (population studi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views each locale as an integrated whole of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interdependent part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that function as a un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4" descr="btundra"/>
          <p:cNvPicPr/>
          <p:nvPr/>
        </p:nvPicPr>
        <p:blipFill>
          <a:blip r:embed="rId1"/>
          <a:stretch/>
        </p:blipFill>
        <p:spPr>
          <a:xfrm>
            <a:off x="762120" y="2819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ribou"/>
          <p:cNvPicPr/>
          <p:nvPr/>
        </p:nvPicPr>
        <p:blipFill>
          <a:blip r:embed="rId2"/>
          <a:stretch/>
        </p:blipFill>
        <p:spPr>
          <a:xfrm>
            <a:off x="5410080" y="2895480"/>
            <a:ext cx="3429000" cy="25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28600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interdependent parts are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Nonliv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dead organic m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nutrients in the soil and water.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Produc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reen 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524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Consum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erbivores and carniv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Decompos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fungi and bacteri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3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aribou"/>
          <p:cNvPicPr/>
          <p:nvPr/>
        </p:nvPicPr>
        <p:blipFill>
          <a:blip r:embed="rId2"/>
          <a:stretch/>
        </p:blipFill>
        <p:spPr>
          <a:xfrm>
            <a:off x="5334120" y="396252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337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812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31:59Z</dcterms:created>
  <dc:creator>Charlene Hisayasu</dc:creator>
  <dc:description/>
  <dc:language>en-US</dc:language>
  <cp:lastModifiedBy>RK</cp:lastModifiedBy>
  <dcterms:modified xsi:type="dcterms:W3CDTF">2015-12-11T14:27:48Z</dcterms:modified>
  <cp:revision>32</cp:revision>
  <dc:subject/>
  <dc:title>What is Ecology?</dc:title>
</cp:coreProperties>
</file>