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D1E8-BDA4-4D24-9252-41B78FF07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16-p.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……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between a glycoprotein and a glycolipi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glyco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help in the recognition of, and interaction with, other cells. They may also play a part in the recognition of hormones and foreign mole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ole of cholesterol in the cel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 is also present in the membrane. It maintains the fluidity and increases the stability of the membrane. Without cholesterol the membrane would easily split ap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: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, keeping the cell conten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communication with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recognition of other external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mobility in some organisms, e.g. amoe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te of various chemical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Organelles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ganisms do exist as single cells - for example, Amoeb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any organisms are multicellular and consist of from hundreds to billions of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s of the organism are divided up amongst the groups of cells, which become specialised for particular ro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 show division of labour by being grouped into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Tissue?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ite Refer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-cool.co.u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Biology and th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ells and Organel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Gas Ex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membranes have the same basic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cell surface membrane and the membranes surrounding certain organelles have the same basic structure. Much of the membrane is made up of a 'sea' of phospholipids with protein molecules 'floating' in between the phospholip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proteins located within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n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xtrinsic pro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called the fluid mosaic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1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movement of substances, such as glucose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TP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transport substances, such as minerals,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INSIC 2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Channel       VS    (b)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;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bilay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 molecules and so are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 and therefore are not water-solu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phospholipids have both a hydrophilic and a hydrophobic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heads are polar. Are they water-solu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pid tails are non-polar. Are they water-solu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lysacchar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: polymer; monomer; 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773-F6E6-444E-B15B-7F505ADC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15A-63DF-4A86-A274-09C574AB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250-0CB7-4B18-ABDF-E31AA6E2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405-7376-47BE-890C-740B4756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0647-E023-4848-A14C-F90F7318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32A7-7B9F-4C99-88A5-3CBC02D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8B72-32F4-42F8-A04F-67053FBC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0B45-EC59-409D-99FA-59771320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055C-064A-4121-A548-9DC405E0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781-1024-484B-900F-398AE773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03D7-E869-4244-AF38-CF27654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97A-B93C-4A47-91BF-EC70593C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B56E-A6D5-44E3-B266-87E2C40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0DD7-D6DE-474B-A8EA-A64979B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F689-054B-474A-A8F1-D105EBCC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9131-A5FA-4D50-9CA2-290F740F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B824-C239-4D9A-AA7A-6CE721C5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4AE-3E46-4105-962C-092328E2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3B8-FB96-4F8B-AF97-C2DE789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4C8-C86C-4358-8C09-C5B2EDD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0A6-C6B9-4F73-8A5B-BA6462CB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6A3-506B-471A-9617-93577D9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09B-52F8-4F16-BE37-6AF8E3C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465-6119-43A8-B667-45E88F1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523E-3399-4EC4-BE90-7E4E01A0DA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0D5-02E5-471E-89F3-33402910F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-cool.co.uk/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images.google.co.uk/imgres?imgurl=http://www.ncbi.nlm.nih.gov/bookshelf/picrender.fcgi%3Fbook%3Dglyco2%26part%3Dch20%26blobname%3Dch20f1.jpg&amp;imgrefurl=http://www.ncbi.nlm.nih.gov/bookshelf/br.fcgi%3Fbook%3Dglyco2%26part%3Dch20&amp;usg=__XGfnPg3KHTnKiV3Od8EsVPFE0f8=&amp;h=718&amp;w=784&amp;sz=234&amp;hl=en&amp;start=2&amp;um=1&amp;tbnid=5y1k_ydNYGbF-M:&amp;tbnh=131&amp;tbnw=143&amp;prev=/images%3Fq%3Dpolysaccharide%2Bcell%2Bmembrane%26hl%3D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The Cell Membra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ok Reference: p.16-p.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Image127"/>
          <p:cNvPicPr/>
          <p:nvPr/>
        </p:nvPicPr>
        <p:blipFill>
          <a:blip r:embed="rId1"/>
          <a:stretch/>
        </p:blipFill>
        <p:spPr>
          <a:xfrm>
            <a:off x="324000" y="0"/>
            <a:ext cx="7210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lyco……wha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37782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is the difference between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ycoprotei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glycolipi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glycoprotein"/>
          <p:cNvPicPr/>
          <p:nvPr/>
        </p:nvPicPr>
        <p:blipFill>
          <a:blip r:embed="rId1"/>
          <a:stretch/>
        </p:blipFill>
        <p:spPr>
          <a:xfrm>
            <a:off x="5148360" y="1989000"/>
            <a:ext cx="3371760" cy="393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556cerebroside"/>
          <p:cNvPicPr/>
          <p:nvPr/>
        </p:nvPicPr>
        <p:blipFill>
          <a:blip r:embed="rId2"/>
          <a:stretch/>
        </p:blipFill>
        <p:spPr>
          <a:xfrm>
            <a:off x="0" y="2924280"/>
            <a:ext cx="4319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role of glycoprotei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may help in the recognition of, and interaction with, other cells.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y may also play a part in the recognition of hormones and foreign molecules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cellreceptors"/>
          <p:cNvPicPr/>
          <p:nvPr/>
        </p:nvPicPr>
        <p:blipFill>
          <a:blip r:embed="rId1"/>
          <a:stretch/>
        </p:blipFill>
        <p:spPr>
          <a:xfrm>
            <a:off x="4029120" y="2060640"/>
            <a:ext cx="51148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is the role of cholesterol in the cell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olesterol is also present in the membrane. I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intains the fluidity and increases the stability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the membrane.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olesterol the membrane would easil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plit apa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8" descr="cholesterol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ell membrane: Func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lectively permeable barri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ructural, keeping the cell content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Allows communication with other ce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llows recognition of other external substa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llows mobility in some organisms, e.g. amoeb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200"/>
                </a:solidFill>
                <a:latin typeface="Comic Sans MS"/>
              </a:rPr>
              <a:t>The site of various chemical re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ells and Organelles;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organisms do exist as single cells - for example, Amoeb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t many organisms are multicellular and consist of from hundreds to billions of cell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functions of the organism are divided up amongst the groups of cells, which become specialised for particular ro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ecialised cells show division of labour by being grouped into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tissu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amoeba"/>
          <p:cNvPicPr/>
          <p:nvPr/>
        </p:nvPicPr>
        <p:blipFill>
          <a:blip r:embed="rId1"/>
          <a:stretch/>
        </p:blipFill>
        <p:spPr>
          <a:xfrm>
            <a:off x="5867280" y="620640"/>
            <a:ext cx="2163960" cy="165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perine-fig1"/>
          <p:cNvPicPr/>
          <p:nvPr/>
        </p:nvPicPr>
        <p:blipFill>
          <a:blip r:embed="rId2"/>
          <a:stretch/>
        </p:blipFill>
        <p:spPr>
          <a:xfrm>
            <a:off x="4716360" y="2349360"/>
            <a:ext cx="2689200" cy="187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liver"/>
          <p:cNvPicPr/>
          <p:nvPr/>
        </p:nvPicPr>
        <p:blipFill>
          <a:blip r:embed="rId3"/>
          <a:stretch/>
        </p:blipFill>
        <p:spPr>
          <a:xfrm>
            <a:off x="5435640" y="4508640"/>
            <a:ext cx="29462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Tissue?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360" y="213372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ssue is defined as a collection of cells, together with any extracellular secretion, that is specialised to perform one or more particular function. Tissues may contain only one type of cell, or several typ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8" descr="Arm_4_Finished"/>
          <p:cNvPicPr/>
          <p:nvPr/>
        </p:nvPicPr>
        <p:blipFill>
          <a:blip r:embed="rId1"/>
          <a:stretch/>
        </p:blipFill>
        <p:spPr>
          <a:xfrm>
            <a:off x="0" y="981000"/>
            <a:ext cx="428616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bsite Reference: </a:t>
            </a:r>
            <a:br>
              <a:rPr sz="4400"/>
            </a:br>
            <a:r>
              <a:rPr b="0" lang="en-GB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-cool.co.uk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 to Biology and then: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1.Cells and Organelles 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.Gas Exchang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3.Trans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8" descr="SCoolIcon"/>
          <p:cNvPicPr/>
          <p:nvPr/>
        </p:nvPicPr>
        <p:blipFill>
          <a:blip r:embed="rId2"/>
          <a:stretch/>
        </p:blipFill>
        <p:spPr>
          <a:xfrm>
            <a:off x="324000" y="2349360"/>
            <a:ext cx="1428480" cy="112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SCoolIcon"/>
          <p:cNvPicPr/>
          <p:nvPr/>
        </p:nvPicPr>
        <p:blipFill>
          <a:blip r:embed="rId3"/>
          <a:stretch/>
        </p:blipFill>
        <p:spPr>
          <a:xfrm>
            <a:off x="155520" y="4608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SCoolIcon"/>
          <p:cNvPicPr/>
          <p:nvPr/>
        </p:nvPicPr>
        <p:blipFill>
          <a:blip r:embed="rId4"/>
          <a:stretch/>
        </p:blipFill>
        <p:spPr>
          <a:xfrm>
            <a:off x="6804000" y="472428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o all membranes have the same basic structu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3778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oth the cell surface membrane and the membranes surrounding certain organelles have the same basic structur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uch of the membrane is made up of a 'sea' of phospholipids with protein molecules 'floating' in between the phospholipids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Image31"/>
          <p:cNvPicPr/>
          <p:nvPr/>
        </p:nvPicPr>
        <p:blipFill>
          <a:blip r:embed="rId1"/>
          <a:stretch/>
        </p:blipFill>
        <p:spPr>
          <a:xfrm>
            <a:off x="4572000" y="2492280"/>
            <a:ext cx="38386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re are proteins located within the membran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hat is an in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at is an extrinsic prote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 is it called th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luid mosaic mod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5" descr="CellMembrane"/>
          <p:cNvPicPr/>
          <p:nvPr/>
        </p:nvPicPr>
        <p:blipFill>
          <a:blip r:embed="rId1"/>
          <a:stretch/>
        </p:blipFill>
        <p:spPr>
          <a:xfrm>
            <a:off x="2843280" y="4653000"/>
            <a:ext cx="60958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1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annel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362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ow movement of substances, such as glucose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ATP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0" descr="Image133"/>
          <p:cNvPicPr/>
          <p:nvPr/>
        </p:nvPicPr>
        <p:blipFill>
          <a:blip r:embed="rId1"/>
          <a:stretch/>
        </p:blipFill>
        <p:spPr>
          <a:xfrm>
            <a:off x="3995640" y="2637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tively transport substances, such as minerals, across the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P is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INSIC 2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h05summary"/>
          <p:cNvPicPr/>
          <p:nvPr/>
        </p:nvPicPr>
        <p:blipFill>
          <a:blip r:embed="rId1"/>
          <a:stretch/>
        </p:blipFill>
        <p:spPr>
          <a:xfrm>
            <a:off x="4859280" y="2133720"/>
            <a:ext cx="34578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Image132"/>
          <p:cNvPicPr/>
          <p:nvPr/>
        </p:nvPicPr>
        <p:blipFill>
          <a:blip r:embed="rId1"/>
          <a:stretch/>
        </p:blipFill>
        <p:spPr>
          <a:xfrm>
            <a:off x="762120" y="1947960"/>
            <a:ext cx="7619760" cy="2962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0" y="260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(a) Channel       VS    (b) Carri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otei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ilayer; Phospholipi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200"/>
                </a:solidFill>
                <a:latin typeface="Comic Sans MS"/>
              </a:rPr>
              <a:t>What is the bilay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hosphate head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so are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lipid tail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n-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therefore are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ot water-sol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8" descr="lipidbilayer"/>
          <p:cNvPicPr/>
          <p:nvPr/>
        </p:nvPicPr>
        <p:blipFill>
          <a:blip r:embed="rId1"/>
          <a:stretch/>
        </p:blipFill>
        <p:spPr>
          <a:xfrm>
            <a:off x="4716360" y="2637000"/>
            <a:ext cx="28576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 do phospholipids have both a hydrophilic and a hydrophobic par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hosphate hea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ol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Are the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ater-solubl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pid tail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n-polar.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they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water-solu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8" descr="phospholipid"/>
          <p:cNvPicPr/>
          <p:nvPr/>
        </p:nvPicPr>
        <p:blipFill>
          <a:blip r:embed="rId1"/>
          <a:stretch/>
        </p:blipFill>
        <p:spPr>
          <a:xfrm>
            <a:off x="4500720" y="148428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a polysaccharid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273528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u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polymer; monomer; carbohyd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8" descr="polysaccharide_1_c_la_784"/>
          <p:cNvPicPr/>
          <p:nvPr/>
        </p:nvPicPr>
        <p:blipFill>
          <a:blip r:embed="rId1"/>
          <a:stretch/>
        </p:blipFill>
        <p:spPr>
          <a:xfrm>
            <a:off x="179280" y="1341360"/>
            <a:ext cx="3114720" cy="2752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glucose"/>
          <p:cNvPicPr/>
          <p:nvPr/>
        </p:nvPicPr>
        <p:blipFill>
          <a:blip r:embed="rId2"/>
          <a:stretch/>
        </p:blipFill>
        <p:spPr>
          <a:xfrm>
            <a:off x="5796000" y="1773360"/>
            <a:ext cx="2676600" cy="28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icrend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33720"/>
            <a:ext cx="2881080" cy="239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52:04Z</dcterms:created>
  <dc:creator>User</dc:creator>
  <dc:description/>
  <dc:language>en-US</dc:language>
  <cp:lastModifiedBy>RomaK</cp:lastModifiedBy>
  <dcterms:modified xsi:type="dcterms:W3CDTF">2015-09-04T10:54:38Z</dcterms:modified>
  <cp:revision>18</cp:revision>
  <dc:subject/>
  <dc:title>Cells and Organelles The Cell Membrane  </dc:title>
</cp:coreProperties>
</file>