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79B4-3919-4E3F-9EFF-16087F5FB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 PRESENTATION  REPORT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PATHOLOG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ITY OF  RAJASTHAN, JAIP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MITTED TO 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.Sc. Final yr. (2010-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-      SUBMITTED BY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uman lal kumaw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.Sc. Biotech.(int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 PRESENTATION  REPORT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PATHOLOG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ITY OF  RAJASTHAN, JAIP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MITTED TO 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.Sc. Final yr. (2010-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-      SUBMITTED BY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uman lal kumaw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.Sc. Biotech.(int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Abnormal Results Mean patient have a blood dis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Abnormal Results Mean patient have a blood dis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For Sincerely Paying Attention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For Sincerely Paying Attention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Hospital 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ospital Lab is a place where blood and other biological fluid is collected, tested and Resulted for pathology and dise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Hospital 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ospital Lab is a place where blood and other biological fluid is collected, tested and Resulted for pathology and dise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test is a lab analysis performed on a blood  sample that is usually extracted from a vein in the arm using a needle, or via fingerpri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test is a lab analysis performed on a blood  sample that is usually extracted from a vein in the arm using a needle, or via fingerpri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blood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chemical 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ar 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blood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chemical 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ar 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nalysis blood compositions for prevention of  blood die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nalysis blood compositions for prevention of  blood die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of blood sample coll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sample collection performed using a vacati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is drawn from a vein (venipuncture), usually from the inside of the elbow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ck of the 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of blood sample coll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sample collection performed using a vacati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is drawn from a vein (venipuncture), usually from the inside of the elbow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ck of the 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ing Tes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blood cou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 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test -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al T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um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ing Tes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blood cou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 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test -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al T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um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blood count:-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BCs: 4,500–11,000 per microliter, RBCs: 4.2–5.0 million per microliter, Hemoglobin: 12–15 g/dL Hematocrit: 35–47% , Platelets: 150,000 per microli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bes not obser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 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,000 to 400,000 platelets per microli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test –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and 125 mg/d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blood count:-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BCs: 4,500–11,000 per microliter, RBCs: 4.2–5.0 million per microliter, Hemoglobin: 12–15 g/dL Hematocrit: 35–47% , Platelets: 150,000 per microli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bes not obser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 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,000 to 400,000 platelets per microli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test –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and 125 mg/d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for Normal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al T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M ratio 1: 160  IgG ratio 1:4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s not fa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um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pres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for Normal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al T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M ratio 1: 160  IgG ratio 1:4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s not fa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um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pres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0D81-016F-449A-8337-3F4D6409B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60CD-9E26-412D-B563-9E3667DD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F2B1-EFCE-4E21-967D-B8BC1FF72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B7DC-3DC5-4B9C-854C-5B0B607B6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E8E8-1A47-45E1-9AE9-DFF770DFE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515A5-FF6C-44F2-B1D7-195BA575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E5EF-0D77-4500-988A-545A19C9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E09A-BD9B-4113-B6F6-E78F8D3D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EFCA-7C9C-4CBA-B8FD-2B8B068E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B0161-C876-45CB-894C-E3EC2DCA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75A3-55B6-4AD8-90E9-BF4001E6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1017-2F59-44C1-9490-0227DA9F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D9B4-D4F1-41AC-9F36-7E1818EE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75F6-9A07-41A8-A629-3E15F9AC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1D86-207B-4128-9473-44EB4C5B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E8349-0092-4F67-A288-92D9281CE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4897-B806-4761-8668-72BD81D91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B3217-2B1A-4DD9-89A2-1E282B955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37B4C-E4C6-4FF3-A0FB-DCEEA491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F34D4-9777-4811-A7E8-83E7E9AF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4E176-E034-4340-9520-CB69A823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93B69-B107-423F-BE4D-6A73AE88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7F2F-6FD1-45B6-94D5-E05140A5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8C2D6-B2A2-4A2A-AA85-BB9415BA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EFE7B-CCF1-41B4-B556-03153162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36C58-5285-43A3-AE21-137C9790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32356-B333-4C90-9045-D6553784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DDA84-E496-4870-898F-48775D9E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36535-7D9C-43C8-BD3B-B0F109AEA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978B0-4512-4AC6-8E0F-0A505D50A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36856-B983-4E07-BDB9-C260DE1A2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CB8AB-8ACC-4B87-86BE-645C8AAF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3CE93-672A-4BAD-9355-2F89248E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C0D3-29DA-4C1F-916A-DF68F0E3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5AA1E-57EF-4094-BD1B-7CA8535E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C2C07-9E6C-4496-8A8E-AF272F30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044FF-49DD-4D7D-8626-2BA0E327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377B5-61B4-4955-8F8C-4E9602A6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B6B76-37EB-4510-88A3-F97A73D0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FA604-E31E-489F-9ECC-C29C17FB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27B78-DAF7-449F-B76E-B98CB797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A85AB-D17C-4FE9-A6BF-851B75AB1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2ECEF-5139-4CD0-B2CB-F36E6EBAB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742A-FD90-4119-AEB3-0E2AF6ED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62A2-6BE4-4E5A-9767-4F5CF474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E4DE-1942-4D56-BF4A-50287EE3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E5FC-649B-4950-A661-70CE4287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2BE3-3281-44FE-8260-41375A58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E438-3F73-437E-A258-370C396E208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39B9-5700-4006-8718-560283D29C1C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521E-091B-4CDF-BF90-E3E41EEE3FCC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99D0-CEE1-4AC3-BD58-C9E0FCB52991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5"/>
          <p:cNvSpPr/>
          <p:nvPr/>
        </p:nvSpPr>
        <p:spPr>
          <a:xfrm>
            <a:off x="1975680" y="0"/>
            <a:ext cx="4935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 PRESENTATION  REPORT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LOOD PATHOLOGY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8"/>
          <p:cNvSpPr/>
          <p:nvPr/>
        </p:nvSpPr>
        <p:spPr>
          <a:xfrm>
            <a:off x="1401840" y="26668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VERSITY OF  RAJASTHAN, JAIP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9"/>
          <p:cNvSpPr/>
          <p:nvPr/>
        </p:nvSpPr>
        <p:spPr>
          <a:xfrm>
            <a:off x="1600200" y="31240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C:\Documents and Settings\BABALU\My Documents\logo2.gif"/>
          <p:cNvPicPr/>
          <p:nvPr/>
        </p:nvPicPr>
        <p:blipFill>
          <a:blip r:embed="rId1"/>
          <a:stretch/>
        </p:blipFill>
        <p:spPr>
          <a:xfrm>
            <a:off x="3352680" y="685800"/>
            <a:ext cx="2057400" cy="167652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6"/>
          <p:cNvSpPr/>
          <p:nvPr/>
        </p:nvSpPr>
        <p:spPr>
          <a:xfrm>
            <a:off x="3282480" y="23623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MITTED TO :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0"/>
          <p:cNvSpPr/>
          <p:nvPr/>
        </p:nvSpPr>
        <p:spPr>
          <a:xfrm>
            <a:off x="2973600" y="3124080"/>
            <a:ext cx="274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.Sc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yr. (2010-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2"/>
          <p:cNvSpPr/>
          <p:nvPr/>
        </p:nvSpPr>
        <p:spPr>
          <a:xfrm>
            <a:off x="2892240" y="4648320"/>
            <a:ext cx="27928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-      SUBMITTED BY: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hanuman lal kumaw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.Sc. Biotech.(i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nal 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7"/>
          <p:cNvSpPr/>
          <p:nvPr/>
        </p:nvSpPr>
        <p:spPr>
          <a:xfrm>
            <a:off x="2962080" y="3657600"/>
            <a:ext cx="28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660066"/>
                </a:solidFill>
                <a:uFillTx/>
                <a:latin typeface="Calibri"/>
                <a:ea typeface="Times New Roman"/>
              </a:rPr>
              <a:t>CONCLUS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Any Abnormal Results Mean patient have a blood disorder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sdwddd"/>
          <p:cNvPicPr/>
          <p:nvPr/>
        </p:nvPicPr>
        <p:blipFill>
          <a:blip r:embed="rId1"/>
          <a:stretch/>
        </p:blipFill>
        <p:spPr>
          <a:xfrm>
            <a:off x="0" y="0"/>
            <a:ext cx="9144000" cy="449568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3"/>
          <p:cNvSpPr/>
          <p:nvPr/>
        </p:nvSpPr>
        <p:spPr>
          <a:xfrm>
            <a:off x="1295280" y="502920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Hobo Std"/>
                <a:ea typeface="Arial"/>
              </a:rPr>
              <a:t>Thank You For Sincerely Paying Attention…</a:t>
            </a:r>
            <a:r>
              <a:rPr b="0" lang="en-US" sz="2400" spc="-1" strike="noStrike">
                <a:solidFill>
                  <a:srgbClr val="ffffff"/>
                </a:solidFill>
                <a:latin typeface="Hobo Std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660066"/>
                </a:solidFill>
                <a:uFillTx/>
                <a:latin typeface="Calibri"/>
              </a:rPr>
              <a:t>About Hospital Lab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213372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nstantia"/>
                <a:ea typeface="Times New Roman"/>
              </a:rPr>
              <a:t>A Hospital Lab is a place where blood and other biological fluid is collected, tested and Resulted for pathology and disese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660066"/>
                </a:solidFill>
                <a:uFillTx/>
                <a:latin typeface="Calibri"/>
              </a:rPr>
              <a:t>INTRODU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A 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blood test</a:t>
            </a: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 is a lab analysis performed on a blood  sample that is usually extracted from a vein in the arm using a needle, or via fingerprick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Types of blood tes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Biochemical  analysi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Molecular  analysi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Cellular  analysi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OBJECTIV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To analysis blood compositions for prevention of  blood dieses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 u="sng">
                <a:solidFill>
                  <a:srgbClr val="ff0000"/>
                </a:solidFill>
                <a:uFillTx/>
                <a:latin typeface="Calibri"/>
              </a:rPr>
              <a:t>Process of blood sample collection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0" y="20574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Blood sample collection performed using a vacation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Constantia"/>
              </a:rPr>
              <a:t>   </a:t>
            </a:r>
            <a:r>
              <a:rPr b="1" i="1" lang="en-US" sz="2600" spc="-1" strike="noStrike">
                <a:solidFill>
                  <a:srgbClr val="ff0000"/>
                </a:solidFill>
                <a:latin typeface="Constantia"/>
              </a:rPr>
              <a:t>Blood is drawn from a vein (venipuncture), usually from the inside of the elbow o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Constantia"/>
              </a:rPr>
              <a:t>the back of the han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6172200" y="1600200"/>
            <a:ext cx="2101680" cy="15699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"/>
          <p:cNvPicPr/>
          <p:nvPr/>
        </p:nvPicPr>
        <p:blipFill>
          <a:blip r:embed="rId2"/>
          <a:stretch/>
        </p:blipFill>
        <p:spPr>
          <a:xfrm>
            <a:off x="6324480" y="3276720"/>
            <a:ext cx="2819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0000"/>
                </a:solidFill>
                <a:uFillTx/>
                <a:latin typeface="Calibri"/>
              </a:rPr>
              <a:t>Involving Tests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6840" y="1828440"/>
            <a:ext cx="4876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Complete blood coun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Blood cult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Blood fil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Platelet cou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Glucose test - bloo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Widal Tes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ELIS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Ammonium 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5791320" y="2971800"/>
            <a:ext cx="3047760" cy="16002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5791320" y="4572000"/>
            <a:ext cx="3047760" cy="20318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widal-test-300x225"/>
          <p:cNvPicPr/>
          <p:nvPr/>
        </p:nvPicPr>
        <p:blipFill>
          <a:blip r:embed="rId3"/>
          <a:stretch/>
        </p:blipFill>
        <p:spPr>
          <a:xfrm>
            <a:off x="5791320" y="1143000"/>
            <a:ext cx="262404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RESULTS of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4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Complete blood count:-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WBCs: 4,500–11,000 per microliter, RBCs: 4.2–5.0 million per microliter, Hemoglobin: 12–15 g/dL Hematocrit: 35–47% , Platelets: 150,000 per microli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Blood cult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Microbes not observed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Platelet cou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150,000 to 400,000 platelets per microlite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Glucose test – bloo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100 and 125 mg/d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RESULTS for Normal Bloo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Widal Tes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IgM ratio 1: 160  IgG ratio 1:40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ELIS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Antigens not faun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Ammonium 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   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Not presen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1T10:13:04Z</dcterms:created>
  <dc:creator>user</dc:creator>
  <dc:description/>
  <dc:language>en-US</dc:language>
  <cp:lastModifiedBy>RomaK</cp:lastModifiedBy>
  <dcterms:modified xsi:type="dcterms:W3CDTF">2015-09-04T10:54:25Z</dcterms:modified>
  <cp:revision>77</cp:revision>
  <dc:subject/>
  <dc:title>URINARY TRACT INFECTION</dc:title>
</cp:coreProperties>
</file>