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CEE1-FBA3-4263-9FEC-26B087AB57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7BF-AFA5-45D7-A057-7B133CB9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9AD-AD09-44E4-80FB-ACEEF50E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2FF-B18F-4294-BDAC-DD1B07EB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CD9-67EF-4036-83C8-69859F67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4B9-5D05-4FE1-9B67-49911D2A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DD82-AAC6-4C65-B976-9C359621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5B7-2923-4F62-AB7F-4707CDD4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4FB-AFA2-4080-A94C-05494441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394-13C3-4C0D-B3E8-2FD2B562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B0D-5DF4-47DF-9F57-700C13D7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B34C-1439-4C48-BA3C-8D95BE82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73F-2C6A-4922-81D6-CCCECFA0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A346-5E4D-459B-B457-D80E6820F1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ventually cover entire surface of substratum (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fluenc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ed b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eolytic enzy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ryps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mortali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el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 lines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o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50920" y="189000"/>
          <a:ext cx="8893080" cy="6480000"/>
        </p:xfrm>
        <a:graphic>
          <a:graphicData uri="http://schemas.openxmlformats.org/drawingml/2006/table">
            <a:tbl>
              <a:tblPr/>
              <a:tblGrid>
                <a:gridCol w="1368360"/>
                <a:gridCol w="1512720"/>
                <a:gridCol w="1727280"/>
                <a:gridCol w="2089080"/>
                <a:gridCol w="219564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morph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th in susp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K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r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v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cin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46178891_150"/>
          <p:cNvPicPr/>
          <p:nvPr/>
        </p:nvPicPr>
        <p:blipFill>
          <a:blip r:embed="rId1"/>
          <a:stretch/>
        </p:blipFill>
        <p:spPr>
          <a:xfrm>
            <a:off x="6300720" y="177336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ferment"/>
          <p:cNvPicPr/>
          <p:nvPr/>
        </p:nvPicPr>
        <p:blipFill>
          <a:blip r:embed="rId2"/>
          <a:stretch/>
        </p:blipFill>
        <p:spPr>
          <a:xfrm>
            <a:off x="6012000" y="4686480"/>
            <a:ext cx="2901960" cy="2171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7.5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8:41:38Z</dcterms:created>
  <dc:creator>CEC</dc:creator>
  <dc:description/>
  <dc:language>en-US</dc:language>
  <cp:lastModifiedBy>LEGION2</cp:lastModifiedBy>
  <dcterms:modified xsi:type="dcterms:W3CDTF">2016-01-11T12:23:16Z</dcterms:modified>
  <cp:revision>8</cp:revision>
  <dc:subject/>
  <dc:title>Cell And Tissue Culture</dc:title>
</cp:coreProperties>
</file>