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428F-6F32-4FA3-9699-35362DFAB7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ELL STRUCTURE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ART O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OXANNE FERGUS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RAVES COUNTY HIGH SCHO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TRUCTUR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XANNE FERGU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ES COUNTY HIGH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GOLGI BOD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ECRE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LGI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igure 7.12  The Golgi apparat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12  The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LYSOSO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SUICIDE SA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ICIDE 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3  Lys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3  Lys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LASMA MEMBRA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ROTEIN POR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6  The plasma membra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6  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OL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igure 7.9  The nucleus and its envelope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9  The nucleus and its envelop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IB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R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ATTACH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0  Rib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0 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OUG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MOO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1  Endoplasmic reticulum (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1  Endoplasmic reticulum (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3EA-0D4D-4866-8B79-CDA08FB8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5BD-9025-4E1B-98E9-C9822669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B7D-3A68-454A-8D10-C504A6AB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067E-CD68-4256-A5ED-4DBA6DF3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589A-C257-4486-874B-E95F2C50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05D2-E7D3-4A72-95D8-BC7AEC0C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7631-6477-42EA-8F5F-968D150F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28BC-806B-4D87-9731-8793403B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46EA-8D39-4D56-9C22-65E259DA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46D9-F46D-4E3B-ACE0-FC675C8F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6DCF-F410-4FE2-A0B2-D3ED7330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D48C-5910-4EBE-980C-71E207E7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B8EE-969C-4ABB-A60D-6E1D2659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1D37-BC4C-4642-A0FA-36494D4F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A857-AE3C-43E1-B63E-808053B9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72E8-867D-437D-980A-3A848356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7C1E-0168-4691-8C07-17A2C800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029-6333-4BD9-8DDE-8D2C1670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3B6-0550-4FB2-9492-930EF7F4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65B-1F97-4DCC-859B-7314C901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6AD-7CCE-42D5-A09D-A08F2E41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BF4-0FCF-44F2-A7CF-D4FC1801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F02-F608-4C87-91A5-4B0A2942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AEA-6A8A-46A8-97AD-AF430896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5125-017E-44FC-B549-3364D8431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7013-0DE5-4268-B92F-2F682E1F69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ELL STRUCTURE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T O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XANNE FERGU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I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AVES COUNTY HIGH SCHO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OLGI BOD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CK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RE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2  The Golgi apparatu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8978760" cy="5578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YSOSO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ESTIVE ENZY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ICIDE SA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3  Lysosome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57240" y="1600200"/>
            <a:ext cx="9010440" cy="3751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ASMA MEMBRA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PID BILAY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TEIN PO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6  The plasma membrane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5072" t="0" r="0" b="0"/>
          <a:stretch/>
        </p:blipFill>
        <p:spPr>
          <a:xfrm>
            <a:off x="291960" y="838080"/>
            <a:ext cx="8560080" cy="5405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UCLE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AR ENVELOP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O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ROMOSO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9  The nucleus and its envelope 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514512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IBOSOM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TACH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0  Ribosome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8920" y="1676520"/>
            <a:ext cx="8978760" cy="370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NDOPLASMIC RETICU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UG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1  Endoplasmic reticulum (ER)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716200" y="380880"/>
            <a:ext cx="3710160" cy="6324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14:13:54Z</dcterms:created>
  <dc:creator>jrjferguson</dc:creator>
  <dc:description/>
  <dc:language>en-US</dc:language>
  <cp:lastModifiedBy>RomaK</cp:lastModifiedBy>
  <dcterms:modified xsi:type="dcterms:W3CDTF">2015-09-04T10:55:55Z</dcterms:modified>
  <cp:revision>8</cp:revision>
  <dc:subject/>
  <dc:title>CELL STRUCTURES</dc:title>
</cp:coreProperties>
</file>