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A193-0087-4197-9588-F2BD561599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564-CB7A-4D5A-B5E1-2A2338EC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514-1DD9-4F07-A33B-9560F93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6E1-5233-4169-906B-A71BA941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A11-C89F-42D2-8417-2EA6237E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1484-DA39-4C31-9CED-74F3DC2F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F444-03B4-4109-A0CD-51BFA3CA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A205-1067-4186-BB25-1E684C26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C2C6-A292-43B5-AA4D-F158E4A9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0644-C64B-4967-A9A9-249EF082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A150-407F-436B-8FBB-40C9F736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19AD-5B56-4DC2-A6D3-CFC654DF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03C-28AB-436E-A70A-9C59EA83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091B-0E68-48AD-9CE0-7F8AAC2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8241-77E6-4445-BD47-5E1B3DB8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CB31-3CC0-4DD0-AF68-7364714F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6D84-E45D-44A3-B0F3-2AC10AFE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46AA-7C15-4AFB-B0CB-02D0D559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2A5-5BB6-47D9-94BE-168B4F13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048-A09A-47B8-A813-488692C9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847-3009-475C-AF9A-AA2AB51D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1D7-0F4C-4D39-B9D1-F8F43724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7F5-9E84-492B-A347-206FEB3F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188-0030-41DF-88CE-377F484F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9FF-923E-4E15-A493-C854FAC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D5FE-21E2-4E62-9D5F-A8B509722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85B0-7843-4AE4-A5B7-A627CFB266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ELL STRUCTUR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O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XANNE FERGU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ES COUNTY HIGH SCHO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LGI BOD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K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YSOS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ENZY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S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3  Lys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7240" y="1600200"/>
            <a:ext cx="9010440" cy="375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MEMBRA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PID BILAY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IN P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6  The plasma membrane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5072" t="0" r="0" b="0"/>
          <a:stretch/>
        </p:blipFill>
        <p:spPr>
          <a:xfrm>
            <a:off x="291960" y="838080"/>
            <a:ext cx="856008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UCLE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AR ENVEL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MOSO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9  The nucleus and its envelope 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451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BOS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ACH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DOPLASMIC RETICU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U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4:13:54Z</dcterms:created>
  <dc:creator>jrjferguson</dc:creator>
  <dc:description/>
  <dc:language>en-US</dc:language>
  <cp:lastModifiedBy>RomaK</cp:lastModifiedBy>
  <dcterms:modified xsi:type="dcterms:W3CDTF">2015-09-04T10:55:55Z</dcterms:modified>
  <cp:revision>8</cp:revision>
  <dc:subject/>
  <dc:title>CELL STRUCTURES</dc:title>
</cp:coreProperties>
</file>