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4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3699-1EAE-4139-8804-5FC1D44A24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66"/>
                </a:solidFill>
                <a:latin typeface="Arial"/>
              </a:rPr>
              <a:t>Chapter 2 “Cells”</a:t>
            </a:r>
            <a:br>
              <a:rPr sz="1200"/>
            </a:br>
            <a:r>
              <a:rPr b="0" lang="fr-FR" sz="1200" spc="-1" strike="noStrike">
                <a:solidFill>
                  <a:srgbClr val="003366"/>
                </a:solidFill>
                <a:latin typeface="Arial"/>
              </a:rPr>
              <a:t>Section 1: “Cell Structure Pages 38 – 40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66"/>
                </a:solidFill>
                <a:latin typeface="Arial"/>
              </a:rPr>
              <a:t>LESSON 1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hapter 2 “Cells”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ection 1: “Cell Structure Pages 38 –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CLEU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Directs all cell activities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tains instructions for everything the cell do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se instructions are found on a hereditary material called DNA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Usually the largest organell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s all cell activitie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instructions for everything the cell d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instructions are found on a hereditary material called DN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the largest organel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CLEAR MEMBRAN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eparates nucleus from cytoplasm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trols movement of materials in &amp; out of nucleu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parates nucleus from cytopla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s movement of materials in &amp; out of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NUCLEOLU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ka “little nucleus”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ound in the nucleu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L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“little nucleus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nd in the nucle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HROMATIN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tains genetic code that controls cel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ade of DNA &amp; proteins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ins genetic code that controls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of DNA &amp; prote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MMON CELL TRAI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 cell is the smallest unit that is capable of performing life functions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CELL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ell is the smallest unit that is capable of performing life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MPARING CELL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The size &amp; shape of a cell relates to its function. (job it does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ARING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ze &amp; shape of a cell relates to its function. (job it do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Prokaryotic Cells</a:t>
            </a:r>
            <a:br>
              <a:rPr sz="1200"/>
            </a:b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(proh KAYR ee yah tihk)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cells without membrane-bound structur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EX:  bacteria  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pond scu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karyotic Cell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proh KAYR ee yah tih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s without membrane-bound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 bacteria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nd sc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Eukaryotic Cells</a:t>
            </a:r>
            <a:br>
              <a:rPr sz="1200"/>
            </a:b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(yew KAYR ee yah tihk)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cells with membrane-bound structure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66"/>
                </a:solidFill>
                <a:latin typeface="Arial"/>
              </a:rPr>
              <a:t>EX: animals, plants, fungi and protist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ukaryotic Cell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yew KAYR ee yah tihk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ells with membrane-bound struc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: animals, plants, fungi and pro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protects the cel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gives sha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is made of cellulos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 cell wall is found in plants, algae, fungi, &amp; most bacteria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cts th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made of cellul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ell wall is found in plants, algae, fungi, &amp; most bacter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ELL MEMBRANE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Outer covering,  protective layer around ALL cell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For cells with cell walls,the cell membrane is inside the cell wal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llows food, oxygen, &amp; water into the cell &amp; waste products out of the cell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MEMBRA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er covering,  protective layer around AL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cells with cell walls,the cell membrane is inside the cell w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s food, oxygen, &amp; water into the cell &amp; waste products out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YTOPLASM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gelatin-like inside cell membran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onstantly flow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aka protoplasm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PLA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latin-like inside cell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ly fl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ka protoplas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CYTOSKELETON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scaffolding-like structure in cytoplasm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helps the cell maintain or change its shap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made of protein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SKELET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ffolding-like structure in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the cell maintain or change its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of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F514-0751-4EFC-92FC-F441501D6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DFC7-26A1-48E1-B8CD-53DCF71B7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26DC-DEF9-48FB-88C2-EC402ED54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3392-E515-4919-8B33-94330ED6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66D99-99B3-4E7C-90C8-D35C433BE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D2BF-C494-4445-8495-734C58B5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C2EB-FDEE-4804-98DA-78FC72F79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4F5EB-AD82-4701-8147-150575E6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46AA-CCC7-4855-9B93-573D8C1F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4ECB-BE75-4AF0-AE56-F4DFAC5C9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754A-E4BB-41BD-A5F1-8CEFC90C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047D-52B4-4D80-A866-547E2F237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95A3-E5B3-4D1D-AE0D-3825D10C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56B56-160A-44CB-B7D5-0D64EE27F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C7A5-71B1-421F-BAB4-39444E07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21D8-897D-4A82-BC2E-5CD2A66F1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F1FF-F582-4F1C-87DE-5BD0D614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B4A4-E77F-4770-BDEA-D40CF0335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F4E6-AE40-4A88-AC40-D9C44063F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B98C-82CF-40D9-B44E-DA92E503A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93AB-C276-4280-AABF-F283FD23F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F050-8C2E-4C36-AB10-C64DE175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A3D5-4EC8-44E8-8C5A-E41FED55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9C4E-F3FE-4F0B-A29B-05841A09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4616-FB95-49A0-B31E-F0D878BB4B1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ECE3B-548D-4B63-A083-3EA3DDB39C6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hapter 2 “Cells”</a:t>
            </a:r>
            <a:br>
              <a:rPr sz="3600"/>
            </a:b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Section 1: “Cell Structure Pages 38 – 40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1371600" y="3124080"/>
            <a:ext cx="64008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SSON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45288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NUCLEU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rects all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cell activitie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ain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nstruction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or everything the cell do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se instructions are found on a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hereditary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material called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DN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Usually the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larges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rganell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6" descr="nucleus"/>
          <p:cNvPicPr/>
          <p:nvPr/>
        </p:nvPicPr>
        <p:blipFill>
          <a:blip r:embed="rId1"/>
          <a:stretch/>
        </p:blipFill>
        <p:spPr>
          <a:xfrm>
            <a:off x="762120" y="2362320"/>
            <a:ext cx="3657600" cy="3886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8" descr="nucleus#2"/>
          <p:cNvPicPr/>
          <p:nvPr/>
        </p:nvPicPr>
        <p:blipFill>
          <a:blip r:embed="rId2"/>
          <a:stretch/>
        </p:blipFill>
        <p:spPr>
          <a:xfrm>
            <a:off x="5638680" y="380880"/>
            <a:ext cx="19051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NUCLEAR MEMBRANE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35" name="Picture 8" descr="aEukaryoticCell"/>
          <p:cNvPicPr/>
          <p:nvPr/>
        </p:nvPicPr>
        <p:blipFill>
          <a:blip r:embed="rId1"/>
          <a:stretch/>
        </p:blipFill>
        <p:spPr>
          <a:xfrm>
            <a:off x="4800600" y="251460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0608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parate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nucle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from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cytoplasm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rols movement of material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n &amp; ou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of nucle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8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8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NUCLEOLUS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8102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ka “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little nucle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”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und in the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nucleu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9" name="Picture 5" descr="nucleolusfigure1"/>
          <p:cNvPicPr/>
          <p:nvPr/>
        </p:nvPicPr>
        <p:blipFill>
          <a:blip r:embed="rId1"/>
          <a:stretch/>
        </p:blipFill>
        <p:spPr>
          <a:xfrm>
            <a:off x="4495680" y="2590920"/>
            <a:ext cx="3962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HROMATIN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tain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genetic cod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at controls ce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ade of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DN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&amp;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protein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2" name="Picture 5" descr="chromosome"/>
          <p:cNvPicPr/>
          <p:nvPr/>
        </p:nvPicPr>
        <p:blipFill>
          <a:blip r:embed="rId1"/>
          <a:stretch/>
        </p:blipFill>
        <p:spPr>
          <a:xfrm>
            <a:off x="5715000" y="2971800"/>
            <a:ext cx="25527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MMON CELL TRAIT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ell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s the smallest unit that is capable of performing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life function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6" name="Picture 5" descr="eucell"/>
          <p:cNvPicPr/>
          <p:nvPr/>
        </p:nvPicPr>
        <p:blipFill>
          <a:blip r:embed="rId1"/>
          <a:stretch/>
        </p:blipFill>
        <p:spPr>
          <a:xfrm>
            <a:off x="3581280" y="3276720"/>
            <a:ext cx="39625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2" descr="difftypesofcells3"/>
          <p:cNvPicPr/>
          <p:nvPr/>
        </p:nvPicPr>
        <p:blipFill>
          <a:blip r:embed="rId1"/>
          <a:stretch/>
        </p:blipFill>
        <p:spPr>
          <a:xfrm>
            <a:off x="5334120" y="762120"/>
            <a:ext cx="3533760" cy="57909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OMPARING CELL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1148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iz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&amp;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hap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of a cell relates to it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unction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 (job it doe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0" name="Picture 5" descr="support"/>
          <p:cNvPicPr/>
          <p:nvPr/>
        </p:nvPicPr>
        <p:blipFill>
          <a:blip r:embed="rId2"/>
          <a:stretch/>
        </p:blipFill>
        <p:spPr>
          <a:xfrm>
            <a:off x="1219320" y="4724280"/>
            <a:ext cx="214308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Prokaryotic Cells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proh KAYR ee yah tihk)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724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ll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withou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membrane-bound structu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EX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 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bacteri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     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ond scu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3" name="Picture 5" descr="DSCN0576"/>
          <p:cNvPicPr/>
          <p:nvPr/>
        </p:nvPicPr>
        <p:blipFill>
          <a:blip r:embed="rId1"/>
          <a:stretch/>
        </p:blipFill>
        <p:spPr>
          <a:xfrm>
            <a:off x="5486400" y="2362320"/>
            <a:ext cx="3159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6666"/>
                </a:solidFill>
                <a:uFillTx/>
                <a:latin typeface="Arial"/>
              </a:rPr>
              <a:t>Eukaryotic Cells</a:t>
            </a: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(yew KAYR ee yah tihk)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756320" y="2361960"/>
            <a:ext cx="37749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cells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with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membrane-bound structure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EX: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animal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plants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fungi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and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protists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6" name="Picture 9" descr="EukaryoticCell"/>
          <p:cNvPicPr/>
          <p:nvPr/>
        </p:nvPicPr>
        <p:blipFill>
          <a:blip r:embed="rId1"/>
          <a:stretch/>
        </p:blipFill>
        <p:spPr>
          <a:xfrm>
            <a:off x="1066680" y="2590920"/>
            <a:ext cx="37339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09480" y="29714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rotec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the ce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ives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shap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s made of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cellulo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 cell wall is found in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lant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alga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ungi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, &amp; most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bacteria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3366"/>
                </a:solidFill>
                <a:uFillTx/>
                <a:latin typeface="Arial"/>
              </a:rPr>
              <a:t>CELL WAL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Picture 7" descr="cell wall#2"/>
          <p:cNvPicPr/>
          <p:nvPr/>
        </p:nvPicPr>
        <p:blipFill>
          <a:blip r:embed="rId1"/>
          <a:stretch/>
        </p:blipFill>
        <p:spPr>
          <a:xfrm>
            <a:off x="5562720" y="457200"/>
            <a:ext cx="2962080" cy="18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ELL MEMBRANE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440" y="236232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uter covering, 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protective lay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around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ALL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cell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or cells with cell walls,the cell membrane i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inside the cell wal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llows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foo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oxyge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, &amp;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water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into the cell &amp; </a:t>
            </a:r>
            <a:r>
              <a:rPr b="0" lang="en-US" sz="2400" spc="-1" strike="noStrike" u="sng">
                <a:solidFill>
                  <a:srgbClr val="003366"/>
                </a:solidFill>
                <a:uFillTx/>
                <a:latin typeface="Arial"/>
              </a:rPr>
              <a:t>wast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products out of the cel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2" name="Picture 10" descr="cytoplasm"/>
          <p:cNvPicPr/>
          <p:nvPr/>
        </p:nvPicPr>
        <p:blipFill>
          <a:blip r:embed="rId1"/>
          <a:stretch/>
        </p:blipFill>
        <p:spPr>
          <a:xfrm>
            <a:off x="5791320" y="2514600"/>
            <a:ext cx="29718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YTOPLASM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3048120"/>
            <a:ext cx="7693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gelatin-lik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inside cell membran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stantly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flow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ka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rotoplas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Picture 4" descr="CYTOPLASM #2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2895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cytoplasm"/>
          <p:cNvPicPr/>
          <p:nvPr/>
        </p:nvPicPr>
        <p:blipFill>
          <a:blip r:embed="rId2"/>
          <a:stretch/>
        </p:blipFill>
        <p:spPr>
          <a:xfrm>
            <a:off x="5105520" y="373392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8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6666"/>
                </a:solidFill>
                <a:uFillTx/>
                <a:latin typeface="Arial"/>
              </a:rPr>
              <a:t>CYTOSKELETON</a:t>
            </a: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40388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scaffolding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-like structure in cytoplasm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helps the cell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maintain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or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change</a:t>
            </a: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 its shape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66"/>
                </a:solidFill>
                <a:latin typeface="Arial"/>
              </a:rPr>
              <a:t>made of </a:t>
            </a:r>
            <a:r>
              <a:rPr b="0" lang="en-US" sz="2600" spc="-1" strike="noStrike" u="sng">
                <a:solidFill>
                  <a:srgbClr val="003366"/>
                </a:solidFill>
                <a:uFillTx/>
                <a:latin typeface="Arial"/>
              </a:rPr>
              <a:t>protein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9" name="Picture 5" descr="ch1_cytoskeleton"/>
          <p:cNvPicPr/>
          <p:nvPr/>
        </p:nvPicPr>
        <p:blipFill>
          <a:blip r:embed="rId1"/>
          <a:stretch/>
        </p:blipFill>
        <p:spPr>
          <a:xfrm>
            <a:off x="5257800" y="2514600"/>
            <a:ext cx="333360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21:40:52Z</dcterms:created>
  <dc:creator>Becky</dc:creator>
  <dc:description/>
  <dc:language>en-US</dc:language>
  <cp:lastModifiedBy>RomaK</cp:lastModifiedBy>
  <dcterms:modified xsi:type="dcterms:W3CDTF">2015-09-04T10:55:38Z</dcterms:modified>
  <cp:revision>13</cp:revision>
  <dc:subject/>
  <dc:title>Chapter 2 “Cells” Section 1: “Cell Structure Pages 38 – 40</dc:title>
</cp:coreProperties>
</file>