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6ECF-4FD7-46B4-B035-17379F3F6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ges 41 – 4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EC7-A358-4C8F-A09F-A7548B94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F00-2C69-4ED4-9EA1-FDFECBA3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6F5-0D2B-4AF0-AD0A-76088474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C07-2BB1-4375-8216-E5BD5226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81D7-D761-404E-A16A-68C19D91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24D6-F95C-401B-8C2B-BB1D111E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BB35-9893-4D20-A9F1-4983A9A0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0C8C-D4CB-4CDB-90BE-9161B078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62CE-10EB-4F3E-BEE6-FFA91CCB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1A6D-2730-419C-AEAB-9AB8E291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22E3-FA88-4265-B083-2B8C83D1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EC8-1EAB-4E30-A9D9-711BE55D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3131-7D22-44A6-A0EB-92DC6C7A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6257-D43E-4840-A044-44A0D1D1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E461-14F6-40BA-A858-36A70444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A2DE-BB65-49AE-AB1A-375DA55F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FCEC-6BFF-4835-93D6-AC04CD2C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7B8-C33A-48DA-ACED-2C59F303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4497-CB06-49E7-916D-891D0CA7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54A5-F7F5-4182-A90B-3722152E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EBC-3734-40F0-9F3E-3CFE3DB3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18C-7254-4168-B9A3-2CBA8BCA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246-7796-4BE0-8BEB-AD31BD0C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4CD-F8BF-40D8-9577-9EB3CF6A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93A8-A0DE-4D45-9D85-B07DC782F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B6A9-7279-4FAE-8C07-A0026321D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1600200" y="685800"/>
            <a:ext cx="545796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0732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Structure”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ges 41 – 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organells"/>
          <p:cNvPicPr/>
          <p:nvPr/>
        </p:nvPicPr>
        <p:blipFill>
          <a:blip r:embed="rId1"/>
          <a:stretch/>
        </p:blipFill>
        <p:spPr>
          <a:xfrm>
            <a:off x="2514600" y="3962520"/>
            <a:ext cx="4267080" cy="2133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ROM CELL TO ORGAN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Organization Chart 26"/>
          <p:cNvGrpSpPr/>
          <p:nvPr/>
        </p:nvGrpSpPr>
        <p:grpSpPr>
          <a:xfrm>
            <a:off x="228600" y="1523880"/>
            <a:ext cx="8381880" cy="5029200"/>
            <a:chOff x="228600" y="1523880"/>
            <a:chExt cx="8381880" cy="5029200"/>
          </a:xfrm>
        </p:grpSpPr>
        <p:cxnSp>
          <p:nvCxnSpPr>
            <p:cNvPr id="133" name="_s1028"/>
            <p:cNvCxnSpPr>
              <a:stCxn id="134" idx="0"/>
              <a:endCxn id="135" idx="3"/>
            </p:cNvCxnSpPr>
            <p:nvPr/>
          </p:nvCxnSpPr>
          <p:spPr>
            <a:xfrm rot="10800000">
              <a:off x="2742480" y="2242440"/>
              <a:ext cx="838800" cy="287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_s1029"/>
            <p:cNvCxnSpPr>
              <a:stCxn id="137" idx="0"/>
              <a:endCxn id="135" idx="2"/>
            </p:cNvCxnSpPr>
            <p:nvPr/>
          </p:nvCxnSpPr>
          <p:spPr>
            <a:xfrm rot="10800000">
              <a:off x="2742480" y="2242440"/>
              <a:ext cx="838800" cy="1796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_s1030"/>
            <p:cNvCxnSpPr>
              <a:stCxn id="139" idx="0"/>
              <a:endCxn id="135" idx="1"/>
            </p:cNvCxnSpPr>
            <p:nvPr/>
          </p:nvCxnSpPr>
          <p:spPr>
            <a:xfrm rot="10800000">
              <a:off x="2742480" y="2243160"/>
              <a:ext cx="838800" cy="395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_s1031"/>
            <p:cNvCxnSpPr>
              <a:stCxn id="141" idx="0"/>
              <a:endCxn id="135" idx="0"/>
            </p:cNvCxnSpPr>
            <p:nvPr/>
          </p:nvCxnSpPr>
          <p:spPr>
            <a:xfrm rot="10800000">
              <a:off x="2742480" y="2242440"/>
              <a:ext cx="838800" cy="71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228600" y="1523880"/>
              <a:ext cx="502920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a3b2c1"/>
                </a:gs>
                <a:gs pos="50000">
                  <a:srgbClr val="ffffff"/>
                </a:gs>
                <a:gs pos="100000">
                  <a:srgbClr val="a3b2c1"/>
                </a:gs>
              </a:gsLst>
              <a:lin ang="8100000"/>
            </a:gradFill>
            <a:ln w="324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Cel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basic unit of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lif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3"/>
            <p:cNvSpPr/>
            <p:nvPr/>
          </p:nvSpPr>
          <p:spPr>
            <a:xfrm>
              <a:off x="3581280" y="260208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3581280" y="5834160"/>
              <a:ext cx="502920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_s1035"/>
            <p:cNvSpPr/>
            <p:nvPr/>
          </p:nvSpPr>
          <p:spPr>
            <a:xfrm>
              <a:off x="3581280" y="367992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1036"/>
            <p:cNvSpPr/>
            <p:nvPr/>
          </p:nvSpPr>
          <p:spPr>
            <a:xfrm>
              <a:off x="3581280" y="475776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2" name="Rectangle 57"/>
          <p:cNvSpPr/>
          <p:nvPr/>
        </p:nvSpPr>
        <p:spPr>
          <a:xfrm>
            <a:off x="3886200" y="2590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304920" y="35812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5"/>
          <p:cNvSpPr/>
          <p:nvPr/>
        </p:nvSpPr>
        <p:spPr>
          <a:xfrm>
            <a:off x="37339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Or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iss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60"/>
          <p:cNvSpPr/>
          <p:nvPr/>
        </p:nvSpPr>
        <p:spPr>
          <a:xfrm>
            <a:off x="3352680" y="5807160"/>
            <a:ext cx="5410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Organis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liv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made of 1 or mor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3657600" y="47242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AME THE ORGANEL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organells"/>
          <p:cNvPicPr/>
          <p:nvPr/>
        </p:nvPicPr>
        <p:blipFill>
          <a:blip r:embed="rId1"/>
          <a:stretch/>
        </p:blipFill>
        <p:spPr>
          <a:xfrm>
            <a:off x="2971800" y="1981080"/>
            <a:ext cx="2990880" cy="3810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943600" y="4495680"/>
            <a:ext cx="29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. Mitochond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440388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b. Chloropla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72200" y="2133720"/>
            <a:ext cx="25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. Golgi bod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3520" y="2133720"/>
            <a:ext cx="220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. Nucle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306AAA8E"/>
          <p:cNvPicPr/>
          <p:nvPr/>
        </p:nvPicPr>
        <p:blipFill>
          <a:blip r:embed="rId1"/>
          <a:stretch/>
        </p:blipFill>
        <p:spPr>
          <a:xfrm>
            <a:off x="152280" y="-228600"/>
            <a:ext cx="8839440" cy="6172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28600" y="4648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- Nucle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09480" y="52419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- Chrom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860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- Mitochond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295280" y="6232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- Rib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581280" y="5791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- Chloropla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1148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- Vacuo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2388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- E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781680" y="6095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8- Cell Membr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LAS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ganelles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ke fo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nd only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l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hloroplast"/>
          <p:cNvPicPr/>
          <p:nvPr/>
        </p:nvPicPr>
        <p:blipFill>
          <a:blip r:embed="rId1"/>
          <a:stretch/>
        </p:blipFill>
        <p:spPr>
          <a:xfrm>
            <a:off x="1905120" y="3429000"/>
            <a:ext cx="2762280" cy="238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plant_photosynth1"/>
          <p:cNvPicPr/>
          <p:nvPr/>
        </p:nvPicPr>
        <p:blipFill>
          <a:blip r:embed="rId2"/>
          <a:stretch/>
        </p:blipFill>
        <p:spPr>
          <a:xfrm>
            <a:off x="5867280" y="533520"/>
            <a:ext cx="2695680" cy="5333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HYLL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r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ig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gives leaves &amp; stems thei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ptur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nligh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nergy that is used to pro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lle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luc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lucose is a typ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g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chlorophyll"/>
          <p:cNvPicPr/>
          <p:nvPr/>
        </p:nvPicPr>
        <p:blipFill>
          <a:blip r:embed="rId1"/>
          <a:stretch/>
        </p:blipFill>
        <p:spPr>
          <a:xfrm>
            <a:off x="6705720" y="12952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hloro"/>
          <p:cNvPicPr/>
          <p:nvPr/>
        </p:nvPicPr>
        <p:blipFill>
          <a:blip r:embed="rId2"/>
          <a:stretch/>
        </p:blipFill>
        <p:spPr>
          <a:xfrm>
            <a:off x="5257800" y="3124080"/>
            <a:ext cx="2448000" cy="28958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9"/>
          <p:cNvSpPr/>
          <p:nvPr/>
        </p:nvSpPr>
        <p:spPr>
          <a:xfrm>
            <a:off x="7467480" y="304920"/>
            <a:ext cx="1114560" cy="927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MITOCHONDR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ganelles that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energy is released by breaking down food in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rbon diox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KA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owerho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/c they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usc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 have 20,000 mitochondr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mitochrondria"/>
          <p:cNvPicPr/>
          <p:nvPr/>
        </p:nvPicPr>
        <p:blipFill>
          <a:blip r:embed="rId1"/>
          <a:stretch/>
        </p:blipFill>
        <p:spPr>
          <a:xfrm>
            <a:off x="4800600" y="1981080"/>
            <a:ext cx="3962520" cy="26672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RIB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loat free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attached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 (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bosomes are made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3" descr="er"/>
          <p:cNvPicPr/>
          <p:nvPr/>
        </p:nvPicPr>
        <p:blipFill>
          <a:blip r:embed="rId1"/>
          <a:stretch/>
        </p:blipFill>
        <p:spPr>
          <a:xfrm>
            <a:off x="914400" y="1905120"/>
            <a:ext cx="3048120" cy="3733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eries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lded membra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ov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erial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(proteins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ound in a ce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nveyor bel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moot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not attach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ug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attach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Rough Endoplasmic Reticulum"/>
          <p:cNvPicPr/>
          <p:nvPr/>
        </p:nvPicPr>
        <p:blipFill>
          <a:blip r:embed="rId1"/>
          <a:stretch/>
        </p:blipFill>
        <p:spPr>
          <a:xfrm>
            <a:off x="990720" y="1905120"/>
            <a:ext cx="2057400" cy="1724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Smooth Endoplasmic Reticulum"/>
          <p:cNvPicPr/>
          <p:nvPr/>
        </p:nvPicPr>
        <p:blipFill>
          <a:blip r:embed="rId2"/>
          <a:stretch/>
        </p:blipFill>
        <p:spPr>
          <a:xfrm>
            <a:off x="1295280" y="3809880"/>
            <a:ext cx="2286000" cy="2210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GOLGI BODI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GAWL jee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ck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latten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bra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or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cka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rotein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4" descr="GB"/>
          <p:cNvPicPr/>
          <p:nvPr/>
        </p:nvPicPr>
        <p:blipFill>
          <a:blip r:embed="rId1"/>
          <a:stretch/>
        </p:blipFill>
        <p:spPr>
          <a:xfrm>
            <a:off x="4876920" y="17524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VACUOL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rar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torag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c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s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Central Vacuole"/>
          <p:cNvPicPr/>
          <p:nvPr/>
        </p:nvPicPr>
        <p:blipFill>
          <a:blip r:embed="rId1"/>
          <a:stretch/>
        </p:blipFill>
        <p:spPr>
          <a:xfrm>
            <a:off x="685800" y="190512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LYS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LI suh sohmz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653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ord "lysosome" is Latin for "kill body."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urpose of the lysosome is t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ge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ings. They might be used to dige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 break down the cell when it d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eak dow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olecul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cell was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orn o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ell par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5:57:54Z</dcterms:created>
  <dc:creator>Becky Gentry</dc:creator>
  <dc:description/>
  <dc:language>en-US</dc:language>
  <cp:lastModifiedBy>LEGION2</cp:lastModifiedBy>
  <dcterms:modified xsi:type="dcterms:W3CDTF">2016-01-11T12:50:25Z</dcterms:modified>
  <cp:revision>12</cp:revision>
  <dc:subject/>
  <dc:title>“Cell Structure”  Pages 41 – 45</dc:title>
</cp:coreProperties>
</file>