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6E8C-54E7-4C4A-9CF0-C43D2B666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SON 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ll Structure”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ges 41 – 4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S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ll Structure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ELL TO ORGA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cell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ssue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iving thing made of 1 or more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organ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ELL TO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cell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ssue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iving thing made of 1 or mor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organ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ORGANEL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Mitochond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Chloropla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olgi body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Nucle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 THE ORGAN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. 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. Chlorop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. Golgi bo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 Nucle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 Chromoso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 Mitochond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 Riboso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 Chloropla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 Vacuo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 ER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 Cell Membra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-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- 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-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- 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- Vacu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- 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-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organelles that make foo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plant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organelles that make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een pigment that gives leaves &amp; stems their colo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s sunlight energy that is used to produce food called gluco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is a type of sug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een pigment that gives leaves &amp; stems their col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s sunlight energy that is used to produce food called 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is a type of sug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CHONDRIA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elles that release energy from foo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ergy is released by breaking down food into carbon dioxid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the powerhouse b/c they release energy from foo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uscle cells have 20,000 mitochondria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elles that release energy from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ergy is released by breaking down food into 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the powerhouse b/c they release energy from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uscle cells have 20,000 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rote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 freely or attached to the endoplasmic reticulum (E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are made in the nucleol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 freely or attached to the endoplasmic reticulum (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are made in the nucleo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ries of folded membranes that move materials (proteins) around in a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a conveyor be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ER – ribosomes not attached to 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ER – ribosomes attached to 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ries of folded membranes that move materials (proteins) around in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a conveyor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ER – ribosomes not attached to 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ER – ribosomes attached to 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GI BODIES (GAWL jee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ed flattened membran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rt and package prote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GI BODIES (GAWL je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ed flattened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rt and package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orary storage spac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food, water, was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orary storage sp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food, water,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(LI suh sohmz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"lysosome" is Latin for "kill body.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lysosome is to digest things. They might be used to digest food or break down the cell when it d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down food molecules, cell wastes &amp; worn out cell par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(LI suh sohm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"lysosome" is Latin for "kill body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lysosome is to digest things. They might be used to digest food or break down the cell when it 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down food molecules, cell wastes &amp; worn out cell pa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E5C1-5163-4670-98BE-57C01915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101B-38B7-42AE-8EED-871A1754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94D-AD2F-4FDB-B380-1A8B3867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0558-B6DB-42C7-ADBA-37D95717C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117D-A9F3-48DD-89F4-8DBDC724E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4078-1FDE-4178-A9AF-E9FE554C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E381-7766-4DAA-8782-AB5CDEF8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A605-19D1-4023-B0E2-03C11738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8080-9A05-405E-8C42-7ADC8F55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28EB-7A23-4DB7-A4E2-BD03C9BE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4BD6-FFD7-44AF-B516-72FC5C89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3E71-BB6A-4658-9D90-B189D357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CCF2-AC9D-4DEB-970A-61EB7968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93D9-BDBF-4F71-AF5E-39D037FA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D93B-6286-4F79-B84E-444933A9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7054-39C8-4000-8A7B-A37EADE7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B038-F62C-43F8-B48F-F9BD1024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9C1-A934-4D5E-9D70-27B2F346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A289-D287-4A81-A449-EC846867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0ED5-7475-4BAC-8B09-0F38EBCF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41AF-B687-4350-BDC0-3C559DFE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1EC-5BC3-4E42-81D7-98632C80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64B4-B000-4086-AD24-C473EC50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1C4E-EE8C-4D8C-967D-41B6095E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8589-2218-4DEE-8080-336F287B9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9719-FAC0-42AE-B462-41C5A3CE1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3"/>
          <p:cNvSpPr txBox="1"/>
          <p:nvPr/>
        </p:nvSpPr>
        <p:spPr>
          <a:xfrm>
            <a:off x="1600200" y="685800"/>
            <a:ext cx="5457960" cy="11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SSON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0732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ell Structure”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ges 41 – 4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7" descr="organells"/>
          <p:cNvPicPr/>
          <p:nvPr/>
        </p:nvPicPr>
        <p:blipFill>
          <a:blip r:embed="rId1"/>
          <a:stretch/>
        </p:blipFill>
        <p:spPr>
          <a:xfrm>
            <a:off x="2514600" y="3962520"/>
            <a:ext cx="4267080" cy="213336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ROM CELL TO ORGANIS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Organization Chart 26"/>
          <p:cNvGrpSpPr/>
          <p:nvPr/>
        </p:nvGrpSpPr>
        <p:grpSpPr>
          <a:xfrm>
            <a:off x="228600" y="1523880"/>
            <a:ext cx="8381880" cy="5029200"/>
            <a:chOff x="228600" y="1523880"/>
            <a:chExt cx="8381880" cy="5029200"/>
          </a:xfrm>
        </p:grpSpPr>
        <p:cxnSp>
          <p:nvCxnSpPr>
            <p:cNvPr id="133" name="_s1028"/>
            <p:cNvCxnSpPr>
              <a:stCxn id="134" idx="0"/>
              <a:endCxn id="135" idx="3"/>
            </p:cNvCxnSpPr>
            <p:nvPr/>
          </p:nvCxnSpPr>
          <p:spPr>
            <a:xfrm rot="10800000">
              <a:off x="2742480" y="2242440"/>
              <a:ext cx="838800" cy="287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" name="_s1029"/>
            <p:cNvCxnSpPr>
              <a:stCxn id="137" idx="0"/>
              <a:endCxn id="135" idx="2"/>
            </p:cNvCxnSpPr>
            <p:nvPr/>
          </p:nvCxnSpPr>
          <p:spPr>
            <a:xfrm rot="10800000">
              <a:off x="2742480" y="2242440"/>
              <a:ext cx="838800" cy="1796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_s1030"/>
            <p:cNvCxnSpPr>
              <a:stCxn id="139" idx="0"/>
              <a:endCxn id="135" idx="1"/>
            </p:cNvCxnSpPr>
            <p:nvPr/>
          </p:nvCxnSpPr>
          <p:spPr>
            <a:xfrm rot="10800000">
              <a:off x="2742480" y="2243160"/>
              <a:ext cx="838800" cy="3951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" name="_s1031"/>
            <p:cNvCxnSpPr>
              <a:stCxn id="141" idx="0"/>
              <a:endCxn id="135" idx="0"/>
            </p:cNvCxnSpPr>
            <p:nvPr/>
          </p:nvCxnSpPr>
          <p:spPr>
            <a:xfrm rot="10800000">
              <a:off x="2742480" y="2242440"/>
              <a:ext cx="838800" cy="717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5" name="_s1032"/>
            <p:cNvSpPr/>
            <p:nvPr/>
          </p:nvSpPr>
          <p:spPr>
            <a:xfrm>
              <a:off x="228600" y="1523880"/>
              <a:ext cx="5029200" cy="719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a3b2c1"/>
                </a:gs>
                <a:gs pos="50000">
                  <a:srgbClr val="ffffff"/>
                </a:gs>
                <a:gs pos="100000">
                  <a:srgbClr val="a3b2c1"/>
                </a:gs>
              </a:gsLst>
              <a:lin ang="8100000"/>
            </a:gradFill>
            <a:ln w="324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Cell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he basic unit of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lif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_s1033"/>
            <p:cNvSpPr/>
            <p:nvPr/>
          </p:nvSpPr>
          <p:spPr>
            <a:xfrm>
              <a:off x="3581280" y="260208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_s1034"/>
            <p:cNvSpPr/>
            <p:nvPr/>
          </p:nvSpPr>
          <p:spPr>
            <a:xfrm>
              <a:off x="3581280" y="5834160"/>
              <a:ext cx="5029200" cy="718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_s1035"/>
            <p:cNvSpPr/>
            <p:nvPr/>
          </p:nvSpPr>
          <p:spPr>
            <a:xfrm>
              <a:off x="3581280" y="367992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_s1036"/>
            <p:cNvSpPr/>
            <p:nvPr/>
          </p:nvSpPr>
          <p:spPr>
            <a:xfrm>
              <a:off x="3581280" y="475776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2" name="Rectangle 57"/>
          <p:cNvSpPr/>
          <p:nvPr/>
        </p:nvSpPr>
        <p:spPr>
          <a:xfrm>
            <a:off x="3886200" y="25909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iss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ll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62"/>
          <p:cNvSpPr/>
          <p:nvPr/>
        </p:nvSpPr>
        <p:spPr>
          <a:xfrm>
            <a:off x="304920" y="358128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65"/>
          <p:cNvSpPr/>
          <p:nvPr/>
        </p:nvSpPr>
        <p:spPr>
          <a:xfrm>
            <a:off x="3733920" y="3657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Org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issu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60"/>
          <p:cNvSpPr/>
          <p:nvPr/>
        </p:nvSpPr>
        <p:spPr>
          <a:xfrm>
            <a:off x="3352680" y="5807160"/>
            <a:ext cx="5410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Organis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y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living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thing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made of 1 or more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cel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64"/>
          <p:cNvSpPr/>
          <p:nvPr/>
        </p:nvSpPr>
        <p:spPr>
          <a:xfrm>
            <a:off x="3657600" y="472428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rgan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rga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AME THE ORGANEL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organells"/>
          <p:cNvPicPr/>
          <p:nvPr/>
        </p:nvPicPr>
        <p:blipFill>
          <a:blip r:embed="rId1"/>
          <a:stretch/>
        </p:blipFill>
        <p:spPr>
          <a:xfrm>
            <a:off x="2971800" y="1981080"/>
            <a:ext cx="2990880" cy="3810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5943600" y="4495680"/>
            <a:ext cx="29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d. Mitochond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28600" y="4403880"/>
            <a:ext cx="274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b. Chloropla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172200" y="2133720"/>
            <a:ext cx="259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. Golgi body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33520" y="2133720"/>
            <a:ext cx="2209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. Nucle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306AAA8E"/>
          <p:cNvPicPr/>
          <p:nvPr/>
        </p:nvPicPr>
        <p:blipFill>
          <a:blip r:embed="rId1"/>
          <a:stretch/>
        </p:blipFill>
        <p:spPr>
          <a:xfrm>
            <a:off x="152280" y="-228600"/>
            <a:ext cx="8839440" cy="6172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228600" y="46483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- Nucle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609480" y="524196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- Chromoso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28600" y="5791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- Mitochond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295280" y="6232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- Riboso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581280" y="57913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- Chloropla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411480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- Vacuo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7238880" y="5638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7- E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781680" y="6095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8- Cell Membra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CHLOROPLAS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re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ganelles tha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ake fo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nd only i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la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l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chloroplast"/>
          <p:cNvPicPr/>
          <p:nvPr/>
        </p:nvPicPr>
        <p:blipFill>
          <a:blip r:embed="rId1"/>
          <a:stretch/>
        </p:blipFill>
        <p:spPr>
          <a:xfrm>
            <a:off x="1905120" y="3429000"/>
            <a:ext cx="2762280" cy="238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plant_photosynth1"/>
          <p:cNvPicPr/>
          <p:nvPr/>
        </p:nvPicPr>
        <p:blipFill>
          <a:blip r:embed="rId2"/>
          <a:stretch/>
        </p:blipFill>
        <p:spPr>
          <a:xfrm>
            <a:off x="5867280" y="533520"/>
            <a:ext cx="2695680" cy="53337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CHLOROPHYLL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gree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igm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gives leaves &amp; stems thei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pture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unligh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nergy that is used to produc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lle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luco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lucose is a typ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ug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7" descr="chlorophyll"/>
          <p:cNvPicPr/>
          <p:nvPr/>
        </p:nvPicPr>
        <p:blipFill>
          <a:blip r:embed="rId1"/>
          <a:stretch/>
        </p:blipFill>
        <p:spPr>
          <a:xfrm>
            <a:off x="6705720" y="1295280"/>
            <a:ext cx="1904760" cy="1752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chloro"/>
          <p:cNvPicPr/>
          <p:nvPr/>
        </p:nvPicPr>
        <p:blipFill>
          <a:blip r:embed="rId2"/>
          <a:stretch/>
        </p:blipFill>
        <p:spPr>
          <a:xfrm>
            <a:off x="5257800" y="3124080"/>
            <a:ext cx="2448000" cy="289584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9"/>
          <p:cNvSpPr/>
          <p:nvPr/>
        </p:nvSpPr>
        <p:spPr>
          <a:xfrm>
            <a:off x="7467480" y="304920"/>
            <a:ext cx="1114560" cy="927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MITOCHONDRIA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24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ganelles that releas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ro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energy is released by breaking down food into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arbon dioxid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KA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owerhou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/c they releas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ro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usc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lls have 20,000 mitochondri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mitochrondria"/>
          <p:cNvPicPr/>
          <p:nvPr/>
        </p:nvPicPr>
        <p:blipFill>
          <a:blip r:embed="rId1"/>
          <a:stretch/>
        </p:blipFill>
        <p:spPr>
          <a:xfrm>
            <a:off x="4800600" y="1981080"/>
            <a:ext cx="3962520" cy="26672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RIBOSOM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300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ote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Float freel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attached to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ndoplasmic reticulum (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bosomes are made 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nucleo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3" descr="er"/>
          <p:cNvPicPr/>
          <p:nvPr/>
        </p:nvPicPr>
        <p:blipFill>
          <a:blip r:embed="rId1"/>
          <a:stretch/>
        </p:blipFill>
        <p:spPr>
          <a:xfrm>
            <a:off x="914400" y="1905120"/>
            <a:ext cx="3048120" cy="37335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ENDOPLASMIC RETICUL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300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series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lded membran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ov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terial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(proteins)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ound in a cel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ke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onveyor bel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mooth 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ibosomes not attach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ough 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ibosomes attach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6" descr="Rough Endoplasmic Reticulum"/>
          <p:cNvPicPr/>
          <p:nvPr/>
        </p:nvPicPr>
        <p:blipFill>
          <a:blip r:embed="rId1"/>
          <a:stretch/>
        </p:blipFill>
        <p:spPr>
          <a:xfrm>
            <a:off x="990720" y="1905120"/>
            <a:ext cx="2057400" cy="1724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Smooth Endoplasmic Reticulum"/>
          <p:cNvPicPr/>
          <p:nvPr/>
        </p:nvPicPr>
        <p:blipFill>
          <a:blip r:embed="rId2"/>
          <a:stretch/>
        </p:blipFill>
        <p:spPr>
          <a:xfrm>
            <a:off x="1295280" y="3809880"/>
            <a:ext cx="2286000" cy="22100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GOLGI BODI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(GAWL jee)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ck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lattene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embra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or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packag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rotein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14" descr="GB"/>
          <p:cNvPicPr/>
          <p:nvPr/>
        </p:nvPicPr>
        <p:blipFill>
          <a:blip r:embed="rId1"/>
          <a:stretch/>
        </p:blipFill>
        <p:spPr>
          <a:xfrm>
            <a:off x="4876920" y="1752480"/>
            <a:ext cx="342900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VACUOL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mporar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torag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ac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a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as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8" descr="Central Vacuole"/>
          <p:cNvPicPr/>
          <p:nvPr/>
        </p:nvPicPr>
        <p:blipFill>
          <a:blip r:embed="rId1"/>
          <a:stretch/>
        </p:blipFill>
        <p:spPr>
          <a:xfrm>
            <a:off x="685800" y="1905120"/>
            <a:ext cx="3429000" cy="36576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LYSOSOM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(LI suh sohmz)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653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ord "lysosome" is Latin for "kill body."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urpose of the lysosome is to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iges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hings. They might be used to diges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r break down the cell when it d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eak dow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olecules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cell wast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orn ou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ell part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5:57:54Z</dcterms:created>
  <dc:creator>Becky Gentry</dc:creator>
  <dc:description/>
  <dc:language>en-US</dc:language>
  <cp:lastModifiedBy>LEGION2</cp:lastModifiedBy>
  <dcterms:modified xsi:type="dcterms:W3CDTF">2016-01-11T12:50:25Z</dcterms:modified>
  <cp:revision>12</cp:revision>
  <dc:subject/>
  <dc:title>“Cell Structure”  Pages 41 – 45</dc:title>
</cp:coreProperties>
</file>