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21.jpeg" ContentType="image/jpeg"/>
  <Override PartName="/ppt/media/image6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5F33-13D6-4D08-80E5-F6A171FBB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2 “Cell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: “Viewing Cells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2 “Cell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: “Viewing Cells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werful; some can magnify up to 1,000,00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magnetic field in a vacuum to bend beam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must be photographed or produced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werful; some can magnify up to 1,000,00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magnetic field in a vacuum to bend beam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must be photographed or produced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sp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realistic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e surface of specimen can b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fly f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sp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realistic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e surface of specimen can b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fly f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D image of thinly sliced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cell parts (only inside a cell) can be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D image of thinly sliced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cell parts (only inside a cell) can be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 Microscope (ST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ow arrangement of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 Microscope (ST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ow arrangement of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resulting from many scientists’ observations &amp;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resulting from many scientists’ observations &amp;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basic unit of life is the cell. (Ho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665, an English scientist named Robert Hooke made an improved microscope and viewed thin slices of cork viewing plant cell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oke named what he saw "cells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basic unit of life is the cell. (Ho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665, an English scientist named Robert Hooke made an improved microscope and viewed thin slices of cork viewing plant cell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oke named what he saw "cells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ll living things are made of 1 or mor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ias Schleiden (botanist studying pl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dore Schwann (zoologist studying animals) stated that all living things were made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lei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ll living things are made of 1 or mor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ias Schleiden (botanist studying pl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dore Schwann (zoologist studying animals) stated that all living things were made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lei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 All cells divide &amp; come from old cells. (Virc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c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 All cells divide &amp; come from old cells. (Virc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c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arias Janssen - made 1st compound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tch maker of reading glasses (late 15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arias Janssen - made 1st compound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tch maker of reading glasses (late 15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simple microscope (mid 16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ed 27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 lenses made images larger but the image was not cl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simple microscope (mid 16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ed 27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 lenses made images larger but the image was not cl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's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 screw for adjusting the height of the object being exam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metal plate serving as the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skewer to impale the object and rotat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lens itself, which was sph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's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 screw for adjusting the height of the object being exam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metal plate serving as the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skewer to impale the object and rotat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lens itself, which was sph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is simple or compound depending on how many lenses it 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ns makes an enlarged image &amp; directs light towards you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is simple or compound depending on how many lenses it 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ns makes an enlarged image &amp; directs light towards you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microscope has on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a magnifying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change in apparent size produced by a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microscope has on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a magnifying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change in apparent size produced by a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microscope has multiple len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yepiece &amp; objective len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microscope has multiple len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yepiece &amp; objective len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eyepiece (10X) multiplied by objective lenses determine total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eyepiece (10X) multiplied by objective lenses determine total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883F-5ED5-4FB9-BD18-09EE093B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7DF-DA25-4893-9A63-7D419C1E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E90-CC9B-43BA-A04B-B904D872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354-1FF7-44A8-AEB1-6B5BD7B9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C3F9-74FD-421B-BD59-24AC250E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E026-F597-4FA4-A280-FF40DD47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05F2-8A65-45DA-8CE7-0395726D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9673-8125-43C2-9F27-81820D47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C801-D2C9-44C9-9F63-B4AA2D66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EA5C-CB07-44EA-BA4F-C05E2FE4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9C13-1CF9-4D9A-87E2-68805618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276-373A-48F3-8BC1-9437964F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5681-6056-4E5B-913A-BCC10714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2277-90E7-4B54-B9F8-F3B9F7B8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A8FB-FB8B-47DF-A791-77D3AD9E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9335-148C-4727-9C75-AA5E0676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A8D9-DEF9-4C21-BC2C-DD5DB578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AE2-0A51-4FB0-8E5E-B2885FC9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68D8-A99D-4A5F-8894-2C3FA838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EDB0-7270-486B-943A-0226FB7D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6C3-F1DE-4254-BF27-2A5AABA9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661-D84B-496F-937D-A30B1CF5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30E-443C-42C3-B986-C92B3F8B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307-F781-408F-939D-723E2A16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54C5-0A59-4B53-B17A-96A1972F7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2A6C-30D8-4DFA-8884-789BABC6A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wpclipart.com/office/supplies/magnifying_glass_01.pn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2362320" y="380880"/>
            <a:ext cx="5333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 Black"/>
              </a:rPr>
              <a:t>LESSON 3</a:t>
            </a:r>
            <a:endParaRPr b="0" lang="en-US" sz="2400" spc="1" strike="noStrike">
              <a:ln w="7632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47760"/>
            <a:ext cx="8610480" cy="19126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. 2 “Cells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2: “Viewing Cells”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CTRON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owerfu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some can magnify up 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,000,000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agnet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eld in a vacuum to bend beams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s must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hotograph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produc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ectron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F20504"/>
          <p:cNvPicPr/>
          <p:nvPr/>
        </p:nvPicPr>
        <p:blipFill>
          <a:blip r:embed="rId1"/>
          <a:stretch/>
        </p:blipFill>
        <p:spPr>
          <a:xfrm>
            <a:off x="5238720" y="1857240"/>
            <a:ext cx="3524400" cy="46958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Scanning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ctron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croscope (SEM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6320" y="1219320"/>
            <a:ext cx="5486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image of a spi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6" descr="electron-microscope-spider"/>
          <p:cNvPicPr/>
          <p:nvPr/>
        </p:nvPicPr>
        <p:blipFill>
          <a:blip r:embed="rId1"/>
          <a:stretch/>
        </p:blipFill>
        <p:spPr>
          <a:xfrm>
            <a:off x="5562720" y="1143000"/>
            <a:ext cx="339228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438_web"/>
          <p:cNvPicPr/>
          <p:nvPr/>
        </p:nvPicPr>
        <p:blipFill>
          <a:blip r:embed="rId2"/>
          <a:stretch/>
        </p:blipFill>
        <p:spPr>
          <a:xfrm>
            <a:off x="5437080" y="3809880"/>
            <a:ext cx="3706920" cy="2438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3"/>
          <p:cNvSpPr/>
          <p:nvPr/>
        </p:nvSpPr>
        <p:spPr>
          <a:xfrm>
            <a:off x="0" y="2971800"/>
            <a:ext cx="5029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realisti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D im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pecimen can be observ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57240" y="61718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image of a fly f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Transmission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ctron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croscope (TEM)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2D im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in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liced speci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ell par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only inside a cell) can be ob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image002"/>
          <p:cNvPicPr/>
          <p:nvPr/>
        </p:nvPicPr>
        <p:blipFill>
          <a:blip r:embed="rId1"/>
          <a:stretch/>
        </p:blipFill>
        <p:spPr>
          <a:xfrm>
            <a:off x="5105520" y="1143000"/>
            <a:ext cx="3524040" cy="541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 montage of transmission electron micrographs"/>
          <p:cNvPicPr/>
          <p:nvPr/>
        </p:nvPicPr>
        <p:blipFill>
          <a:blip r:embed="rId2"/>
          <a:stretch/>
        </p:blipFill>
        <p:spPr>
          <a:xfrm>
            <a:off x="533520" y="4267080"/>
            <a:ext cx="4190760" cy="23623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Scanning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unneling 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croscope (STM)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show arrangement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afm"/>
          <p:cNvPicPr/>
          <p:nvPr/>
        </p:nvPicPr>
        <p:blipFill>
          <a:blip r:embed="rId1"/>
          <a:stretch/>
        </p:blipFill>
        <p:spPr>
          <a:xfrm>
            <a:off x="4648320" y="1752480"/>
            <a:ext cx="4419360" cy="4695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STM-med"/>
          <p:cNvPicPr/>
          <p:nvPr/>
        </p:nvPicPr>
        <p:blipFill>
          <a:blip r:embed="rId2"/>
          <a:stretch/>
        </p:blipFill>
        <p:spPr>
          <a:xfrm>
            <a:off x="304920" y="3429000"/>
            <a:ext cx="4114800" cy="32004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eory resulting from many scientists’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639960" y="-7456320"/>
          <a:ext cx="2455920" cy="5151240"/>
        </p:xfrm>
        <a:graphic>
          <a:graphicData uri="http://schemas.openxmlformats.org/drawingml/2006/table">
            <a:tbl>
              <a:tblPr/>
              <a:tblGrid>
                <a:gridCol w="819360"/>
                <a:gridCol w="817560"/>
                <a:gridCol w="819000"/>
              </a:tblGrid>
              <a:tr h="3997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9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0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hw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hlei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Virc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5" descr="cell%20%201"/>
          <p:cNvPicPr/>
          <p:nvPr/>
        </p:nvPicPr>
        <p:blipFill>
          <a:blip r:embed="rId1"/>
          <a:stretch/>
        </p:blipFill>
        <p:spPr>
          <a:xfrm>
            <a:off x="3730680" y="-7045200"/>
            <a:ext cx="1714320" cy="157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ell%20%202"/>
          <p:cNvPicPr/>
          <p:nvPr/>
        </p:nvPicPr>
        <p:blipFill>
          <a:blip r:embed="rId2"/>
          <a:stretch/>
        </p:blipFill>
        <p:spPr>
          <a:xfrm>
            <a:off x="3913200" y="-6188040"/>
            <a:ext cx="1590840" cy="1685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cell%20%203"/>
          <p:cNvPicPr/>
          <p:nvPr/>
        </p:nvPicPr>
        <p:blipFill>
          <a:blip r:embed="rId3"/>
          <a:stretch/>
        </p:blipFill>
        <p:spPr>
          <a:xfrm>
            <a:off x="4095720" y="-5487840"/>
            <a:ext cx="1409760" cy="17524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8"/>
          <p:cNvSpPr/>
          <p:nvPr/>
        </p:nvSpPr>
        <p:spPr>
          <a:xfrm>
            <a:off x="609480" y="3276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0" descr="cell%20%201"/>
          <p:cNvPicPr/>
          <p:nvPr/>
        </p:nvPicPr>
        <p:blipFill>
          <a:blip r:embed="rId4"/>
          <a:stretch/>
        </p:blipFill>
        <p:spPr>
          <a:xfrm>
            <a:off x="685800" y="3733920"/>
            <a:ext cx="1714680" cy="1571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2" descr="cell%20%202"/>
          <p:cNvPicPr/>
          <p:nvPr/>
        </p:nvPicPr>
        <p:blipFill>
          <a:blip r:embed="rId5"/>
          <a:stretch/>
        </p:blipFill>
        <p:spPr>
          <a:xfrm>
            <a:off x="3581280" y="2971800"/>
            <a:ext cx="1590840" cy="16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4" descr="cell%20%203"/>
          <p:cNvPicPr/>
          <p:nvPr/>
        </p:nvPicPr>
        <p:blipFill>
          <a:blip r:embed="rId6"/>
          <a:stretch/>
        </p:blipFill>
        <p:spPr>
          <a:xfrm>
            <a:off x="6324480" y="3581280"/>
            <a:ext cx="1409760" cy="17528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basic unit of life is 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o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100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665, an English scientist nam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Hoo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de an improved microscope and viewed thin slice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k viewing plant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e named what he sa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cells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cork_cells"/>
          <p:cNvPicPr/>
          <p:nvPr/>
        </p:nvPicPr>
        <p:blipFill>
          <a:blip r:embed="rId1"/>
          <a:stretch/>
        </p:blipFill>
        <p:spPr>
          <a:xfrm>
            <a:off x="5867280" y="1752480"/>
            <a:ext cx="2057400" cy="1219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7723_gottfried_leibniz"/>
          <p:cNvPicPr/>
          <p:nvPr/>
        </p:nvPicPr>
        <p:blipFill>
          <a:blip r:embed="rId2"/>
          <a:stretch/>
        </p:blipFill>
        <p:spPr>
          <a:xfrm>
            <a:off x="3352680" y="4384800"/>
            <a:ext cx="2400480" cy="2361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ooke's compound microscope, 1665-1675."/>
          <p:cNvPicPr/>
          <p:nvPr/>
        </p:nvPicPr>
        <p:blipFill>
          <a:blip r:embed="rId3"/>
          <a:stretch/>
        </p:blipFill>
        <p:spPr>
          <a:xfrm>
            <a:off x="6400800" y="3200400"/>
            <a:ext cx="2416320" cy="33526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 living things are made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or more cel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hi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lei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otanist studying plan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do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wan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zoologist studying animal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d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living things were made of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HSmatthi"/>
          <p:cNvPicPr/>
          <p:nvPr/>
        </p:nvPicPr>
        <p:blipFill>
          <a:blip r:embed="rId1"/>
          <a:stretch/>
        </p:blipFill>
        <p:spPr>
          <a:xfrm>
            <a:off x="228600" y="4381560"/>
            <a:ext cx="2171880" cy="23241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2439000" y="60948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leid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schwann"/>
          <p:cNvPicPr/>
          <p:nvPr/>
        </p:nvPicPr>
        <p:blipFill>
          <a:blip r:embed="rId2"/>
          <a:stretch/>
        </p:blipFill>
        <p:spPr>
          <a:xfrm>
            <a:off x="6400800" y="3809880"/>
            <a:ext cx="2071800" cy="2324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5032440" y="56386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ll cells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vid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&amp; come from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old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ells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Virchow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virchow"/>
          <p:cNvPicPr/>
          <p:nvPr/>
        </p:nvPicPr>
        <p:blipFill>
          <a:blip r:embed="rId1"/>
          <a:stretch/>
        </p:blipFill>
        <p:spPr>
          <a:xfrm>
            <a:off x="914400" y="1752480"/>
            <a:ext cx="2066760" cy="2286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4"/>
          <p:cNvSpPr/>
          <p:nvPr/>
        </p:nvSpPr>
        <p:spPr>
          <a:xfrm>
            <a:off x="3125880" y="350424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c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ARLY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Zacharias Janss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made 1st compound microscop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utch maker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ading glass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lat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1500’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zacharias_janssen"/>
          <p:cNvPicPr/>
          <p:nvPr/>
        </p:nvPicPr>
        <p:blipFill>
          <a:blip r:embed="rId1"/>
          <a:stretch/>
        </p:blipFill>
        <p:spPr>
          <a:xfrm>
            <a:off x="6934320" y="228600"/>
            <a:ext cx="1904760" cy="26193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euwenhoe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scope (mi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600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fi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70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microscope lenses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ages lar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the image was no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Leeuwenhoek"/>
          <p:cNvPicPr/>
          <p:nvPr/>
        </p:nvPicPr>
        <p:blipFill>
          <a:blip r:embed="rId1"/>
          <a:stretch/>
        </p:blipFill>
        <p:spPr>
          <a:xfrm>
            <a:off x="304920" y="1143000"/>
            <a:ext cx="380988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oddington1301"/>
          <p:cNvPicPr/>
          <p:nvPr/>
        </p:nvPicPr>
        <p:blipFill>
          <a:blip r:embed="rId2"/>
          <a:stretch/>
        </p:blipFill>
        <p:spPr>
          <a:xfrm>
            <a:off x="4800600" y="53352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euwenhoek's 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screw for adjusting the height of the object being exam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metal plate serving as the b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a skewer to impale the object and rotate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the lens itself, which was spher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micro1"/>
          <p:cNvPicPr/>
          <p:nvPr/>
        </p:nvPicPr>
        <p:blipFill>
          <a:blip r:embed="rId1"/>
          <a:stretch/>
        </p:blipFill>
        <p:spPr>
          <a:xfrm>
            <a:off x="5562720" y="2057400"/>
            <a:ext cx="2819160" cy="15238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DERN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4190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icroscop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ing on how man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o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ns makes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larged im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s l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wards you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microscope 2"/>
          <p:cNvPicPr/>
          <p:nvPr/>
        </p:nvPicPr>
        <p:blipFill>
          <a:blip r:embed="rId1"/>
          <a:stretch/>
        </p:blipFill>
        <p:spPr>
          <a:xfrm>
            <a:off x="380880" y="1066680"/>
            <a:ext cx="3124440" cy="295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microscope2"/>
          <p:cNvPicPr/>
          <p:nvPr/>
        </p:nvPicPr>
        <p:blipFill>
          <a:blip r:embed="rId2"/>
          <a:stretch/>
        </p:blipFill>
        <p:spPr>
          <a:xfrm>
            <a:off x="5334120" y="1066680"/>
            <a:ext cx="3467160" cy="31244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support"/>
          <p:cNvPicPr/>
          <p:nvPr/>
        </p:nvPicPr>
        <p:blipFill>
          <a:blip r:embed="rId1"/>
          <a:stretch/>
        </p:blipFill>
        <p:spPr>
          <a:xfrm>
            <a:off x="228600" y="3124080"/>
            <a:ext cx="2143080" cy="350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support"/>
          <p:cNvPicPr/>
          <p:nvPr/>
        </p:nvPicPr>
        <p:blipFill>
          <a:blip r:embed="rId2"/>
          <a:stretch/>
        </p:blipFill>
        <p:spPr>
          <a:xfrm>
            <a:off x="228600" y="304920"/>
            <a:ext cx="2143080" cy="212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magnifying_glass_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1371600"/>
            <a:ext cx="1276200" cy="1676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0" y="53316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 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ifying 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ific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hange in appar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d by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OUND 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und 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ple 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yepie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ns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MICROSCOPE"/>
          <p:cNvPicPr/>
          <p:nvPr/>
        </p:nvPicPr>
        <p:blipFill>
          <a:blip r:embed="rId1"/>
          <a:stretch/>
        </p:blipFill>
        <p:spPr>
          <a:xfrm>
            <a:off x="5257800" y="1447920"/>
            <a:ext cx="3886200" cy="4876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P5178E97"/>
          <p:cNvPicPr/>
          <p:nvPr/>
        </p:nvPicPr>
        <p:blipFill>
          <a:blip r:embed="rId2"/>
          <a:stretch/>
        </p:blipFill>
        <p:spPr>
          <a:xfrm>
            <a:off x="304920" y="3276720"/>
            <a:ext cx="2381040" cy="31622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REO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D 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 "/>
          <p:cNvPicPr/>
          <p:nvPr/>
        </p:nvPicPr>
        <p:blipFill>
          <a:blip r:embed="rId1"/>
          <a:stretch/>
        </p:blipFill>
        <p:spPr>
          <a:xfrm>
            <a:off x="5638680" y="1676520"/>
            <a:ext cx="2590920" cy="38098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MAGNIFI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61596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s of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yepie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0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multiplied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ive 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 total magn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agnification"/>
          <p:cNvPicPr/>
          <p:nvPr/>
        </p:nvPicPr>
        <p:blipFill>
          <a:blip r:embed="rId1"/>
          <a:stretch/>
        </p:blipFill>
        <p:spPr>
          <a:xfrm>
            <a:off x="0" y="1522440"/>
            <a:ext cx="5927760" cy="5335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elod32"/>
          <p:cNvPicPr/>
          <p:nvPr/>
        </p:nvPicPr>
        <p:blipFill>
          <a:blip r:embed="rId2"/>
          <a:stretch/>
        </p:blipFill>
        <p:spPr>
          <a:xfrm>
            <a:off x="6095880" y="1676520"/>
            <a:ext cx="304812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elod400"/>
          <p:cNvPicPr/>
          <p:nvPr/>
        </p:nvPicPr>
        <p:blipFill>
          <a:blip r:embed="rId3"/>
          <a:stretch/>
        </p:blipFill>
        <p:spPr>
          <a:xfrm>
            <a:off x="6095880" y="5181480"/>
            <a:ext cx="3048120" cy="1660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elod100"/>
          <p:cNvPicPr/>
          <p:nvPr/>
        </p:nvPicPr>
        <p:blipFill>
          <a:blip r:embed="rId4"/>
          <a:stretch/>
        </p:blipFill>
        <p:spPr>
          <a:xfrm>
            <a:off x="6095880" y="3352680"/>
            <a:ext cx="3048120" cy="15242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23:56:17Z</dcterms:created>
  <dc:creator>Becky</dc:creator>
  <dc:description/>
  <dc:language>en-US</dc:language>
  <cp:lastModifiedBy>LEGION2</cp:lastModifiedBy>
  <dcterms:modified xsi:type="dcterms:W3CDTF">2016-01-11T12:54:21Z</dcterms:modified>
  <cp:revision>17</cp:revision>
  <dc:subject/>
  <dc:title>Ch. 2 “Cells” Section 2: “Viewing Cells”  Pages 47 - 5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33</vt:lpwstr>
  </property>
</Properties>
</file>