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7.png" ContentType="image/png"/>
  <Override PartName="/ppt/media/image33.jpeg" ContentType="image/jpeg"/>
  <Override PartName="/ppt/media/image21.jpeg" ContentType="image/jpeg"/>
  <Override PartName="/ppt/media/image6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4BAB-85E2-4F85-9E66-FD36373ED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. 2 “Cells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2: “Viewing Cells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. 2 “Cells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2: “Viewing Cells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werful; some can magnify up to 1,000,00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magnetic field in a vacuum to bend beam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must be photographed or produced electron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werful; some can magnify up to 1,000,00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magnetic field in a vacuum to bend beam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must be photographed or produced electron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spi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realistic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he surface of specimen can be ob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fly fo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spi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realistic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he surface of specimen can be ob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fly fo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2D image of thinly sliced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ed cell parts (only inside a cell) can be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2D image of thinly sliced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ed cell parts (only inside a cell) can be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 Microscope (ST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ow arrangement of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 Microscope (ST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ow arrangement of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eory resulting from many scientists’ observations &amp;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eory resulting from many scientists’ observations &amp;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basic unit of life is the cell. (Hook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665, an English scientist named Robert Hooke made an improved microscope and viewed thin slices of cork viewing plant cell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oke named what he saw "cells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basic unit of life is the cell. (Hook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665, an English scientist named Robert Hooke made an improved microscope and viewed thin slices of cork viewing plant cell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oke named what he saw "cells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ll living things are made of 1 or mor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ias Schleiden (botanist studying plan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dore Schwann (zoologist studying animals) stated that all living things were made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leid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w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ll living things are made of 1 or mor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ias Schleiden (botanist studying plan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dore Schwann (zoologist studying animals) stated that all living things were made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leid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w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 All cells divide &amp; come from old cells. (Virc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ch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 All cells divide &amp; come from old cells. (Virc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ch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arias Janssen - made 1st compound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tch maker of reading glasses (late 15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arias Janssen - made 1st compound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tch maker of reading glasses (late 15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a simple microscope (mid 16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ed 270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 lenses made images larger but the image was not cl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a simple microscope (mid 16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ed 270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 lenses made images larger but the image was not cl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's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 screw for adjusting the height of the object being exami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metal plate serving as the b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skewer to impale the object and rotate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the lens itself, which was spher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's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 screw for adjusting the height of the object being exami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metal plate serving as the b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skewer to impale the object and rotate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the lens itself, which was spher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is simple or compound depending on how many lenses it 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ns makes an enlarged image &amp; directs light towards you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is simple or compound depending on how many lenses it 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ns makes an enlarged image &amp; directs light towards you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imple microscope has on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a magnifying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is the change in apparent size produced by a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imple microscope has on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a magnifying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is the change in apparent size produced by a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ound microscope has multiple len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yepiece &amp; objective lens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ound microscope has multiple len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yepiece &amp; objective lens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eyepiece (10X) multiplied by objective lenses determine total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eyepiece (10X) multiplied by objective lenses determine total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9D9B-D170-47F1-9B2E-133A2FFB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8D6F-15F4-4349-88E3-B8BCF305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93A7-C1FF-4922-95C1-C21BE95C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C580-ED2B-4401-A3BE-031D08EC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38DD-A217-4D87-A386-A9CEA66F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8FE5-D5E1-4B87-B49A-4F6C13E8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FCFC-CB0A-4E10-BD50-3E5A3500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6EEC-9FFC-4989-B082-FB11AD1B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8F0A-0964-4888-A51F-A59E4DD4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EA61-53E7-4A09-856B-E00954E9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7E09-1C8B-4935-923C-75865FDF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2EED-D71E-4D3C-8D71-632A4409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3244-22AB-419D-A26F-8FB212EB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4228-C456-4496-88EF-1406FBC1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4E7A-62ED-46F6-8A5E-1370A83F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FC84-FFA6-4CB0-83D7-DD9DF1E6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548A-BDCB-45EB-AB42-D2D8C4FE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6AFE-966C-450C-B686-36D2F34D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40B3-6655-4818-BD35-3DD7B14D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EB93-7809-4FB8-9468-7A93C6C8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D32D-BDAC-49C1-A4A4-57FAFFA4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EEA0-B48E-4FDA-B9F3-490D2D18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DF91-A0D3-4C22-BB7C-2B9113EB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3251-005A-42FD-9CCD-AF88813F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E477-0ECC-44CE-88F3-973EBF317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61B2-DB91-411C-BAC6-C699057F1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wpclipart.com/office/supplies/magnifying_glass_01.pn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2362320" y="380880"/>
            <a:ext cx="5333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7632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Arial Black"/>
              </a:rPr>
              <a:t>LESSON 3</a:t>
            </a:r>
            <a:endParaRPr b="0" lang="en-US" sz="2400" spc="1" strike="noStrike">
              <a:ln w="7632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047760"/>
            <a:ext cx="8610480" cy="19126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. 2 “Cells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2: “Viewing Cells” 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LECTRON MICROSCOP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owerfu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some can magnify up t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1,000,000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agnet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ield in a vacuum to bend beams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lectr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s must b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hotograph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produc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lectron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TF20504"/>
          <p:cNvPicPr/>
          <p:nvPr/>
        </p:nvPicPr>
        <p:blipFill>
          <a:blip r:embed="rId1"/>
          <a:stretch/>
        </p:blipFill>
        <p:spPr>
          <a:xfrm>
            <a:off x="5238720" y="1857240"/>
            <a:ext cx="3524400" cy="46958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8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Scanning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ectron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croscope (SEM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76320" y="1219320"/>
            <a:ext cx="5486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microscope image of a spi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6" descr="electron-microscope-spider"/>
          <p:cNvPicPr/>
          <p:nvPr/>
        </p:nvPicPr>
        <p:blipFill>
          <a:blip r:embed="rId1"/>
          <a:stretch/>
        </p:blipFill>
        <p:spPr>
          <a:xfrm>
            <a:off x="5562720" y="1143000"/>
            <a:ext cx="3392280" cy="2438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438_web"/>
          <p:cNvPicPr/>
          <p:nvPr/>
        </p:nvPicPr>
        <p:blipFill>
          <a:blip r:embed="rId2"/>
          <a:stretch/>
        </p:blipFill>
        <p:spPr>
          <a:xfrm>
            <a:off x="5437080" y="3809880"/>
            <a:ext cx="3706920" cy="2438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3"/>
          <p:cNvSpPr/>
          <p:nvPr/>
        </p:nvSpPr>
        <p:spPr>
          <a:xfrm>
            <a:off x="0" y="2971800"/>
            <a:ext cx="5029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realistic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D im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pecimen can be observ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57240" y="61718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microscope image of a fly f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Transmission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ectron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croscope (TEM)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e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2D im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hin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liced speci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ell par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only inside a cell) can be obser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image002"/>
          <p:cNvPicPr/>
          <p:nvPr/>
        </p:nvPicPr>
        <p:blipFill>
          <a:blip r:embed="rId1"/>
          <a:stretch/>
        </p:blipFill>
        <p:spPr>
          <a:xfrm>
            <a:off x="5105520" y="1143000"/>
            <a:ext cx="3524040" cy="541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A montage of transmission electron micrographs"/>
          <p:cNvPicPr/>
          <p:nvPr/>
        </p:nvPicPr>
        <p:blipFill>
          <a:blip r:embed="rId2"/>
          <a:stretch/>
        </p:blipFill>
        <p:spPr>
          <a:xfrm>
            <a:off x="533520" y="4267080"/>
            <a:ext cx="4190760" cy="23623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Scanning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unneling 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croscope (STM)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show arrangement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to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afm"/>
          <p:cNvPicPr/>
          <p:nvPr/>
        </p:nvPicPr>
        <p:blipFill>
          <a:blip r:embed="rId1"/>
          <a:stretch/>
        </p:blipFill>
        <p:spPr>
          <a:xfrm>
            <a:off x="4648320" y="1752480"/>
            <a:ext cx="4419360" cy="4695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STM-med"/>
          <p:cNvPicPr/>
          <p:nvPr/>
        </p:nvPicPr>
        <p:blipFill>
          <a:blip r:embed="rId2"/>
          <a:stretch/>
        </p:blipFill>
        <p:spPr>
          <a:xfrm>
            <a:off x="304920" y="3429000"/>
            <a:ext cx="4114800" cy="32004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THEOR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eory resulting from many scientists’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serv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639960" y="-7456320"/>
          <a:ext cx="2455920" cy="5151240"/>
        </p:xfrm>
        <a:graphic>
          <a:graphicData uri="http://schemas.openxmlformats.org/drawingml/2006/table">
            <a:tbl>
              <a:tblPr/>
              <a:tblGrid>
                <a:gridCol w="819360"/>
                <a:gridCol w="817560"/>
                <a:gridCol w="819000"/>
              </a:tblGrid>
              <a:tr h="3997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9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0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chw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chlei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Virch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5" name="Picture 5" descr="cell%20%201"/>
          <p:cNvPicPr/>
          <p:nvPr/>
        </p:nvPicPr>
        <p:blipFill>
          <a:blip r:embed="rId1"/>
          <a:stretch/>
        </p:blipFill>
        <p:spPr>
          <a:xfrm>
            <a:off x="3730680" y="-7045200"/>
            <a:ext cx="1714320" cy="1571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ell%20%202"/>
          <p:cNvPicPr/>
          <p:nvPr/>
        </p:nvPicPr>
        <p:blipFill>
          <a:blip r:embed="rId2"/>
          <a:stretch/>
        </p:blipFill>
        <p:spPr>
          <a:xfrm>
            <a:off x="3913200" y="-6188040"/>
            <a:ext cx="1590840" cy="1685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cell%20%203"/>
          <p:cNvPicPr/>
          <p:nvPr/>
        </p:nvPicPr>
        <p:blipFill>
          <a:blip r:embed="rId3"/>
          <a:stretch/>
        </p:blipFill>
        <p:spPr>
          <a:xfrm>
            <a:off x="4095720" y="-5487840"/>
            <a:ext cx="1409760" cy="17524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8"/>
          <p:cNvSpPr/>
          <p:nvPr/>
        </p:nvSpPr>
        <p:spPr>
          <a:xfrm>
            <a:off x="609480" y="32767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0" descr="cell%20%201"/>
          <p:cNvPicPr/>
          <p:nvPr/>
        </p:nvPicPr>
        <p:blipFill>
          <a:blip r:embed="rId4"/>
          <a:stretch/>
        </p:blipFill>
        <p:spPr>
          <a:xfrm>
            <a:off x="685800" y="3733920"/>
            <a:ext cx="1714680" cy="1571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2" descr="cell%20%202"/>
          <p:cNvPicPr/>
          <p:nvPr/>
        </p:nvPicPr>
        <p:blipFill>
          <a:blip r:embed="rId5"/>
          <a:stretch/>
        </p:blipFill>
        <p:spPr>
          <a:xfrm>
            <a:off x="3581280" y="2971800"/>
            <a:ext cx="1590840" cy="1685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4" descr="cell%20%203"/>
          <p:cNvPicPr/>
          <p:nvPr/>
        </p:nvPicPr>
        <p:blipFill>
          <a:blip r:embed="rId6"/>
          <a:stretch/>
        </p:blipFill>
        <p:spPr>
          <a:xfrm>
            <a:off x="6324480" y="3581280"/>
            <a:ext cx="1409760" cy="17528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THEO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basic unit of life is t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ok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4100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665, an English scientist nam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ert Hoo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de an improved microscope and viewed thin slices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k viewing plant cell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e named what he sa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cells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cork_cells"/>
          <p:cNvPicPr/>
          <p:nvPr/>
        </p:nvPicPr>
        <p:blipFill>
          <a:blip r:embed="rId1"/>
          <a:stretch/>
        </p:blipFill>
        <p:spPr>
          <a:xfrm>
            <a:off x="5867280" y="1752480"/>
            <a:ext cx="2057400" cy="1219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7723_gottfried_leibniz"/>
          <p:cNvPicPr/>
          <p:nvPr/>
        </p:nvPicPr>
        <p:blipFill>
          <a:blip r:embed="rId2"/>
          <a:stretch/>
        </p:blipFill>
        <p:spPr>
          <a:xfrm>
            <a:off x="3352680" y="4384800"/>
            <a:ext cx="2400480" cy="2361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Hooke's compound microscope, 1665-1675."/>
          <p:cNvPicPr/>
          <p:nvPr/>
        </p:nvPicPr>
        <p:blipFill>
          <a:blip r:embed="rId3"/>
          <a:stretch/>
        </p:blipFill>
        <p:spPr>
          <a:xfrm>
            <a:off x="6400800" y="3200400"/>
            <a:ext cx="2416320" cy="33526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THEO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ll living things are made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or more cel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hi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lei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otanist studying plan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do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wan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zoologist studying animal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d th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living things were made of 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HSmatthi"/>
          <p:cNvPicPr/>
          <p:nvPr/>
        </p:nvPicPr>
        <p:blipFill>
          <a:blip r:embed="rId1"/>
          <a:stretch/>
        </p:blipFill>
        <p:spPr>
          <a:xfrm>
            <a:off x="228600" y="4381560"/>
            <a:ext cx="2171880" cy="23241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>
            <a:off x="2439000" y="60948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leid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7" descr="schwann"/>
          <p:cNvPicPr/>
          <p:nvPr/>
        </p:nvPicPr>
        <p:blipFill>
          <a:blip r:embed="rId2"/>
          <a:stretch/>
        </p:blipFill>
        <p:spPr>
          <a:xfrm>
            <a:off x="6400800" y="3809880"/>
            <a:ext cx="2071800" cy="23241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5032440" y="56386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w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THEO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ll cells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vid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&amp; come from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old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cells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Virchow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virchow"/>
          <p:cNvPicPr/>
          <p:nvPr/>
        </p:nvPicPr>
        <p:blipFill>
          <a:blip r:embed="rId1"/>
          <a:stretch/>
        </p:blipFill>
        <p:spPr>
          <a:xfrm>
            <a:off x="914400" y="1752480"/>
            <a:ext cx="2066760" cy="2286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4"/>
          <p:cNvSpPr/>
          <p:nvPr/>
        </p:nvSpPr>
        <p:spPr>
          <a:xfrm>
            <a:off x="3125880" y="3504240"/>
            <a:ext cx="13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rc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ARLY MICROSCOP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Zacharias Janss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made 1st compound microscop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utch maker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ading glass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lat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1500’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zacharias_janssen"/>
          <p:cNvPicPr/>
          <p:nvPr/>
        </p:nvPicPr>
        <p:blipFill>
          <a:blip r:embed="rId1"/>
          <a:stretch/>
        </p:blipFill>
        <p:spPr>
          <a:xfrm>
            <a:off x="6934320" y="228600"/>
            <a:ext cx="1904760" cy="261936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euwenhoe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croscope (mi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600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ifi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70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microscope lenses ma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ages lar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the image was no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Leeuwenhoek"/>
          <p:cNvPicPr/>
          <p:nvPr/>
        </p:nvPicPr>
        <p:blipFill>
          <a:blip r:embed="rId1"/>
          <a:stretch/>
        </p:blipFill>
        <p:spPr>
          <a:xfrm>
            <a:off x="304920" y="1143000"/>
            <a:ext cx="380988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coddington1301"/>
          <p:cNvPicPr/>
          <p:nvPr/>
        </p:nvPicPr>
        <p:blipFill>
          <a:blip r:embed="rId2"/>
          <a:stretch/>
        </p:blipFill>
        <p:spPr>
          <a:xfrm>
            <a:off x="4800600" y="533520"/>
            <a:ext cx="4114800" cy="25146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euwenhoek's micro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a screw for adjusting the height of the object being exami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a metal plate serving as the b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a skewer to impale the object and rotate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the lens itself, which was spher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micro1"/>
          <p:cNvPicPr/>
          <p:nvPr/>
        </p:nvPicPr>
        <p:blipFill>
          <a:blip r:embed="rId1"/>
          <a:stretch/>
        </p:blipFill>
        <p:spPr>
          <a:xfrm>
            <a:off x="5562720" y="2057400"/>
            <a:ext cx="2819160" cy="15238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DERN MICROSCOP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41907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icroscope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pending on how man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co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ns makes 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larged im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s l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wards you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microscope 2"/>
          <p:cNvPicPr/>
          <p:nvPr/>
        </p:nvPicPr>
        <p:blipFill>
          <a:blip r:embed="rId1"/>
          <a:stretch/>
        </p:blipFill>
        <p:spPr>
          <a:xfrm>
            <a:off x="380880" y="1066680"/>
            <a:ext cx="3124440" cy="2951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microscope2"/>
          <p:cNvPicPr/>
          <p:nvPr/>
        </p:nvPicPr>
        <p:blipFill>
          <a:blip r:embed="rId2"/>
          <a:stretch/>
        </p:blipFill>
        <p:spPr>
          <a:xfrm>
            <a:off x="5334120" y="1066680"/>
            <a:ext cx="3467160" cy="31244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support"/>
          <p:cNvPicPr/>
          <p:nvPr/>
        </p:nvPicPr>
        <p:blipFill>
          <a:blip r:embed="rId1"/>
          <a:stretch/>
        </p:blipFill>
        <p:spPr>
          <a:xfrm>
            <a:off x="228600" y="3124080"/>
            <a:ext cx="2143080" cy="350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support"/>
          <p:cNvPicPr/>
          <p:nvPr/>
        </p:nvPicPr>
        <p:blipFill>
          <a:blip r:embed="rId2"/>
          <a:stretch/>
        </p:blipFill>
        <p:spPr>
          <a:xfrm>
            <a:off x="228600" y="304920"/>
            <a:ext cx="2143080" cy="2124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magnifying_glass_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1371600"/>
            <a:ext cx="1276200" cy="16765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0" y="533160"/>
            <a:ext cx="6477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 micro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gnifying g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gnifica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change in appar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ed by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cro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OUND MICRO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und micro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ltiple le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yepie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ns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MICROSCOPE"/>
          <p:cNvPicPr/>
          <p:nvPr/>
        </p:nvPicPr>
        <p:blipFill>
          <a:blip r:embed="rId1"/>
          <a:stretch/>
        </p:blipFill>
        <p:spPr>
          <a:xfrm>
            <a:off x="5257800" y="1447920"/>
            <a:ext cx="3886200" cy="4876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P5178E97"/>
          <p:cNvPicPr/>
          <p:nvPr/>
        </p:nvPicPr>
        <p:blipFill>
          <a:blip r:embed="rId2"/>
          <a:stretch/>
        </p:blipFill>
        <p:spPr>
          <a:xfrm>
            <a:off x="304920" y="3276720"/>
            <a:ext cx="2381040" cy="31622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EREOMICRO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67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D 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 "/>
          <p:cNvPicPr/>
          <p:nvPr/>
        </p:nvPicPr>
        <p:blipFill>
          <a:blip r:embed="rId1"/>
          <a:stretch/>
        </p:blipFill>
        <p:spPr>
          <a:xfrm>
            <a:off x="5638680" y="1676520"/>
            <a:ext cx="2590920" cy="38098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MAGNIFI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61596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s of 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yepie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0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multiplied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jective le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ermine total magn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Magnification"/>
          <p:cNvPicPr/>
          <p:nvPr/>
        </p:nvPicPr>
        <p:blipFill>
          <a:blip r:embed="rId1"/>
          <a:stretch/>
        </p:blipFill>
        <p:spPr>
          <a:xfrm>
            <a:off x="0" y="1522440"/>
            <a:ext cx="5927760" cy="5335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elod32"/>
          <p:cNvPicPr/>
          <p:nvPr/>
        </p:nvPicPr>
        <p:blipFill>
          <a:blip r:embed="rId2"/>
          <a:stretch/>
        </p:blipFill>
        <p:spPr>
          <a:xfrm>
            <a:off x="6095880" y="1676520"/>
            <a:ext cx="304812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elod400"/>
          <p:cNvPicPr/>
          <p:nvPr/>
        </p:nvPicPr>
        <p:blipFill>
          <a:blip r:embed="rId3"/>
          <a:stretch/>
        </p:blipFill>
        <p:spPr>
          <a:xfrm>
            <a:off x="6095880" y="5181480"/>
            <a:ext cx="3048120" cy="1660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elod100"/>
          <p:cNvPicPr/>
          <p:nvPr/>
        </p:nvPicPr>
        <p:blipFill>
          <a:blip r:embed="rId4"/>
          <a:stretch/>
        </p:blipFill>
        <p:spPr>
          <a:xfrm>
            <a:off x="6095880" y="3352680"/>
            <a:ext cx="3048120" cy="152424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23:56:17Z</dcterms:created>
  <dc:creator>Becky</dc:creator>
  <dc:description/>
  <dc:language>en-US</dc:language>
  <cp:lastModifiedBy>LEGION2</cp:lastModifiedBy>
  <dcterms:modified xsi:type="dcterms:W3CDTF">2016-01-11T12:54:21Z</dcterms:modified>
  <cp:revision>17</cp:revision>
  <dc:subject/>
  <dc:title>Ch. 2 “Cells” Section 2: “Viewing Cells”  Pages 47 - 5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33</vt:lpwstr>
  </property>
</Properties>
</file>