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EC20-7D01-46C8-AA9D-606D142A734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, 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s 13 through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lements in Group 13 are all metals except boron, which is a brittle, black metallo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okware made with boron can be moved directly from the refrigerator into the oven without crack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 13—The Boron Fam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v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uminum is used to make soft-drink cans, cookware, siding for homes, and baseball ba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llium is a solid metal, but its melting point is so low that it will melt in your ha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make computer chip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DC2-B4A6-47A2-897A-E14B59FED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78B9-97DB-4985-9D51-8D0387F1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AC17-5290-405F-AD69-9C12F5AE8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D19-F9CF-49B3-BC8D-8447656C8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2DEE-AADA-445B-AF9C-C5DF19DF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F703-21F8-474C-BBF9-EFAA768C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31EE-A3C0-4AA1-A6F8-5B3C583F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760B-4585-4ED4-A013-4E89C15F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FD24-700D-4C01-A36B-01AE7CD0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BE12-9F52-4C14-8742-A41A06532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1BE9-ED9B-48F7-933B-4FB5D472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2F0F-BF18-4B9E-9AA0-7F91DC20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BF665-6363-429D-9098-BF3C274C1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roup 13, the Boron Fami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569600" y="685800"/>
            <a:ext cx="448740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s 13 through 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im23"/>
          <p:cNvPicPr/>
          <p:nvPr/>
        </p:nvPicPr>
        <p:blipFill>
          <a:blip r:embed="rId1"/>
          <a:stretch/>
        </p:blipFill>
        <p:spPr>
          <a:xfrm>
            <a:off x="4606920" y="2193840"/>
            <a:ext cx="3774960" cy="37656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533520" y="1219320"/>
            <a:ext cx="8305560" cy="4345560"/>
            <a:chOff x="533520" y="1219320"/>
            <a:chExt cx="8305560" cy="4345560"/>
          </a:xfrm>
        </p:grpSpPr>
        <p:sp>
          <p:nvSpPr>
            <p:cNvPr id="53" name="Text Box 7"/>
            <p:cNvSpPr/>
            <p:nvPr/>
          </p:nvSpPr>
          <p:spPr>
            <a:xfrm>
              <a:off x="533520" y="1219320"/>
              <a:ext cx="83055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spcAft>
                  <a:spcPts val="799"/>
                </a:spcAft>
                <a:buClr>
                  <a:srgbClr val="000000"/>
                </a:buClr>
                <a:buFont typeface="Times New Roman"/>
                <a:buChar char="•"/>
                <a:tabLst>
                  <a:tab algn="l" pos="228600"/>
                  <a:tab algn="l" pos="194328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The elements in Groups 13-18 are not all solid metals like the elements of Groups 1 and 2.  I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8"/>
            <p:cNvSpPr/>
            <p:nvPr/>
          </p:nvSpPr>
          <p:spPr>
            <a:xfrm>
              <a:off x="863640" y="2058840"/>
              <a:ext cx="3784680" cy="35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Times New Roman"/>
                </a:rPr>
                <a:t>fact, a single group can contain metals, nonmetals, and metalloids and have members that are solids, liquids, and gase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295280"/>
            <a:ext cx="4724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ments in Group 13 are all metals except boron, which is a brittle, black metallo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3276720"/>
            <a:ext cx="4495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okware made with boron can be moved directly from the refrigerator into the oven without cracking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571040" y="685800"/>
            <a:ext cx="60847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ca22"/>
                </a:solidFill>
                <a:latin typeface="Times New Roman"/>
              </a:rPr>
              <a:t>Group 13—The Boron Famil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2747520" y="0"/>
            <a:ext cx="358380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cca22"/>
                </a:solidFill>
                <a:latin typeface="Arial"/>
              </a:rPr>
              <a:t>Representative E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533520" y="12952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uminum is used to make soft-drink cans, cookware, siding for homes, and baseball bat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3520" y="3124080"/>
            <a:ext cx="49528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allium is a solid metal, but its melting point is so low that it will melt in your ha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3520" y="4952880"/>
            <a:ext cx="4876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•"/>
              <a:tabLst>
                <a:tab algn="l" pos="228600"/>
                <a:tab algn="l" pos="1943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used to make computer chip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im24 aluminum beams"/>
          <p:cNvPicPr/>
          <p:nvPr/>
        </p:nvPicPr>
        <p:blipFill>
          <a:blip r:embed="rId1"/>
          <a:stretch/>
        </p:blipFill>
        <p:spPr>
          <a:xfrm>
            <a:off x="5562720" y="1346040"/>
            <a:ext cx="2895480" cy="44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21:15:40Z</dcterms:created>
  <dc:creator>CIC1</dc:creator>
  <dc:description/>
  <dc:language>en-US</dc:language>
  <cp:lastModifiedBy>RomaK</cp:lastModifiedBy>
  <dcterms:modified xsi:type="dcterms:W3CDTF">2015-09-01T16:26:31Z</dcterms:modified>
  <cp:revision>6</cp:revision>
  <dc:subject/>
  <dc:title>Group 13, the Boron Family</dc:title>
</cp:coreProperties>
</file>