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0E34-AE2E-4A55-B226-813B412FB2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CE0-E78A-40E8-9A1D-33D2DD95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BB6-149E-44ED-94D9-4B4E052F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4BC-DBCF-43AC-93C7-962B04EF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336-4274-4F39-8B48-40E3F823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8801-89DD-4E5A-A71E-0FF497E8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66D9-EDAD-4DA8-B611-9073C42D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70A-A09E-45AD-A24E-2BC49F88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C02-85BA-48B7-A52B-FE8E9847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8BFC-1C74-41F9-ADAB-91DEE1265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352-C5AB-4483-8A2E-9B119152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33B-0009-4160-9A56-48291538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0220-2BB8-4B62-AE8C-F8FFBC78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68F9-F3AF-405A-8BB3-FE7F4E59C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3, the Boro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448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s 13 through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23"/>
          <p:cNvPicPr/>
          <p:nvPr/>
        </p:nvPicPr>
        <p:blipFill>
          <a:blip r:embed="rId1"/>
          <a:stretch/>
        </p:blipFill>
        <p:spPr>
          <a:xfrm>
            <a:off x="4606920" y="2193840"/>
            <a:ext cx="3774960" cy="3765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533520" y="1219320"/>
            <a:ext cx="8305560" cy="4345560"/>
            <a:chOff x="533520" y="1219320"/>
            <a:chExt cx="8305560" cy="4345560"/>
          </a:xfrm>
        </p:grpSpPr>
        <p:sp>
          <p:nvSpPr>
            <p:cNvPr id="53" name="Text Box 7"/>
            <p:cNvSpPr/>
            <p:nvPr/>
          </p:nvSpPr>
          <p:spPr>
            <a:xfrm>
              <a:off x="533520" y="1219320"/>
              <a:ext cx="83055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elements in Groups 13-18 are not all solid metals like the elements of Groups 1 and 2.  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863640" y="2058840"/>
              <a:ext cx="37846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act, a single group can contain metals, nonmetals, and metalloids and have members that are solids, liquids, and gas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29528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in Group 13 are all metals except boron, which is a brittle, black metallo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3276720"/>
            <a:ext cx="4495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ware made with boron can be moved directly from the refrigerator into the oven without crack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3520" y="12952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 is used to make soft-drink cans, cookware, siding for homes, and baseball bat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3520" y="31240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lium is a solid metal, but its melting point is so low that it will melt in your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3520" y="4952880"/>
            <a:ext cx="4876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to make computer chip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5:40Z</dcterms:created>
  <dc:creator>CIC1</dc:creator>
  <dc:description/>
  <dc:language>en-US</dc:language>
  <cp:lastModifiedBy>RomaK</cp:lastModifiedBy>
  <dcterms:modified xsi:type="dcterms:W3CDTF">2015-09-01T16:26:31Z</dcterms:modified>
  <cp:revision>6</cp:revision>
  <dc:subject/>
  <dc:title>Group 13, the Boron Family</dc:title>
</cp:coreProperties>
</file>