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85A8-A254-412B-9B2A-E192F3C959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iology Core Princip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iology Core Princi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or tissues are killed and chemically ‘fixed’ in a complicated and harsh treatment (in full detail in table 3.1 pg 52 Rowlan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is differ to light microscop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eatment can result in alterations to the cell - known as artefa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is mean for the images produced?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or tissues are killed and chemically ‘fixed’ in a complicated and harsh treatment (in full detail in table 3.1 pg 52 Rowla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is differ to light microscop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eatment can result in alterations to the cell - known as arte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is mean for the images produc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graph of epithelial cells from a rat small intestin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 bar = 5 m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graph of epithelial cells from a rat small intest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 bar = 5 m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canning EM microscopes the electrons bounce off the surface of the specim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images with a three-dimensional appeara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 detailed study of surfa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canning EM microscopes the electrons bounce off the surface of the speci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images with a three-dimensional appea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 detailed study of su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watch the following clip explaining S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watch the following clip explaining S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learn.co.uk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microscopy-uk.org.uk/intro/index.htm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mwrn.com/feature/education.as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feic.com/support/tem/transmis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anka.livstek.lth.se:2080/microscopy/foodmicr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learn.co.uk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microscopy-uk.org.uk/intro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mwrn.com/feature/education.a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feic.com/support/tem/transmi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anka.livstek.lth.se:2080/microscopy/foodmic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&amp; Electron Microsco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&amp; complete the following tab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&amp; Electron Micro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&amp; complete the following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lving power of light &amp; electron microsco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the light &amp; electron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&amp; scanning electron microscop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lving power of light &amp; electron micro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the light &amp; 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&amp; scanning electron micros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s magnify &amp; resolve im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y began in 1665 when Robert Hooke coined the word ‘cells’ to describe the structure of c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know about 2 types of microscope - light &amp; elect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know how they work and the differences between th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not how much they magnify that is key - but how well they resolve…’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s magnify &amp; resolv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y began in 1665 when Robert Hooke coined the word ‘cells’ to describe the structure of c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know about 2 types of microscope - light &amp;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know how they work and the differences between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not how much they magnify that is key - but how well they resolve…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it of resolution of a microscope is the smallest distance between 2 points that can be seen using a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measure of the clarity of the im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cope with a high resolving power will allow 2 small objects which are close together to be seen as 2 distinct obj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it of resolution of a microscope is the smallest distance between 2 points that can be seen using a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measure of the clarity of the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cope with a high resolving power will allow 2 small objects which are close together to be seen as 2 distinct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 is inversely proportional to the wavelength of the radiation it u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 is inversely proportional to the wavelength of the radiation it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lenses through which ordinary white light can be focus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microscopes can not resolve 2 points closer together than about half (0.45) the wavelength of the light used (450-600n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lose is thi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lenses through which ordinary white light can be foc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microscopes can not resolve 2 points closer together than about half (0.45) the wavelength of the light used (450-600n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lo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gnification is the eyepiece magnification multiplied by the objective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um magnification of a light microscope is x1500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it be used fo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it not be used fo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gnification is the eyepiece magnification multiplied by the objective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um magnification of a light microscope is x15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it be used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it not be used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(negatively charged, very small particles) can behave as wav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length of electrons is about 0.005n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is mean for the limit of resolution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are ‘fired’ from an electron gun at the specimen and onto a fluorescent screen or photographic pla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is technique commonly us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2 types of electron microscopy - transmission and scann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cus an electron beam onto the specimen using electromagne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(negatively charged, very small particles) can behave as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length of electrons is about 0.005n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is mean for the limit of re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are ‘fired’ from an electron gun at the specimen and onto a fluorescent screen or photographic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is technique commonl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2 types of electron microscopy - transmission and sca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cus an electron beam onto the specimen using electromag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ransmission EM the electrons pass through the specim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men needs to be extremely thin - 10nm to 100n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 can magnify objects up to 500 000 ti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 has made it possible to see the details of and discover new organelles - see page 9 in Colli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ransmission EM the electrons pass through the speci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men needs to be extremely thin - 10nm to 100n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 can magnify objects up to 500 000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 has made it possible to see the details of and discover new organelles - see page 9 in Coll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BEAA-24F8-45CE-B44B-D0A909085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21B5-02EA-443B-B49B-F676B8A8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72DE-5AA5-456C-952C-F69E04E3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B0A7-1D76-44AA-8F71-4419C0F33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17F1-E190-453C-B27F-620A1DED3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59C4-F013-43B5-8503-F8226B65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6AA5-38AD-4508-9821-9DA16A1D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C36D-9872-48BA-87B5-8569EB1D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6FE1-8720-4464-9B59-38CAC193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639F-B819-42B8-90A3-478833E3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62C6-4308-4B21-A047-124D758F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55CE-092A-4855-A66A-B319610B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BDEB-BCB3-4F67-B629-22F5765E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0ADB-8C16-43DB-9CB7-21EBAD41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4293-22C6-475D-9C27-0DAAAFF2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E8DB-A073-4C9D-9A49-4BA54BB29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42EC-6AEA-4C31-BE2D-65711700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86A2-3B75-4566-8AB3-77DB9E37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493E-F840-40AF-87F3-DFCCDF3A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D91C-158D-4386-B484-6F1FECA0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6E1B-E398-4299-B48C-49B08554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1169-7976-4856-935C-5EA10F39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28D3-5262-4C9B-B55A-D1984D96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9C6A-88B7-4997-9EF2-0C9543A0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ff1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1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8DC9-C340-47FE-A08B-6F123D6E0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ff1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1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D84C-FF92-4AED-B5CA-88804986F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833616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AS Biology </a:t>
            </a: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Core Principle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6881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Electron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8" presetSubtype="130116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0" presetSubtype="130122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ransmission Electron Microscope (T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5379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lls or tissues are killed and chemically ‘fixed’ in a complicated and harsh treatment (in full detail in table 3.1 pg 52 Rowlan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does this differ to light microscop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treatment can result in alterations to the cell - known as artefa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will this mean for the images produced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6694560" y="1676520"/>
            <a:ext cx="1839960" cy="45720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ransmission Electron Microscope (T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rcRect l="0" t="0" r="0" b="7411"/>
          <a:stretch/>
        </p:blipFill>
        <p:spPr>
          <a:xfrm>
            <a:off x="3352680" y="2260440"/>
            <a:ext cx="2708280" cy="35816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6248520" y="4470480"/>
            <a:ext cx="2133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ransmission electron micrograph of epithelial cells from a rat small intestine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cale bar = 5 mm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Scanning Electron Microscope (S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Scanning EM microscopes the electrons bounce off the surface of the speci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duce images with a three-dimensional appea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 detailed study of surfa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rcRect l="0" t="8390" r="0" b="10688"/>
          <a:stretch/>
        </p:blipFill>
        <p:spPr>
          <a:xfrm>
            <a:off x="5562720" y="2666880"/>
            <a:ext cx="3382920" cy="236880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Scanning Electron Microscope (S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79" name="sem.mov" descr="sem"/>
          <p:cNvPicPr/>
          <p:nvPr/>
        </p:nvPicPr>
        <p:blipFill>
          <a:blip r:embed="rId1"/>
          <a:stretch/>
        </p:blipFill>
        <p:spPr>
          <a:xfrm>
            <a:off x="2971800" y="2819520"/>
            <a:ext cx="4064040" cy="30477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"/>
          <p:cNvSpPr/>
          <p:nvPr/>
        </p:nvSpPr>
        <p:spPr>
          <a:xfrm>
            <a:off x="1295280" y="19810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w watch the following clip explaining S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Scanning Electron Microscope (S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2819520" y="2590920"/>
            <a:ext cx="4495680" cy="30528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Link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4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learn.co.uk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microscopy-uk.org.uk/intro/index.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mwrn.com/feature/education.as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www.feic.com/support/tem/transmis.ht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anka.livstek.lth.se:2080/microscopy/foodmicr.ht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Light &amp; Electron Microscope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447920" y="2209680"/>
          <a:ext cx="7010280" cy="4297320"/>
        </p:xfrm>
        <a:graphic>
          <a:graphicData uri="http://schemas.openxmlformats.org/drawingml/2006/table">
            <a:tbl>
              <a:tblPr/>
              <a:tblGrid>
                <a:gridCol w="2336760"/>
                <a:gridCol w="2336760"/>
                <a:gridCol w="23367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ght Micro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ctron Micro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ation 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ation 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ure of len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ses 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age se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ation me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gn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mit of re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at it can sh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Text Box 67"/>
          <p:cNvSpPr/>
          <p:nvPr/>
        </p:nvSpPr>
        <p:spPr>
          <a:xfrm>
            <a:off x="1371600" y="15238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py &amp; complete the following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Aim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olving pow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esolving power of light &amp; electron microscop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difference between the light &amp; electron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mission &amp; scanning electron microscop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97168" presetSubtype="202076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97168" presetSubtype="202076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97168" presetSubtype="202076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97168" presetSubtype="202076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" dur="1" fill="hold"/>
                                  <p:tgtEl>
                                    <p:spTgt spid="13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Introduction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croscopes magnify &amp; resolve im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croscopy began in 1665 when Robert Hooke coined the word ‘cells’ to describe the structure of c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need to know about 2 types of microscope - light &amp; elect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need to know how they work and the differences between t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s not how much they magnify that is key - but how well they resolve…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Resolving Power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mit of resolution of a microscope is the smallest distance between 2 points that can be seen using a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s a measure of the clarity of the im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microscope with a high resolving power will allow 2 small objects which are close together to be seen as 2 distinct obj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Resolving Power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olving power is inversely proportional to the wavelength of the radiation it u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2819520" y="4191120"/>
            <a:ext cx="4019400" cy="167796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97168" presetSubtype="202246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he Light Microscop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2880" y="1600200"/>
            <a:ext cx="4694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ies of lenses through which ordinary white light can be foc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tical microscopes can not resolve 2 points closer together than about half (0.45) the wavelength of the light used (450-600n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close is thi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5925960" y="1752480"/>
            <a:ext cx="3065760" cy="41148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he Light Microscop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4648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otal magnification is the eyepiece magnification multiplied by the objective magn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ximum magnification of a light microscope is x1500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can it be used fo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can it not be used fo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5925960" y="1752480"/>
            <a:ext cx="3065760" cy="41148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he Electron Microscop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42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trons (negatively charged, very small particles) can behave as wa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wavelength of electrons is about 0.005n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will this mean for the limit of resolu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trons are ‘fired’ from an electron gun at the specimen and onto a fluorescent screen or photographic pl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re is this technique commonly use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2 types of electron microscopy - transmission and sca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th focus an electron beam onto the specimen using electromagn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ransmission Electron Microscope (T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2880" y="1828800"/>
            <a:ext cx="5303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ransmission EM the electrons pass through the speci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men needs to be extremely thin - 10nm to 100n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M can magnify objects up to 500 000 ti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M has made it possible to see the details of and discover new organelles - see page 9 in Coll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6694560" y="1676520"/>
            <a:ext cx="1839960" cy="457200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22:16:20Z</dcterms:created>
  <dc:creator>Fearghal Kelly</dc:creator>
  <dc:description/>
  <dc:language>en-US</dc:language>
  <cp:lastModifiedBy>LEGION2</cp:lastModifiedBy>
  <dcterms:modified xsi:type="dcterms:W3CDTF">2016-01-11T13:18:03Z</dcterms:modified>
  <cp:revision>33</cp:revision>
  <dc:subject/>
  <dc:title>AS Biology Core Principles</dc:title>
</cp:coreProperties>
</file>