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FB294-5471-4D15-98A7-22F3BEB004F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iology Core Principl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lectron Microscop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iology Core Princi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lectron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Electron Microscope (TE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 or tissues are killed and chemically ‘fixed’ in a complicated and harsh treatment (in full detail in table 3.1 pg 52 Rowland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this differ to light microscopy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reatment can result in alterations to the cell - known as artefac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ill this mean for the images produced?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Electron Microscope (T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 or tissues are killed and chemically ‘fixed’ in a complicated and harsh treatment (in full detail in table 3.1 pg 52 Rowlan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this differ to light microscop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reatment can result in alterations to the cell - known as artef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ill this mean for the images produced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Electron Microscope (TE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electron micrograph of epithelial cells from a rat small intestine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le bar = 5 mm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Electron Microscope (T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electron micrograph of epithelial cells from a rat small intestin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le bar = 5 m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Electron Microscope (SE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canning EM microscopes the electrons bounce off the surface of the specime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 images with a three-dimensional appearan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w detailed study of surfac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Electron Microscope (S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canning EM microscopes the electrons bounce off the surface of the speci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 images with a three-dimensional appea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w detailed study of su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Electron Microscope (SE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watch the following clip explaining S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Electron Microscope (S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watch the following clip explaining S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anning Electron Microscope (SE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anning Electron Microscope (S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nk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learn.co.uk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microscopy-uk.org.uk/intro/index.htm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mwrn.com/feature/education.asp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feic.com/support/tem/transmis.ht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anka.livstek.lth.se:2080/microscopy/foodmicr.ht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learn.co.uk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microscopy-uk.org.uk/intro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mwrn.com/feature/education.a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feic.com/support/tem/transmis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anka.livstek.lth.se:2080/microscopy/foodmicr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&amp; Electron Microscop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 &amp; complete the following tab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&amp; Electron Micro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 &amp; complete the following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ving pow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olving power of light &amp; electron microscop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fference between the light &amp; electron microscop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&amp; scanning electron microscop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ving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olving power of light &amp; electron micro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fference between the light &amp; electron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&amp; scanning electron microscop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scopes magnify &amp; resolve im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scopy began in 1665 when Robert Hooke coined the word ‘cells’ to describe the structure of c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need to know about 2 types of microscope - light &amp; electr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need to know how they work and the differences between th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not how much they magnify that is key - but how well they resolve…’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scopes magnify &amp; resolve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scopy began in 1665 when Robert Hooke coined the word ‘cells’ to describe the structure of c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need to know about 2 types of microscope - light &amp; elec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need to know how they work and the differences between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not how much they magnify that is key - but how well they resolve…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ving Pow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mit of resolution of a microscope is the smallest distance between 2 points that can be seen using a microscop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measure of the clarity of the im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icroscope with a high resolving power will allow 2 small objects which are close together to be seen as 2 distinct objec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ving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mit of resolution of a microscope is the smallest distance between 2 points that can be seen using a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measure of the clarity of the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icroscope with a high resolving power will allow 2 small objects which are close together to be seen as 2 distinct o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ving Pow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ving power is inversely proportional to the wavelength of the radiation it us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ving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ving power is inversely proportional to the wavelength of the radiation it u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ght Microscop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es of lenses through which ordinary white light can be focus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al microscopes can not resolve 2 points closer together than about half (0.45) the wavelength of the light used (450-600n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lose is this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ght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es of lenses through which ordinary white light can be focu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al microscopes can not resolve 2 points closer together than about half (0.45) the wavelength of the light used (450-600n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lose is th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ght Microscop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tal magnification is the eyepiece magnification multiplied by the objective magnific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ximum magnification of a light microscope is x1500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an it be used for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an it not be used for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ght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tal magnification is the eyepiece magnification multiplied by the objective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ximum magnification of a light microscope is x15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an it be used fo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an it not be used fo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lectron Microscop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(negatively charged, very small particles) can behave as wav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velength of electrons is about 0.005n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ill this mean for the limit of resolution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are ‘fired’ from an electron gun at the specimen and onto a fluorescent screen or photographic pla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is this technique commonly used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2 types of electron microscopy - transmission and scann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focus an electron beam onto the specimen using electromagne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lectron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(negatively charged, very small particles) can behave as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velength of electrons is about 0.005n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ill this mean for the limit of resolu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are ‘fired’ from an electron gun at the specimen and onto a fluorescent screen or photographic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is this technique commonly us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2 types of electron microscopy - transmission and scan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focus an electron beam onto the specimen using electromag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Electron Microscope (TE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ransmission EM the electrons pass through the specime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men needs to be extremely thin - 10nm to 100n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 can magnify objects up to 500 000 tim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 has made it possible to see the details of and discover new organelles - see page 9 in Colli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Electron Microscope (T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ransmission EM the electrons pass through the speci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men needs to be extremely thin - 10nm to 100n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 can magnify objects up to 500 000 t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 has made it possible to see the details of and discover new organelles - see page 9 in Coll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5AA4-C844-4F28-90AC-B758DB6F9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FA1D-B8E2-4970-A50C-03CE79E89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FCC9-0399-48FB-9172-92D9BF3AC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5108-BBEE-4D9C-9DE5-31EB45489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11985-C199-469B-81F7-75DB61DE6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093AB-2BB7-453B-A7E9-D11BD61B3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77A89-D9AE-405F-968A-67E5CDA27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1FA19-1483-4729-B714-9D0DA3AC7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A18D7-3D99-4711-80C6-E941F1FDC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A5394-876B-4DBC-AC98-43D2E43B8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CAABA-5EFB-4645-8B70-E466143CD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3895-39B6-4735-907D-D140A793F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003A9-5779-461C-916C-10C1704E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6070A-07E9-4D8A-8D3E-EB58431AE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28183-8AFA-48A3-92E0-98ACEF2B1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99B8E-1A0C-4E88-BF3A-76B901835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CD203-726A-4CE2-98A2-ED7CD2F9E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7EA0-E1F6-40B2-B302-78CEAB543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692A-345B-4B56-9FF6-6F25A4088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DEBF-B3A9-4FD1-823C-7AED52487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3116-C300-4EFE-9980-7CF7B2694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A0EE-7FA8-4BE6-9DAD-0871A28F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32F5-3334-42CE-8EDE-18368AB81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259F-9391-4603-8306-3A621A0B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ff1c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1c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D8DD0-2000-47AE-A6CA-DB7BC7DFAB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ff1c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1c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6C3BC-EEA1-4A4C-89FA-16A01C1AC7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833616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AS Biology </a:t>
            </a:r>
            <a:r>
              <a:rPr b="1" lang="en-US" sz="4000" spc="-1" strike="noStrike">
                <a:solidFill>
                  <a:srgbClr val="003366"/>
                </a:solidFill>
                <a:latin typeface="Verdana"/>
              </a:rPr>
              <a:t>Core Principles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68817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Electron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8" presetSubtype="130116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0" presetSubtype="130122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Transmission Electron Microscope (TEM)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53798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ells or tissues are killed and chemically ‘fixed’ in a complicated and harsh treatment (in full detail in table 3.1 pg 52 Rowlan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does this differ to light microscopy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treatment can result in alterations to the cell - known as artefa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will this mean for the images produced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8" name="Picture 5" descr=""/>
          <p:cNvPicPr/>
          <p:nvPr/>
        </p:nvPicPr>
        <p:blipFill>
          <a:blip r:embed="rId1"/>
          <a:stretch/>
        </p:blipFill>
        <p:spPr>
          <a:xfrm>
            <a:off x="6694560" y="1676520"/>
            <a:ext cx="1839960" cy="457200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Transmission Electron Microscope (TEM)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71" name="Picture 5" descr=""/>
          <p:cNvPicPr/>
          <p:nvPr/>
        </p:nvPicPr>
        <p:blipFill>
          <a:blip r:embed="rId1"/>
          <a:srcRect l="0" t="0" r="0" b="7411"/>
          <a:stretch/>
        </p:blipFill>
        <p:spPr>
          <a:xfrm>
            <a:off x="3352680" y="2260440"/>
            <a:ext cx="2708280" cy="358164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6"/>
          <p:cNvSpPr/>
          <p:nvPr/>
        </p:nvSpPr>
        <p:spPr>
          <a:xfrm>
            <a:off x="6248520" y="4470480"/>
            <a:ext cx="2133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ransmission electron micrograph of epithelial cells from a rat small intestine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cale bar = 5 mm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Scanning Electron Microscope (SEM)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Scanning EM microscopes the electrons bounce off the surface of the specim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duce images with a three-dimensional appear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ow detailed study of surfa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Picture 5" descr=""/>
          <p:cNvPicPr/>
          <p:nvPr/>
        </p:nvPicPr>
        <p:blipFill>
          <a:blip r:embed="rId1"/>
          <a:srcRect l="0" t="8390" r="0" b="10688"/>
          <a:stretch/>
        </p:blipFill>
        <p:spPr>
          <a:xfrm>
            <a:off x="5562720" y="2666880"/>
            <a:ext cx="3382920" cy="236880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Scanning Electron Microscope (SEM)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79" name="sem.mov" descr="sem"/>
          <p:cNvPicPr/>
          <p:nvPr/>
        </p:nvPicPr>
        <p:blipFill>
          <a:blip r:embed="rId1"/>
          <a:stretch/>
        </p:blipFill>
        <p:spPr>
          <a:xfrm>
            <a:off x="2971800" y="2819520"/>
            <a:ext cx="4064040" cy="304776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7"/>
          <p:cNvSpPr/>
          <p:nvPr/>
        </p:nvSpPr>
        <p:spPr>
          <a:xfrm>
            <a:off x="1295280" y="198108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w watch the following clip explaining S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45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8" dur="1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Scanning Electron Microscope (SEM)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1"/>
          <a:stretch/>
        </p:blipFill>
        <p:spPr>
          <a:xfrm>
            <a:off x="2819520" y="2590920"/>
            <a:ext cx="4495680" cy="305280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Links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42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ww.learn.co.uk/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ww.microscopy-uk.org.uk/intro/index.htm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ww.mwrn.com/feature/education.as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ttp://www.feic.com/support/tem/transmis.ht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ttp://anka.livstek.lth.se:2080/microscopy/foodmicr.ht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Light &amp; Electron Microscopes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447920" y="2209680"/>
          <a:ext cx="7010280" cy="4297320"/>
        </p:xfrm>
        <a:graphic>
          <a:graphicData uri="http://schemas.openxmlformats.org/drawingml/2006/table">
            <a:tbl>
              <a:tblPr/>
              <a:tblGrid>
                <a:gridCol w="2336760"/>
                <a:gridCol w="2336760"/>
                <a:gridCol w="233676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a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ght Microsco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ectron Microsco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diation u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diation sour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ure of len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nses u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age se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diation me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gn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mit of resol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at it can sh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0" name="Text Box 67"/>
          <p:cNvSpPr/>
          <p:nvPr/>
        </p:nvSpPr>
        <p:spPr>
          <a:xfrm>
            <a:off x="1371600" y="15238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py &amp; complete the following t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Aims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olving pow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esolving power of light &amp; electron microscop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difference between the light &amp; electron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mission &amp; scanning electron microscop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97168" presetSubtype="202076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97168" presetSubtype="202076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97168" presetSubtype="202076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97168" presetSubtype="202076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6" dur="1" fill="hold"/>
                                  <p:tgtEl>
                                    <p:spTgt spid="13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Introduction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7324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croscopes magnify &amp; resolve ima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croscopy began in 1665 when Robert Hooke coined the word ‘cells’ to describe the structure of c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ou need to know about 2 types of microscope - light &amp; electr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ou need to know how they work and the differences between th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s not how much they magnify that is key - but how well they resolve…’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Resolving Power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7324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limit of resolution of a microscope is the smallest distance between 2 points that can be seen using a microsco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is a measure of the clarity of the im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microscope with a high resolving power will allow 2 small objects which are close together to be seen as 2 distinct objec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Resolving Power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7324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olving power is inversely proportional to the wavelength of the radiation it u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2819520" y="4191120"/>
            <a:ext cx="4019400" cy="167796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97168" presetSubtype="202246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The Light Microscope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72880" y="1600200"/>
            <a:ext cx="4694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ies of lenses through which ordinary white light can be focu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ptical microscopes can not resolve 2 points closer together than about half (0.45) the wavelength of the light used (450-600n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close is thi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3" name="Picture 5" descr=""/>
          <p:cNvPicPr/>
          <p:nvPr/>
        </p:nvPicPr>
        <p:blipFill>
          <a:blip r:embed="rId1"/>
          <a:stretch/>
        </p:blipFill>
        <p:spPr>
          <a:xfrm>
            <a:off x="5925960" y="1752480"/>
            <a:ext cx="3065760" cy="411480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The Light Microscope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4648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total magnification is the eyepiece magnification multiplied by the objective magnifi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maximum magnification of a light microscope is x1500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can it be used for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can it not be used for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7" name="Picture 5" descr=""/>
          <p:cNvPicPr/>
          <p:nvPr/>
        </p:nvPicPr>
        <p:blipFill>
          <a:blip r:embed="rId1"/>
          <a:stretch/>
        </p:blipFill>
        <p:spPr>
          <a:xfrm>
            <a:off x="5925960" y="1752480"/>
            <a:ext cx="3065760" cy="411480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The Electron Microscope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73240" y="1676520"/>
            <a:ext cx="7742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ectrons (negatively charged, very small particles) can behave as wa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wavelength of electrons is about 0.005n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will this mean for the limit of resolutio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ectrons are ‘fired’ from an electron gun at the specimen and onto a fluorescent screen or photographic pl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re is this technique commonly used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are 2 types of electron microscopy - transmission and scan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oth focus an electron beam onto the specimen using electromagn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Transmission Electron Microscope (TEM)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72880" y="1828800"/>
            <a:ext cx="5303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ransmission EM the electrons pass through the specim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ecimen needs to be extremely thin - 10nm to 100n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M can magnify objects up to 500 000 tim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M has made it possible to see the details of and discover new organelles - see page 9 in Colli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6694560" y="1676520"/>
            <a:ext cx="1839960" cy="457200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9T22:16:20Z</dcterms:created>
  <dc:creator>Fearghal Kelly</dc:creator>
  <dc:description/>
  <dc:language>en-US</dc:language>
  <cp:lastModifiedBy>LEGION2</cp:lastModifiedBy>
  <dcterms:modified xsi:type="dcterms:W3CDTF">2016-01-11T13:18:03Z</dcterms:modified>
  <cp:revision>33</cp:revision>
  <dc:subject/>
  <dc:title>AS Biology Core Principles</dc:title>
</cp:coreProperties>
</file>