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2E4F-D507-437B-8B70-8EE11055C2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DFB-AF74-4D54-AD3E-03166625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CBD-5EEB-4099-ADA2-6F99CE06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70A-F529-4776-ABA9-A65397E1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5DA-6A52-44F5-84D0-2560FD1B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FE0-6B21-48AA-8F42-61C59FE2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FFC-6F9C-4411-BD86-52F40DBD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A87-C428-47D2-9EF8-F4142663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134-8B03-401C-943E-4AF34533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306-3BBD-4AED-B774-AA007BA6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C9B-CA3B-42ED-A06A-604C715A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4054-E619-442F-A442-E125A15D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551F-BD10-4344-976F-A0B95A76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0C3D-D677-4E3C-BA5D-D11C55AA0C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Life Processes and Living things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QA GCSE Science Double Award SPECIFICATION B: Co-ord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liver"/>
          <p:cNvPicPr/>
          <p:nvPr/>
        </p:nvPicPr>
        <p:blipFill>
          <a:blip r:embed="rId1"/>
          <a:stretch/>
        </p:blipFill>
        <p:spPr>
          <a:xfrm>
            <a:off x="468360" y="2637000"/>
            <a:ext cx="4464000" cy="2819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alisade"/>
          <p:cNvPicPr/>
          <p:nvPr/>
        </p:nvPicPr>
        <p:blipFill>
          <a:blip r:embed="rId2"/>
          <a:stretch/>
        </p:blipFill>
        <p:spPr>
          <a:xfrm>
            <a:off x="5005440" y="2228760"/>
            <a:ext cx="3887640" cy="3267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9"/>
          <p:cNvSpPr txBox="1"/>
          <p:nvPr/>
        </p:nvSpPr>
        <p:spPr>
          <a:xfrm>
            <a:off x="1547640" y="1844640"/>
            <a:ext cx="1638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NIAMAL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6732720" y="1052640"/>
            <a:ext cx="93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LA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dditional Material for 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9640" y="1916280"/>
            <a:ext cx="8064720" cy="327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HIGHER 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is question is taken from a past GCS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Give the function of these parts of a plant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loropl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ell w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acu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Cj02902490000[1]"/>
          <p:cNvPicPr/>
          <p:nvPr/>
        </p:nvPicPr>
        <p:blipFill>
          <a:blip r:embed="rId1"/>
          <a:stretch/>
        </p:blipFill>
        <p:spPr>
          <a:xfrm>
            <a:off x="6443640" y="4076640"/>
            <a:ext cx="2341440" cy="24465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ells, Tissues and Org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similar cells is calle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afferent tissues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organs working together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 a  whol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9640" y="4724280"/>
            <a:ext cx="8064720" cy="1595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Ke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issu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 System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lisad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lisade Cells are designed for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ll shape means a lot of surface area exposed down the side for absorbing C0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The sperm cell - designed to fertilise egg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ili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) The cilia cell - designed to stop lung damag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ia cells line all the air passages in your lung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have tiny hairs, which filter the air as it blows through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gg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The ovum (egg) cell - designed to be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root hair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) The root hair cell - designed for absorbing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bout Your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ology contributes 26 2/3% towards your final GCSE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% of your final grade is an Coursework Investigati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so packed with Haemoglobin that they have no room for a 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engulfing the bac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does not, however, work with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3 mark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: [Y10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: Cel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2: Transport across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3 Cell Division (Year 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4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5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6 Brea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7 Re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8 Nervou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9 Homeost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1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3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4 Plant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5 Transport and Water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 [Y11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6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7 Genetics and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8 Controlling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9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0 Adoption and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1 Human impact o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2 Energy and Nutrient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3 Nutrient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p the 7 Lif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tart 10.1: Plant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nderstand the differences between plant and animals in terms of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ll the functions of the different parts of plants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how this in a visual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: To understand the term </a:t>
            </a:r>
            <a:r>
              <a:rPr b="1" i="1" lang="en-GB" sz="3200" spc="-1" strike="noStrike" u="sng">
                <a:solidFill>
                  <a:srgbClr val="996633"/>
                </a:solidFill>
                <a:uFillTx/>
                <a:latin typeface="Comic Sans MS"/>
              </a:rPr>
              <a:t>Mitochond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f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vement- the ability to move from one place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piration – a chemical process that takes place in every living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sitivity – the ability to respond to you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trition – turning food into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cretion – getting rid of was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roduction – producing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wth- becoming larger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Featur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5280" y="371628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788000" y="357336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46836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78800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11280" y="2924280"/>
            <a:ext cx="784836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Cell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and Anima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4859280" y="5373720"/>
            <a:ext cx="39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539640" y="537372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395280" y="6021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-ARRANGE SO THEY ARE IN THE CORRECT COLO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Wall is made of cellulose – it strengthens and supports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1476360" y="5877000"/>
            <a:ext cx="6114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is for PLANTS ONLY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Membrane controls what goes in and out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ytoplasm is where all the reactions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9640" y="5229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324000" y="5516640"/>
            <a:ext cx="85438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applies to BOTH types of Cell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6:49:11Z</dcterms:created>
  <dc:creator>Shaun</dc:creator>
  <dc:description/>
  <dc:language>en-US</dc:language>
  <cp:lastModifiedBy>LEGION2</cp:lastModifiedBy>
  <dcterms:modified xsi:type="dcterms:W3CDTF">2016-01-11T13:31:02Z</dcterms:modified>
  <cp:revision>10</cp:revision>
  <dc:subject/>
  <dc:title>Life Processes and Living things</dc:title>
</cp:coreProperties>
</file>