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11.jpeg" ContentType="image/jpeg"/>
  <Override PartName="/ppt/media/image5.gif" ContentType="image/gif"/>
  <Override PartName="/ppt/media/image6.gif" ContentType="image/gif"/>
  <Override PartName="/ppt/media/image10.jpeg" ContentType="image/jpeg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F1849-101E-4C82-9451-34F8E724873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a microscope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of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e today 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 of th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im of the experiment was to make a microscope slide of an onion skin, look at it at different magnifications and draw what we saw.  We needed to identify the cell walls, nucleus and the cytopla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of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e safe we wore goggles and were very careful how we used the scalpel.  Because the glass could have broken we were very careful how we held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of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experiment we used a microscope, a glass slide, a cover slip, a pair of forceps and a piece of onion sk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of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ut open an onion and took a piece of very thin skin.  We placed this onto the middle of a microscope slid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we put a thin piece of glass called a cover slip on top of the onion skin and gently pressed it fl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hat we put the slide under a microscope with the lens set at low magnif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of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turned the focus dial until we could clearly see the skin.  We used a pencil to draw what we saw and labelled it with the magnif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of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what we saw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igher the magnification we us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gger the cells becam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of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20 x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50 x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100 x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 up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ion 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topla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conclu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croscope let us see the onion skin at different magnifica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 x 20 magnification it still looked quite far away but we could see some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x 50 magnification we could see the cells clearly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x 100 magnification we could see individual cells, and the cell walls containing the cytopla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of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D476-3061-436C-8D1B-C328DF259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6629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8440" y="4130640"/>
            <a:ext cx="6629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9727-D8A3-443E-AC6C-F52204E31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8440" y="413064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25400" y="413064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A38B-8099-4BB3-A22E-D49609FD1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70160" y="198108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11520" y="198108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8440" y="413064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70160" y="413064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11520" y="413064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E68D-9A2F-42A9-9566-4A5B44B7D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34CA2-AA94-4437-A919-5B36B2A08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828440" y="19810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C44DD-8090-4C16-A42E-F68D94147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AAEEB-D0E3-4677-AC68-EEE092C7C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AC813-375B-4F5F-B030-5AC4499CB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B3936-D7E9-4DEE-9067-11E0CA769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82844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8BDC6-730E-42B9-96B4-79D76DC02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828440" y="413064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20041-3084-4A9F-8E7C-1E61FA84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8440" y="19810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DFA4-044D-4F7E-A868-B0B1E8E85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25400" y="413064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F646E-29D7-446A-A537-2B8E2F1F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828440" y="4130640"/>
            <a:ext cx="6629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E7C2A-24A0-490C-9DB8-1033AFF6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6629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828440" y="4130640"/>
            <a:ext cx="6629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28AEF-1D96-4908-A51A-9C181CBF0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828440" y="413064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25400" y="413064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530E2-7AA4-4A1A-AF55-2F2BB5E38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070160" y="198108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11520" y="198108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828440" y="413064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070160" y="413064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11520" y="413064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0B079-28D1-4B3D-BAAB-7A8C2DF33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F82A-6B05-44E1-B587-9BFCAF056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AC8A-E553-4E53-9BD4-BE72EB07E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BA6E-BA8F-4BF9-9861-134070E17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44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0997-538D-40D1-853D-837133748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8440" y="413064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30A2-138E-4391-B290-066CDA7E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25400" y="413064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216D-60E7-4F07-B003-DD5F6DDD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8440" y="4130640"/>
            <a:ext cx="6629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5383-E387-4F4B-83EC-4C17D94A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8440" y="19810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 Rounded MT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 Rounded MT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30837-20CD-4A5C-B4D3-07AF0ABACF96}" type="slidenum"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lens_anim"/>
          <p:cNvPicPr/>
          <p:nvPr/>
        </p:nvPicPr>
        <p:blipFill>
          <a:blip r:embed="rId3"/>
          <a:stretch/>
        </p:blipFill>
        <p:spPr>
          <a:xfrm>
            <a:off x="7010280" y="472428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828440" y="19810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 Rounded MT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 Rounded MT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7BFA8-2D70-455A-8797-C8FB9D993E47}" type="slidenum"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71280" y="162828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f"/>
                </a:solidFill>
                <a:uFillTx/>
                <a:latin typeface="Gill Sans MT Schoolbook"/>
              </a:rPr>
              <a:t>Making a microscope slide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8028000" y="-2700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-36360" y="-2700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1 of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2124000" y="83664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The date today i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79280" y="7646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f"/>
                </a:solidFill>
                <a:uFillTx/>
                <a:latin typeface="Gill Sans MT Schoolbook"/>
              </a:rPr>
              <a:t>Aim of the experiment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627280" y="2205000"/>
            <a:ext cx="6121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The aim of the experiment was to make a microscope slide of an onion skin, look at it at different magnifications and draw what we saw.  We needed to identify the cell walls, nucleus and the cytoplasm.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8028000" y="-2700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-36360" y="-2700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2 of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6" descr="exclaim_hg_clr"/>
          <p:cNvPicPr/>
          <p:nvPr/>
        </p:nvPicPr>
        <p:blipFill>
          <a:blip r:embed="rId1"/>
          <a:stretch/>
        </p:blipFill>
        <p:spPr>
          <a:xfrm>
            <a:off x="8129520" y="260280"/>
            <a:ext cx="843120" cy="210996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f"/>
                </a:solidFill>
                <a:uFillTx/>
                <a:latin typeface="Gill Sans MT Schoolbook"/>
              </a:rPr>
              <a:t>Safety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700000" y="2133720"/>
            <a:ext cx="5551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To be safe we wore goggles and were very careful how we used the scalpel.  Because the glass could have broken we were very careful how we held it.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8028000" y="-2700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-36360" y="-2700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3 of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6" descr="chemical_hazard_safety_poisonous_square_rotate_lg_clr"/>
          <p:cNvPicPr/>
          <p:nvPr/>
        </p:nvPicPr>
        <p:blipFill>
          <a:blip r:embed="rId1"/>
          <a:stretch/>
        </p:blipFill>
        <p:spPr>
          <a:xfrm>
            <a:off x="2700360" y="549360"/>
            <a:ext cx="1238400" cy="12380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safety_goggles_detail_lg_clr"/>
          <p:cNvPicPr/>
          <p:nvPr/>
        </p:nvPicPr>
        <p:blipFill>
          <a:blip r:embed="rId2"/>
          <a:stretch/>
        </p:blipFill>
        <p:spPr>
          <a:xfrm>
            <a:off x="6372360" y="907920"/>
            <a:ext cx="1145880" cy="68112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f"/>
                </a:solidFill>
                <a:uFillTx/>
                <a:latin typeface="Gill Sans MT Schoolbook"/>
              </a:rPr>
              <a:t>Apparatus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987640" y="2492280"/>
            <a:ext cx="561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In this experiment we used a microscope, a glass slide, a cover slip, a pair of forceps and a piece of onion skin. 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8028000" y="-2700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-36360" y="-2700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4 of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7" descr="microscope_switching_lenses_hg_clr"/>
          <p:cNvPicPr/>
          <p:nvPr/>
        </p:nvPicPr>
        <p:blipFill>
          <a:blip r:embed="rId1"/>
          <a:stretch/>
        </p:blipFill>
        <p:spPr>
          <a:xfrm>
            <a:off x="6659640" y="404640"/>
            <a:ext cx="1438200" cy="177192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f"/>
                </a:solidFill>
                <a:uFillTx/>
                <a:latin typeface="Gill Sans MT Schoolbook"/>
              </a:rPr>
              <a:t>Method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84000" y="1699920"/>
            <a:ext cx="62341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We cut open an onion and took a piece of very thin skin.  We placed this onto the middle of a microscope slide.  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Then we put a thin piece of glass called a cover slip on top of the onion skin and gently pressed it flat.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After that we put the slide under a microscope with the lens set at low magnification.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8028000" y="-2700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-36360" y="-2700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5 of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6" descr="mad_scientist_mixing_solution_hg_clr"/>
          <p:cNvPicPr/>
          <p:nvPr/>
        </p:nvPicPr>
        <p:blipFill>
          <a:blip r:embed="rId1"/>
          <a:stretch/>
        </p:blipFill>
        <p:spPr>
          <a:xfrm>
            <a:off x="6588000" y="333360"/>
            <a:ext cx="1084320" cy="148896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f"/>
                </a:solidFill>
                <a:uFillTx/>
                <a:latin typeface="Gill Sans MT Schoolbook"/>
              </a:rPr>
              <a:t>Method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484000" y="1699920"/>
            <a:ext cx="62341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We turned the focus dial until we could clearly see the skin.  We used a pencil to draw what we saw and labelled it with the magnification.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8028000" y="-2700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-36360" y="-2700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6 of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6" descr="mad_scientist_mixing_solution_hg_clr"/>
          <p:cNvPicPr/>
          <p:nvPr/>
        </p:nvPicPr>
        <p:blipFill>
          <a:blip r:embed="rId1"/>
          <a:stretch/>
        </p:blipFill>
        <p:spPr>
          <a:xfrm>
            <a:off x="6588000" y="333360"/>
            <a:ext cx="1084320" cy="148896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19280" y="691920"/>
            <a:ext cx="338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f"/>
                </a:solidFill>
                <a:uFillTx/>
                <a:latin typeface="Gill Sans MT Schoolbook"/>
              </a:rPr>
              <a:t>Results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700000" y="176220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This is what we saw.   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The higher the magnification we used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the bigger the cells became.</a:t>
            </a: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8028000" y="-2700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-36360" y="-2700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7 of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6" descr="mag1"/>
          <p:cNvPicPr/>
          <p:nvPr/>
        </p:nvPicPr>
        <p:blipFill>
          <a:blip r:embed="rId1"/>
          <a:stretch/>
        </p:blipFill>
        <p:spPr>
          <a:xfrm>
            <a:off x="3179880" y="4255920"/>
            <a:ext cx="1247760" cy="828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mag2"/>
          <p:cNvPicPr/>
          <p:nvPr/>
        </p:nvPicPr>
        <p:blipFill>
          <a:blip r:embed="rId2"/>
          <a:stretch/>
        </p:blipFill>
        <p:spPr>
          <a:xfrm>
            <a:off x="5146560" y="4265640"/>
            <a:ext cx="1225800" cy="819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mag3"/>
          <p:cNvPicPr/>
          <p:nvPr/>
        </p:nvPicPr>
        <p:blipFill>
          <a:blip r:embed="rId3"/>
          <a:stretch/>
        </p:blipFill>
        <p:spPr>
          <a:xfrm>
            <a:off x="7236000" y="4267080"/>
            <a:ext cx="1225440" cy="8175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9"/>
          <p:cNvSpPr/>
          <p:nvPr/>
        </p:nvSpPr>
        <p:spPr>
          <a:xfrm>
            <a:off x="3130560" y="3568680"/>
            <a:ext cx="208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Gill Sans MT Schoolbook"/>
              </a:rPr>
              <a:t>At 20 x </a:t>
            </a:r>
            <a:br>
              <a:rPr sz="1600"/>
            </a:br>
            <a:r>
              <a:rPr b="0" lang="en-GB" sz="1600" spc="-1" strike="noStrike">
                <a:solidFill>
                  <a:srgbClr val="ffffff"/>
                </a:solidFill>
                <a:latin typeface="Gill Sans MT Schoolbook"/>
              </a:rPr>
              <a:t>magn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5005440" y="3568680"/>
            <a:ext cx="172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Gill Sans MT Schoolbook"/>
              </a:rPr>
              <a:t>At 50 x magn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7054920" y="3573360"/>
            <a:ext cx="208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Gill Sans MT Schoolbook"/>
              </a:rPr>
              <a:t>At 100 x magn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13" descr="mad_scientist_giving_lecture_hg_clr"/>
          <p:cNvPicPr/>
          <p:nvPr/>
        </p:nvPicPr>
        <p:blipFill>
          <a:blip r:embed="rId4"/>
          <a:stretch/>
        </p:blipFill>
        <p:spPr>
          <a:xfrm>
            <a:off x="6659640" y="549360"/>
            <a:ext cx="1476360" cy="13111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5"/>
          <p:cNvSpPr/>
          <p:nvPr/>
        </p:nvSpPr>
        <p:spPr>
          <a:xfrm>
            <a:off x="6516720" y="522936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Gill Sans MT Schoolbook"/>
              </a:rPr>
              <a:t>Cell w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6"/>
          <p:cNvSpPr/>
          <p:nvPr/>
        </p:nvSpPr>
        <p:spPr>
          <a:xfrm flipV="1">
            <a:off x="7380360" y="4436640"/>
            <a:ext cx="287280" cy="863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7"/>
          <p:cNvSpPr/>
          <p:nvPr/>
        </p:nvSpPr>
        <p:spPr>
          <a:xfrm>
            <a:off x="5219640" y="525312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Gill Sans MT Schoolbook"/>
              </a:rPr>
              <a:t>Nucle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8"/>
          <p:cNvSpPr/>
          <p:nvPr/>
        </p:nvSpPr>
        <p:spPr>
          <a:xfrm>
            <a:off x="3133800" y="5153040"/>
            <a:ext cx="1582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Gill Sans MT Schoolbook"/>
              </a:rPr>
              <a:t>Close up of </a:t>
            </a:r>
            <a:br>
              <a:rPr sz="1600"/>
            </a:br>
            <a:r>
              <a:rPr b="0" lang="en-GB" sz="1600" spc="-1" strike="noStrike">
                <a:solidFill>
                  <a:srgbClr val="ffffff"/>
                </a:solidFill>
                <a:latin typeface="Gill Sans MT Schoolbook"/>
              </a:rPr>
              <a:t>onion sk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9"/>
          <p:cNvSpPr/>
          <p:nvPr/>
        </p:nvSpPr>
        <p:spPr>
          <a:xfrm flipV="1">
            <a:off x="5508720" y="4508640"/>
            <a:ext cx="0" cy="792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20"/>
          <p:cNvSpPr/>
          <p:nvPr/>
        </p:nvSpPr>
        <p:spPr>
          <a:xfrm>
            <a:off x="7093080" y="5805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21"/>
          <p:cNvSpPr/>
          <p:nvPr/>
        </p:nvSpPr>
        <p:spPr>
          <a:xfrm>
            <a:off x="7702560" y="5229360"/>
            <a:ext cx="144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Gill Sans MT Schoolbook"/>
              </a:rPr>
              <a:t>Cytopla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22"/>
          <p:cNvSpPr/>
          <p:nvPr/>
        </p:nvSpPr>
        <p:spPr>
          <a:xfrm flipH="1" flipV="1">
            <a:off x="8027640" y="4868640"/>
            <a:ext cx="289080" cy="431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f"/>
                </a:solidFill>
                <a:uFillTx/>
                <a:latin typeface="Gill Sans MT Schoolbook"/>
              </a:rPr>
              <a:t>Our conclusions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771280" y="1699920"/>
            <a:ext cx="58388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The microscope let us see the onion skin at different magnifications.  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394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At  x 20 magnification it still looked quite far away but we could see some cells.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394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At x 50 magnification we could see the cells clearly.  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394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At x 100 magnification we could see individual cells, and the cell</a:t>
            </a: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walls containing the cytoplasm.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48" name="Picture 4" descr="mad_scientist_magnifying_glass_hg_clr"/>
          <p:cNvPicPr/>
          <p:nvPr/>
        </p:nvPicPr>
        <p:blipFill>
          <a:blip r:embed="rId1"/>
          <a:stretch/>
        </p:blipFill>
        <p:spPr>
          <a:xfrm>
            <a:off x="7164360" y="476280"/>
            <a:ext cx="1093680" cy="130644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-36360" y="-2700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8 of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8028000" y="-2700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9T11:59:39Z</dcterms:created>
  <dc:creator>The Learning Trust</dc:creator>
  <dc:description/>
  <dc:language>en-US</dc:language>
  <cp:lastModifiedBy>LEGION2</cp:lastModifiedBy>
  <dcterms:modified xsi:type="dcterms:W3CDTF">2016-01-11T13:35:08Z</dcterms:modified>
  <cp:revision>48</cp:revision>
  <dc:subject/>
  <dc:title>Making a microscope slide</dc:title>
</cp:coreProperties>
</file>