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9805C-8588-4B13-8599-AECE1F367C4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ll Membrane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 an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city is a relativ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otonic Solution - One solution has a low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tonic Solution - one solution has a higher concentration of solute than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nic Solution - both solutions have same concentrations of solu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and Animal Cells put i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’s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e is either the eosin starch solution or the sugar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solv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brane Permeabi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is eosin-starch-chlorid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is Wa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 starch is I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is made of amylose and amylopectin – amylopectin is in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dine is not very soluble in water, but with KI it forms  a I3- (triiodine ion) which is solu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3- combines with the amylose and the starch molecule turns blue-bl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mhurst College Webs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Chlorid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presence of chloride ions is silver nitrate, AgN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precipitate, AgCl, forms if chloride is pres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for Sulfate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or for the presence of sulfate ions is Barium chloride, B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um sulfate, BaSO4 - forms a white precipi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l + NaSO4  ----&gt; BaSO4 +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of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rotec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Control incoming and outgoing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Maintain ion concentrations of various subst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electively permeable - allows some molecules in, others are kep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ast cells are used to see effect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make an osmometer to see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 solution in a dialysis tube is used to simulate a cel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concentrations of solute may be used around the ro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ospholipid Bi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uid Mosa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-Brain Barr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llowed to cros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, CO2, Glucose, O2, Amino Acids, Alcohol, and antihistamines.  HIV and bacterial meningitis can cross the barr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s are made of solute and a solv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 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  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  Facilitated 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.  Active Trans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ods of Transport Across Membr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Diffusion -passive transport - n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exp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Osmosis - Passive transport of wat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ross membr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acilitated Diffusion - Use of proteins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polar molecules or ion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Active Transport- requires energy to transpor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ecules against a concentr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dient – energy is in the form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from one side of a membrane to another, un-facilit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3A96-0A05-4BD3-B1C8-F5F71289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AF95-0CB0-44E2-BFC2-0E1F2522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4D2-B41F-41CD-B74F-E2064672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47F5-A2AF-4281-9D48-1F2DAA823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635A-2ED7-4957-9890-964680A0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AC0A-B949-4C99-8921-7E6929B4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93F7-7716-418C-B1B1-E7BD1665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2EDD-3530-4B25-8261-BA942AD4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C43C-9CA7-4E18-9C20-C923512A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1F35-3055-4B46-A724-6662D3B2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3F5B-A51A-4B70-B56B-511B5D3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D4FF-B5C7-4F16-BF59-CFA6BFFB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85E9C-9678-4B44-B80D-45A9BD5CC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ell Membranes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 and 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2"/>
          <p:cNvGraphicFramePr/>
          <p:nvPr/>
        </p:nvGraphicFramePr>
        <p:xfrm>
          <a:off x="2209680" y="1397160"/>
          <a:ext cx="518184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97160"/>
                    <a:ext cx="518184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3"/>
          <p:cNvSpPr/>
          <p:nvPr/>
        </p:nvSpPr>
        <p:spPr>
          <a:xfrm>
            <a:off x="3809880" y="45720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Diffu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2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3"/>
          <p:cNvGraphicFramePr/>
          <p:nvPr/>
        </p:nvGraphicFramePr>
        <p:xfrm>
          <a:off x="2297160" y="1731960"/>
          <a:ext cx="4549680" cy="339408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97160" y="1731960"/>
                    <a:ext cx="4549680" cy="33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Picture 4" descr="08"/>
          <p:cNvPicPr/>
          <p:nvPr/>
        </p:nvPicPr>
        <p:blipFill>
          <a:blip r:embed="rId5"/>
          <a:stretch/>
        </p:blipFill>
        <p:spPr>
          <a:xfrm>
            <a:off x="1219320" y="1447920"/>
            <a:ext cx="7162560" cy="4657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794400" y="480960"/>
            <a:ext cx="217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nicity is a relative t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low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yper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one solution has a higher concentration of solute than an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sotonic Solution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- both solutions have same concentrations of solu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08"/>
          <p:cNvPicPr/>
          <p:nvPr/>
        </p:nvPicPr>
        <p:blipFill>
          <a:blip r:embed="rId1"/>
          <a:stretch/>
        </p:blipFill>
        <p:spPr>
          <a:xfrm>
            <a:off x="1447920" y="1523880"/>
            <a:ext cx="6248160" cy="44960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1447920" y="3808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Plant and Animal Cells put in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various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08"/>
          <p:cNvPicPr/>
          <p:nvPr/>
        </p:nvPicPr>
        <p:blipFill>
          <a:blip r:embed="rId1"/>
          <a:stretch/>
        </p:blipFill>
        <p:spPr>
          <a:xfrm>
            <a:off x="1981080" y="1828800"/>
            <a:ext cx="5486400" cy="39625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820600" y="685800"/>
            <a:ext cx="39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ypes of Transpo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oday’s L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are using dialysis tubing as the cell membrane - It is selectively permeab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olute is either the eosin starch solution or the sugar solu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solven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mbrane Permeabil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ute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eosin-starch-chloride sol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Solven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is Wat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Indicato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resence of  starch is I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tarch is made of amylose and amylopectin – amylopectin is insolu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odine is not very soluble in water, but with KI it forms  a 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(triiodine ion) which is solub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mbines with the amylose and the starch molecule turns blue-blac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est for Starc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547starchiodine"/>
          <p:cNvPicPr/>
          <p:nvPr/>
        </p:nvPicPr>
        <p:blipFill>
          <a:blip r:embed="rId1"/>
          <a:stretch/>
        </p:blipFill>
        <p:spPr>
          <a:xfrm>
            <a:off x="1447920" y="1371600"/>
            <a:ext cx="6400800" cy="52578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651040" y="6335640"/>
            <a:ext cx="329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lmhurst College Websi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Chlorid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presence of chloride ions is silver nitrate, AgN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white precipitate, AgCl, forms if chloride is pres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Test for Sulfate 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icator for the presence of sulfate ions is Barium chloride, BaC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rium sulfate,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- forms a white precipit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Cl + N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---&gt; BaS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+ Na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Functions of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Protect ce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Control incoming and outgoing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Maintain ion concentrations of various substa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Selectively permeable - allows some molecules in, others are kept o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Living Cel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Beet cubes will be used to see the result of boiling and adding alcohol to a live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Yeast cells are used to see effect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ern gametophytes are used to see result of putting live cells in solutions of varying tonic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Osmosi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e will make an osmometer to see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ugar solution in a dialysis tube is used to simulate a cell membra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Various concentrations of solute may be used around the ro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2"/>
          <p:cNvGraphicFramePr/>
          <p:nvPr/>
        </p:nvGraphicFramePr>
        <p:xfrm>
          <a:off x="1447920" y="1371600"/>
          <a:ext cx="617220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1722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3"/>
          <p:cNvSpPr/>
          <p:nvPr/>
        </p:nvSpPr>
        <p:spPr>
          <a:xfrm>
            <a:off x="2516760" y="380880"/>
            <a:ext cx="42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hospholipid Bilay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08"/>
          <p:cNvPicPr/>
          <p:nvPr/>
        </p:nvPicPr>
        <p:blipFill>
          <a:blip r:embed="rId1"/>
          <a:stretch/>
        </p:blipFill>
        <p:spPr>
          <a:xfrm>
            <a:off x="1600200" y="1619280"/>
            <a:ext cx="6095880" cy="4400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4400" y="609480"/>
            <a:ext cx="350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 Mosaic Mod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lood-Brain Barri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llows some substances into the brain, but screens out toxins and  bacter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bstances allowed to cross include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ater, C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Glucose, 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mino Acids, </a:t>
            </a:r>
            <a:r>
              <a:rPr b="1" lang="en-US" sz="3300" spc="-1" strike="noStrike" u="sng">
                <a:solidFill>
                  <a:srgbClr val="ffffff"/>
                </a:solidFill>
                <a:uFillTx/>
                <a:latin typeface="Times New Roman"/>
              </a:rPr>
              <a:t>Alcoho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, and antihistamines.  HIV and bacterial meningitis can cross the barri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olu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ions are made of solute and a sol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vent - the liquid into which the solute is poured and dissolved. We will use water as our solvent tod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olute - substance that is dissolved or put into the solvent. Salt and sucrose are solu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. 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.  Osmo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3.  Facilitated Dif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 Active Transpor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Methods of Transport Across Membra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 Diffusion -passive transport - n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nergy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expen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 Osmosis - Passive transport of wat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ross membra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 Facilitated Diffusion - Use of proteins to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arry polar molecules or ions acro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 Active Transport- requires energy to transpor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lecules against a concentra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radient – energy is in the form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Diffu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of molecules from an area of high concentration to an area of low concentr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Movement from one side of a membrane to another, un-facilita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6:48:03Z</dcterms:created>
  <dc:creator>Educational Technologies</dc:creator>
  <dc:description/>
  <dc:language>en-US</dc:language>
  <cp:lastModifiedBy>LEGION2</cp:lastModifiedBy>
  <dcterms:modified xsi:type="dcterms:W3CDTF">2016-01-11T13:42:09Z</dcterms:modified>
  <cp:revision>40</cp:revision>
  <dc:subject/>
  <dc:title>Cell Membranes Osmosis and Diffusion</dc:title>
</cp:coreProperties>
</file>