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whoosh.wav" ContentType="audio/x-wav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EE3AF-2935-4264-912D-8381BB28DFC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rotein Secre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igher Bi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ein Secre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er Bi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Quaternary structure of prote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 different ty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-fibrous prote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-globular prote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-conjugated prote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ternary structure of prote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different ty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fibrous prote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globular prote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conjugated prote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brous prote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ral spiral-shaped polypeptide molec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ked in parallel by disulphide brid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ein has a rope-like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brous prote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ral spiral-shaped polypeptide molec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ked in parallel by disulphide brid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ein has a rope-like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obular prote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ral polypeptide ch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lded roughly into a spherical shape like a tangled ball of 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zymes are globular prote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so vital component in cell and sub-cellular membran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obular prote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ral polypeptide ch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lded roughly into a spherical shape like a tangled ball of 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zymes are globular prote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so vital component in cell and sub-cellular membran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orm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hemical messeng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lobular prote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xert a specific effect on tiss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rm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messeng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obular prote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ert a specific effect on tiss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tibod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-shaped globular prote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de by lymphocy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end body against antig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tibod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-shaped globular prote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de by lymphocy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end body against antig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njugated prote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lobular protein associated with a non-protein chem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lycoprote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-protein and carbohyd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-muc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d prote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obular protein associated with a non-protein chem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ycoprote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protein and carbohyd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muc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aemoglob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xygen-transporting pigment in bl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njugated prote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-globular protein glob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-haem (non-protein containing ir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emoglob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ygen-transporting pigment in bl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d prote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globular protein glob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haem (non-protein containing ir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ugh Endoplasmic Reticulum (rough E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stem of flattened sacs and tub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crusted with ribosomes on the outer surface if their membr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inuous with outer nuclear membr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vides a large surface area for chemical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thway for transport of materi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ugh Endoplasmic Reticulum (rough E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stem of flattened sacs and tub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crusted with ribosomes on the outer surface if their membr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inuous with outer nuclear membr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vides a large surface area for chemical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thway for transport of materi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olgi Appara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roup of flattened fluid-filled sa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Vesicles containing newly synthesised protein pinched off from rough 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use with outermost sac of Golgi appara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rotein passed from sac to sac by means of vesic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olgi apparatus processes protei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-e.g. adds a carbohydrat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-form a glycoprote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lgi Appara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oup of flattened fluid-filled sa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sicles containing newly synthesised protein pinched off from rough 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se with outermost sac of Golgi appara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ein passed from sac to sac by means of vesic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lgi apparatus processes protei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e.g. adds a carbohydrat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form a glycoprote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ocyto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sicles containing finished 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muc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digestive enzy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horm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nched off at end of Golgi appara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sicles move towards cell membrane and fuse with 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ents of vesicle discharged to out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ocyto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sicles containing finished 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muc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digestive enzy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horm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nched off at end of Golgi appara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sicles move towards cell membrane and fuse with 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ents of vesicle discharged to out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ein Secretion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lgi bodies especially numerous and active in secretory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gastric gland cells in stomach wa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mucu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peps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pancr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insul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ein Secretion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lgi bodies especially numerous and active in secretory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gastric gland cells in stomach wa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mucu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peps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pancr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insul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Elements in a prote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Carb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Hydro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Ox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Nitro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(sulphu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Elements in a prote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Carb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Hydro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Ox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Nitro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(sulphu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tructure of a prote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ucture of a prote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4A32A-2F3E-403E-A470-4683027D0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FDB98-065E-4C83-97EE-DBEBB3940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0E985-9322-42BC-9261-C1B853523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98E83-318B-4673-A29E-BAC515978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E7C3D-7DC9-409A-AEB7-0C956CAF2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E13CE-C59E-4497-900D-9998F97ED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858AC-26F1-4204-A858-007B9A7BD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68DB2-1BE0-4E9F-BBF5-74E107C45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40F3C-FF30-463E-A1C3-108A0E4AC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9F87C-B47D-4F6F-B861-9DEF38FEB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AB143-2F5A-43CD-B657-31C787489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6ED63-1E32-4D97-B9EB-1C39C6B53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41562-69E2-41E4-B325-DE1D3A9E726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worldofteaching.com/" TargetMode="External"/><Relationship Id="rId2" Type="http://schemas.openxmlformats.org/officeDocument/2006/relationships/image" Target="../media/image8.jpeg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nteractivehuman.blogspot.com/2008/05/protein-secretion.html" TargetMode="External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s://mywebspace.wisc.edu/jonovic/web/proteins.html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Protein Secre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Higher Biolo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Quaternary structure of prote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3 different typ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-fibrous protei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-globular protei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-conjugated protei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-11430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ibrous prote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5334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ral spiral-shaped polypeptide molecu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inked in parallel by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disulphide brid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otein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as a rope-like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Picture 5" descr="nsp-protein-2-5-2_17"/>
          <p:cNvPicPr/>
          <p:nvPr/>
        </p:nvPicPr>
        <p:blipFill>
          <a:blip r:embed="rId1"/>
          <a:srcRect l="0" t="8547" r="0" b="0"/>
          <a:stretch/>
        </p:blipFill>
        <p:spPr>
          <a:xfrm>
            <a:off x="6251400" y="0"/>
            <a:ext cx="2732400" cy="6621480"/>
          </a:xfrm>
          <a:prstGeom prst="rect">
            <a:avLst/>
          </a:prstGeom>
          <a:ln w="0">
            <a:noFill/>
          </a:ln>
        </p:spPr>
      </p:pic>
      <p:sp>
        <p:nvSpPr>
          <p:cNvPr id="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" name=""/>
          <p:cNvGraphicFramePr/>
          <p:nvPr/>
        </p:nvGraphicFramePr>
        <p:xfrm>
          <a:off x="304920" y="228600"/>
          <a:ext cx="8839080" cy="6464160"/>
        </p:xfrm>
        <a:graphic>
          <a:graphicData uri="http://schemas.openxmlformats.org/drawingml/2006/table">
            <a:tbl>
              <a:tblPr/>
              <a:tblGrid>
                <a:gridCol w="2209680"/>
                <a:gridCol w="2209680"/>
                <a:gridCol w="2210040"/>
                <a:gridCol w="2209680"/>
              </a:tblGrid>
              <a:tr h="1514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brous prote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ructural proper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ssue rich in this prote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unction of this prote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63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last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rong and elasti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all of large arteri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lexible suppor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57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llag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rong and inelasti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Bo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Tendon and ligam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Rigid suppor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attachm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68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rat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rong and inelasti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ai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tec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60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ctin and myos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racti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usc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vem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Globular prote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everal polypeptide chai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folded roughly into a spherical shape like a tangled ball of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Enzymes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are globular protei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lso vital component in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cell and sub-cellular membran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1027" descr="8883n06_23"/>
          <p:cNvPicPr/>
          <p:nvPr/>
        </p:nvPicPr>
        <p:blipFill>
          <a:blip r:embed="rId1"/>
          <a:stretch/>
        </p:blipFill>
        <p:spPr>
          <a:xfrm>
            <a:off x="0" y="0"/>
            <a:ext cx="5257800" cy="36511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029" descr="Image17"/>
          <p:cNvPicPr/>
          <p:nvPr/>
        </p:nvPicPr>
        <p:blipFill>
          <a:blip r:embed="rId2"/>
          <a:stretch/>
        </p:blipFill>
        <p:spPr>
          <a:xfrm>
            <a:off x="5864400" y="2286000"/>
            <a:ext cx="3279600" cy="4572000"/>
          </a:xfrm>
          <a:prstGeom prst="rect">
            <a:avLst/>
          </a:prstGeom>
          <a:ln w="0">
            <a:noFill/>
          </a:ln>
        </p:spPr>
      </p:pic>
      <p:sp>
        <p:nvSpPr>
          <p:cNvPr id="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Horm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419112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243360" indent="-24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hemical messeng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-24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lobular prote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-24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xert a specific effect on tiss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6" descr="Picture of Appetite represing hormon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154480" y="2811600"/>
            <a:ext cx="3989520" cy="4046400"/>
          </a:xfrm>
          <a:prstGeom prst="rect">
            <a:avLst/>
          </a:prstGeom>
          <a:ln w="0">
            <a:noFill/>
          </a:ln>
        </p:spPr>
      </p:pic>
      <p:sp>
        <p:nvSpPr>
          <p:cNvPr id="9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Antibod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657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Y-shaped globular protei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ade by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lymphocy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Defend body against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anti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Picture 5" descr="AntibodyCHODisulfide"/>
          <p:cNvPicPr/>
          <p:nvPr/>
        </p:nvPicPr>
        <p:blipFill>
          <a:blip r:embed="rId1"/>
          <a:stretch/>
        </p:blipFill>
        <p:spPr>
          <a:xfrm>
            <a:off x="4525920" y="3565440"/>
            <a:ext cx="4618080" cy="3292560"/>
          </a:xfrm>
          <a:prstGeom prst="rect">
            <a:avLst/>
          </a:prstGeom>
          <a:ln w="0">
            <a:noFill/>
          </a:ln>
        </p:spPr>
      </p:pic>
      <p:sp>
        <p:nvSpPr>
          <p:cNvPr id="9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Conjugated prote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Globular protein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associated with a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non-protein chemic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Glycoprote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-protein and carbohydr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-muc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5" descr="complex-gain-both"/>
          <p:cNvPicPr/>
          <p:nvPr/>
        </p:nvPicPr>
        <p:blipFill>
          <a:blip r:embed="rId1"/>
          <a:stretch/>
        </p:blipFill>
        <p:spPr>
          <a:xfrm>
            <a:off x="6172200" y="4290840"/>
            <a:ext cx="2971800" cy="2567160"/>
          </a:xfrm>
          <a:prstGeom prst="rect">
            <a:avLst/>
          </a:prstGeom>
          <a:ln w="0">
            <a:noFill/>
          </a:ln>
        </p:spPr>
      </p:pic>
      <p:sp>
        <p:nvSpPr>
          <p:cNvPr id="10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Haemoglob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Oxygen-transporting pigment in blo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onjugated prote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-globular protein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glob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haem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(non-protein containing iro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5" descr="haemoglobin"/>
          <p:cNvPicPr/>
          <p:nvPr/>
        </p:nvPicPr>
        <p:blipFill>
          <a:blip r:embed="rId1"/>
          <a:stretch/>
        </p:blipFill>
        <p:spPr>
          <a:xfrm>
            <a:off x="685800" y="0"/>
            <a:ext cx="8686800" cy="6896160"/>
          </a:xfrm>
          <a:prstGeom prst="rect">
            <a:avLst/>
          </a:prstGeom>
          <a:ln w="0">
            <a:noFill/>
          </a:ln>
        </p:spPr>
      </p:pic>
      <p:sp>
        <p:nvSpPr>
          <p:cNvPr id="1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Rough Endoplasmic Reticulum (rough ER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ystem of flattened sacs and tubu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Encrusted with ribosomes on the outer surface if their membra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ontinuous with outer nuclear membra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Provides a large surface area for chemical rea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Pathway for transport of materi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7" descr="ER"/>
          <p:cNvPicPr/>
          <p:nvPr/>
        </p:nvPicPr>
        <p:blipFill>
          <a:blip r:embed="rId1"/>
          <a:srcRect l="0" t="51043" r="0" b="0"/>
          <a:stretch/>
        </p:blipFill>
        <p:spPr>
          <a:xfrm>
            <a:off x="2050920" y="3500280"/>
            <a:ext cx="5562720" cy="33577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9" descr="image006"/>
          <p:cNvPicPr/>
          <p:nvPr/>
        </p:nvPicPr>
        <p:blipFill>
          <a:blip r:embed="rId2"/>
          <a:stretch/>
        </p:blipFill>
        <p:spPr>
          <a:xfrm>
            <a:off x="2050920" y="0"/>
            <a:ext cx="5400720" cy="3516480"/>
          </a:xfrm>
          <a:prstGeom prst="rect">
            <a:avLst/>
          </a:prstGeom>
          <a:ln w="0">
            <a:noFill/>
          </a:ln>
        </p:spPr>
      </p:pic>
      <p:sp>
        <p:nvSpPr>
          <p:cNvPr id="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Golgi Apparat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17320" indent="-517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roup of flattened fluid-filled sa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7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7320" indent="-517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Vesicles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containing newly synthesised protein pinched off from rough 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7320" indent="-517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use with outermost sac of Golgi apparat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7320" indent="-517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rotein passed from sac to sac by means of vesic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7320" indent="-517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olgi apparatus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processes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protei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7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-e.g. adds a carbohydrat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7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-form a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glycoprote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6" descr="Processing the proteins"/>
          <p:cNvPicPr/>
          <p:nvPr/>
        </p:nvPicPr>
        <p:blipFill>
          <a:blip r:embed="rId1"/>
          <a:stretch/>
        </p:blipFill>
        <p:spPr>
          <a:xfrm>
            <a:off x="1066680" y="11160"/>
            <a:ext cx="7543800" cy="6846840"/>
          </a:xfrm>
          <a:prstGeom prst="rect">
            <a:avLst/>
          </a:prstGeom>
          <a:ln w="0">
            <a:noFill/>
          </a:ln>
        </p:spPr>
      </p:pic>
      <p:sp>
        <p:nvSpPr>
          <p:cNvPr id="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Exocyto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esicles containing finished produ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-muc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-digestive enzy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-horm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inched off at end of Golgi apparat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esicles move towards cell membrane and fuse with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ontents of vesicle discharged to outs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 u="sng">
                <a:solidFill>
                  <a:srgbClr val="ccccff"/>
                </a:solidFill>
                <a:uFillTx/>
                <a:latin typeface="Comic Sans MS"/>
                <a:hlinkClick r:id="rId1"/>
              </a:rPr>
              <a:t>Protein Secretion_x000b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Golgi bodies especially numerous and active in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secretory cel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-gastric gland cells in stomach wal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-mucu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-peps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-pancre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-insul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Elements in a prote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arb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Hydrog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Oxg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itrog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(sulphu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ccccff"/>
                </a:solidFill>
                <a:uFillTx/>
                <a:latin typeface="Comic Sans MS"/>
                <a:hlinkClick r:id="rId1"/>
              </a:rPr>
              <a:t>Structure of a prote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5" descr="protein-structure2"/>
          <p:cNvPicPr/>
          <p:nvPr/>
        </p:nvPicPr>
        <p:blipFill>
          <a:blip r:embed="rId2"/>
          <a:stretch/>
        </p:blipFill>
        <p:spPr>
          <a:xfrm>
            <a:off x="0" y="1125360"/>
            <a:ext cx="9144000" cy="5732640"/>
          </a:xfrm>
          <a:prstGeom prst="rect">
            <a:avLst/>
          </a:prstGeom>
          <a:ln w="0">
            <a:noFill/>
          </a:ln>
        </p:spPr>
      </p:pic>
      <p:sp>
        <p:nvSpPr>
          <p:cNvPr id="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9T12:40:51Z</dcterms:created>
  <dc:creator>hhashmi</dc:creator>
  <dc:description/>
  <dc:language>en-US</dc:language>
  <cp:lastModifiedBy>LEGION2</cp:lastModifiedBy>
  <dcterms:modified xsi:type="dcterms:W3CDTF">2016-01-11T13:45:48Z</dcterms:modified>
  <cp:revision>13</cp:revision>
  <dc:subject/>
  <dc:title>Protein Secretion</dc:title>
</cp:coreProperties>
</file>