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557A-F444-4189-A66C-E8D9EB1A97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682-A0D3-412F-9021-B022F567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9501-0017-46FC-890E-1FE456BB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5FF-3EF1-4B7E-9413-7D6B681E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54F0-5B58-45D8-8610-C67CCDAF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D2B-1718-4899-9996-836B515F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769-2899-4993-963D-075FE275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1757-984C-430E-9F37-1851A127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5F13-6B49-495B-8A8F-F35DDA97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3C6-7D57-4697-8531-D450121B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8458-B859-4303-B488-D151692D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D16A-2422-4C9D-B8F9-9A49C2EF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6B3-B793-4733-B738-3BB8ED24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A5F5-F5A1-48F6-ABCF-B031B1F1A7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image" Target="../media/image8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nteractivehuman.blogspot.com/2008/05/protein-secretion.html" TargetMode="External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ywebspace.wisc.edu/jonovic/web/proteins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tein Secr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aternary structure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different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fibrous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conjugated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brous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ral spiral-shaped polypeptide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ed in parallel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sulphide bri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rope-lik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nsp-protein-2-5-2_17"/>
          <p:cNvPicPr/>
          <p:nvPr/>
        </p:nvPicPr>
        <p:blipFill>
          <a:blip r:embed="rId1"/>
          <a:srcRect l="0" t="8547" r="0" b="0"/>
          <a:stretch/>
        </p:blipFill>
        <p:spPr>
          <a:xfrm>
            <a:off x="6251400" y="0"/>
            <a:ext cx="2732400" cy="662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04920" y="228600"/>
          <a:ext cx="8839080" cy="646416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2210040"/>
                <a:gridCol w="2209680"/>
              </a:tblGrid>
              <a:tr h="15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rou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tural prope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sue rich in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 of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l of large art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exible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B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Tendon and liga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Rigid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attach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a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n and my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ct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lobular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veral polypeptide ch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lded roughly into a spherical shape like a tangled ball of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re 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so vital component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ll and sub-cellular membra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27" descr="8883n06_23"/>
          <p:cNvPicPr/>
          <p:nvPr/>
        </p:nvPicPr>
        <p:blipFill>
          <a:blip r:embed="rId1"/>
          <a:stretch/>
        </p:blipFill>
        <p:spPr>
          <a:xfrm>
            <a:off x="0" y="0"/>
            <a:ext cx="5257800" cy="3651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29" descr="Image17"/>
          <p:cNvPicPr/>
          <p:nvPr/>
        </p:nvPicPr>
        <p:blipFill>
          <a:blip r:embed="rId2"/>
          <a:stretch/>
        </p:blipFill>
        <p:spPr>
          <a:xfrm>
            <a:off x="5864400" y="2286000"/>
            <a:ext cx="327960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ical messe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ert a specific effect on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Picture of Appetite represing horm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54480" y="2811600"/>
            <a:ext cx="3989520" cy="4046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ti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-shaped globular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by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ymphoc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fend body against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AntibodyCHODisulfide"/>
          <p:cNvPicPr/>
          <p:nvPr/>
        </p:nvPicPr>
        <p:blipFill>
          <a:blip r:embed="rId1"/>
          <a:stretch/>
        </p:blipFill>
        <p:spPr>
          <a:xfrm>
            <a:off x="4525920" y="3565440"/>
            <a:ext cx="4618080" cy="32925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jugated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ssociated with 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n-protein chem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rotein and carbohyd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omplex-gain-both"/>
          <p:cNvPicPr/>
          <p:nvPr/>
        </p:nvPicPr>
        <p:blipFill>
          <a:blip r:embed="rId1"/>
          <a:stretch/>
        </p:blipFill>
        <p:spPr>
          <a:xfrm>
            <a:off x="6172200" y="4290840"/>
            <a:ext cx="2971800" cy="25671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ygen-transporting pigment in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jugated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non-protein containing ir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haemoglobin"/>
          <p:cNvPicPr/>
          <p:nvPr/>
        </p:nvPicPr>
        <p:blipFill>
          <a:blip r:embed="rId1"/>
          <a:stretch/>
        </p:blipFill>
        <p:spPr>
          <a:xfrm>
            <a:off x="685800" y="0"/>
            <a:ext cx="8686800" cy="6896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ugh Endoplasmic Reticulum (rough 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ystem of flattened sacs and tub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crusted with ribosomes on the outer surface if their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inuous with outer nuclear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vides a large surface area for chemical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thway for transport of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ER"/>
          <p:cNvPicPr/>
          <p:nvPr/>
        </p:nvPicPr>
        <p:blipFill>
          <a:blip r:embed="rId1"/>
          <a:srcRect l="0" t="51043" r="0" b="0"/>
          <a:stretch/>
        </p:blipFill>
        <p:spPr>
          <a:xfrm>
            <a:off x="2050920" y="3500280"/>
            <a:ext cx="5562720" cy="335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image006"/>
          <p:cNvPicPr/>
          <p:nvPr/>
        </p:nvPicPr>
        <p:blipFill>
          <a:blip r:embed="rId2"/>
          <a:stretch/>
        </p:blipFill>
        <p:spPr>
          <a:xfrm>
            <a:off x="2050920" y="0"/>
            <a:ext cx="5400720" cy="35164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gi Appar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oup of flattened fluid-filled sa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esic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ntaining newly synthesised protein pinched off from rough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use with outermost sac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ein passed from sac to sac by means of ves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lgi apparatu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rote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e.g. adds a carbohyd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form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Processing the proteins"/>
          <p:cNvPicPr/>
          <p:nvPr/>
        </p:nvPicPr>
        <p:blipFill>
          <a:blip r:embed="rId1"/>
          <a:stretch/>
        </p:blipFill>
        <p:spPr>
          <a:xfrm>
            <a:off x="1066680" y="11160"/>
            <a:ext cx="7543800" cy="68468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xocy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containing finished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digestive enzy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horm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inched off at end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move towards cell membrane and fuse with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ents of vesicle discharged to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Protein Secretion_x000b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olgi bodies especially numerous and active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ecretory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astric gland cells in stomach w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ep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anc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insu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ements in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sulph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Structure of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protein-structure2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2:40:51Z</dcterms:created>
  <dc:creator>hhashmi</dc:creator>
  <dc:description/>
  <dc:language>en-US</dc:language>
  <cp:lastModifiedBy>LEGION2</cp:lastModifiedBy>
  <dcterms:modified xsi:type="dcterms:W3CDTF">2016-01-11T13:45:48Z</dcterms:modified>
  <cp:revision>13</cp:revision>
  <dc:subject/>
  <dc:title>Protein Secretion</dc:title>
</cp:coreProperties>
</file>