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5.jpeg" ContentType="image/jpeg"/>
  <Override PartName="/ppt/media/image8.jpeg" ContentType="image/jpeg"/>
  <Override PartName="/ppt/media/image25.gif" ContentType="image/gif"/>
  <Override PartName="/ppt/media/image26.gif" ContentType="image/gif"/>
  <Override PartName="/ppt/media/image2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24.gif" ContentType="image/gif"/>
  <Override PartName="/ppt/media/image14.png" ContentType="image/png"/>
  <Override PartName="/ppt/media/image22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2F0F-D012-4590-B09F-CCEEC2C69843}" type="slidenum">
              <a:rPr b="0" lang="en-GB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s Griffith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 Biolog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anim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attaches to small ribosomal subuni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- outl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used to make polypeptide chain (protei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 the mRNA attaches itself to a ribosome (to the small subunit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ix bases of the mRNA are expos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first tRNA (without its amino acid)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 the mRNA to the next codon (three bases)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econd tRNA molecule moves into position P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growing polypeptide is formed in this way until a stop codon is reach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nd of Transl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l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to Polypep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rotein synthesis pg 72-7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unwi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is made of one of the DNA str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moves out of nucleus into cytopla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molecules are activated as their complementary amino acids are attached to the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RNA copy  attaches to the small subunit of the ribosomes in cytoplasm. 6 of the bases in the mRNA are exposed in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RNA bonds complementarily with the mRNA via its anticod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second tRNA bonds with the next three bases of the mRNA, the amino acid joins onto the amino acid of the first tRNA via a peptide bo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ibosome moves along. The first tRNA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third tRNA brings a third amino aci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ventually a stop codon is reached on the mRNA. The newly synthesised polypeptide leaves the riboso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ough endoplasmic reticulu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ribosome from the R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riboso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vervie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making a mRNA copy of DN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mRNA strand is a complementary copy of the DNA (gen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mRNA molecule leaves the nucleus via a nuclear pore into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3366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RNA –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ick up their specific amino acids from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376-1AC7-4F38-A49B-7718C7AB0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843C-4C89-4AC4-8333-322CB8CA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86FC-764B-4FCE-B37D-8909F518B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6BC-B84E-4B57-B9C3-6A074BB5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C220-BB83-47E0-B9AF-3FF310FFD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1FF0-F4B4-484C-AF83-AD67B2F6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2E95-4183-4D92-A595-361BCE77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15D9B-1238-4D18-A76A-FF76EEFD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66170-5BD3-43B0-90D0-F5544611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0E204-8E0D-4DBD-83E5-236BFDA9F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605E-9E4F-482D-8E97-825947E0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521C-4AC6-42CA-9CE7-6A78C9EFB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204B-288F-4169-8054-B84D04A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5661-D83F-43D5-B8DC-94D52227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BBF6-9467-454B-83F7-38F500A4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81E0-8DA5-4F17-B54B-62D14A621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7A2B5-134F-4E60-8011-B6C65A687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A7B62-8A54-454B-B4E1-2E2713003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B986C-C69F-474B-A8AF-65BE361F0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92C2E-3FEC-4BFD-86FE-DD41029A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733B-E594-45ED-95DE-E2B5C687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DAFDA-61B6-43A4-9FB4-1F0DC75F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C3C-6D9A-49B4-A090-7FD56B96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7A5C-FF36-4BB5-AD53-82D78789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BB35-FC37-4B43-B2A9-CFF6CF7D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AD870-9E4E-42A1-9A1B-D7CE8A619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F7FC8-7920-4798-A526-1AD57F17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98A3-2D69-4426-B5DA-B81DC264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C241F-AEE3-48E2-AD62-EC8DE8BF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711C2-79E6-49DD-B91D-2D92E8A0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74F26-0766-486F-B01C-C362B2B7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F61ED-75BB-4251-A8AD-083AB38E9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2861-5C15-4DD2-BD29-E0A6F094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B6B2-08E7-4B06-93DB-AE2956CB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147A-FCA5-4EE9-AF59-F29AF36A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948BA-213F-420B-8CC3-1474D4B6F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51D73-7846-46D7-A001-39C137D3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AC1FD-E319-4C2A-99C1-AF28B300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1D12-A9BE-4216-909D-341D38DE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8F10-022B-4C8D-8F0A-77A556B8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53BA1-5AD0-4420-957C-9D7DE510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70598-F71A-4F9F-BE9F-88057A614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8A9E4-680C-4CB0-BFAB-153EB8B0A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76B-65DD-4164-B65D-FC506EFA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49A6-8FC3-4F25-ADD1-6051BAC1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378E-04FD-40F6-BEF9-5E2AD251F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D36F-40AE-49FF-8A9D-B66E8463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7694-479B-4455-B636-EB347365B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Comic Sans MS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6F7B-198F-4EF5-A8A2-A45A0D6C1921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49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0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1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2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3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4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5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6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7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59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0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1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2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63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901C-BA44-413B-B5F4-A3A491EB6B64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0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0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grpSp>
        <p:nvGrpSpPr>
          <p:cNvPr id="10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0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Comic Sans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58CB-3985-4263-A33F-1F45E117D618}" type="slidenum">
              <a:rPr b="1" lang="en-GB" sz="26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3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4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5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6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7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8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59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0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1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2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3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4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5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6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  <p:sp>
          <p:nvSpPr>
            <p:cNvPr id="167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Comic Sans MS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eaeaea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B200-5913-45B8-8E1B-281F8DE42346}" type="slidenum">
              <a:rPr b="0" lang="en-GB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886280" y="2505240"/>
            <a:ext cx="363384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3366"/>
                </a:solidFill>
                <a:latin typeface="Comic Sans MS"/>
              </a:rPr>
              <a:t>Protein Synthesis</a:t>
            </a:r>
            <a:endParaRPr b="0" lang="en-US" sz="4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17" name="Picture 5" descr="book"/>
          <p:cNvPicPr/>
          <p:nvPr/>
        </p:nvPicPr>
        <p:blipFill>
          <a:blip r:embed="rId1"/>
          <a:stretch/>
        </p:blipFill>
        <p:spPr>
          <a:xfrm>
            <a:off x="684360" y="549360"/>
            <a:ext cx="3767040" cy="4967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9"/>
          <p:cNvSpPr/>
          <p:nvPr/>
        </p:nvSpPr>
        <p:spPr>
          <a:xfrm>
            <a:off x="395280" y="404640"/>
            <a:ext cx="8353440" cy="5977080"/>
          </a:xfrm>
          <a:prstGeom prst="rect">
            <a:avLst/>
          </a:prstGeom>
          <a:noFill/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5940360" y="47242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s Griffiths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5796000" y="83664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Comic Sans MS"/>
              </a:rPr>
              <a:t>AS Biology</a:t>
            </a: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0" name="Picture 5" descr="trna"/>
          <p:cNvPicPr/>
          <p:nvPr/>
        </p:nvPicPr>
        <p:blipFill>
          <a:blip r:embed="rId1"/>
          <a:stretch/>
        </p:blipFill>
        <p:spPr>
          <a:xfrm>
            <a:off x="755640" y="476280"/>
            <a:ext cx="7488360" cy="614376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729720" y="306000"/>
            <a:ext cx="7833240" cy="62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anim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4" name="Picture 5" descr="aProteinSyn"/>
          <p:cNvPicPr/>
          <p:nvPr/>
        </p:nvPicPr>
        <p:blipFill>
          <a:blip r:embed="rId1"/>
          <a:stretch/>
        </p:blipFill>
        <p:spPr>
          <a:xfrm>
            <a:off x="324000" y="1989000"/>
            <a:ext cx="5543280" cy="292428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68" name="Picture 5" descr="ribosome_1"/>
          <p:cNvPicPr/>
          <p:nvPr/>
        </p:nvPicPr>
        <p:blipFill>
          <a:blip r:embed="rId1"/>
          <a:stretch/>
        </p:blipFill>
        <p:spPr>
          <a:xfrm>
            <a:off x="1476360" y="549360"/>
            <a:ext cx="5533920" cy="590400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6"/>
          <p:cNvSpPr/>
          <p:nvPr/>
        </p:nvSpPr>
        <p:spPr>
          <a:xfrm>
            <a:off x="611280" y="2384280"/>
            <a:ext cx="11748960" cy="3853080"/>
          </a:xfrm>
          <a:custGeom>
            <a:avLst/>
            <a:gdLst/>
            <a:ahLst/>
            <a:rect l="l" t="t" r="r" b="b"/>
            <a:pathLst>
              <a:path w="7401" h="2427">
                <a:moveTo>
                  <a:pt x="0" y="930"/>
                </a:moveTo>
                <a:cubicBezTo>
                  <a:pt x="329" y="790"/>
                  <a:pt x="658" y="651"/>
                  <a:pt x="1044" y="613"/>
                </a:cubicBezTo>
                <a:cubicBezTo>
                  <a:pt x="1430" y="575"/>
                  <a:pt x="1830" y="718"/>
                  <a:pt x="2314" y="703"/>
                </a:cubicBezTo>
                <a:cubicBezTo>
                  <a:pt x="2798" y="688"/>
                  <a:pt x="3622" y="537"/>
                  <a:pt x="3947" y="522"/>
                </a:cubicBezTo>
                <a:cubicBezTo>
                  <a:pt x="4272" y="507"/>
                  <a:pt x="4067" y="590"/>
                  <a:pt x="4264" y="613"/>
                </a:cubicBezTo>
                <a:cubicBezTo>
                  <a:pt x="4461" y="636"/>
                  <a:pt x="4612" y="711"/>
                  <a:pt x="5126" y="658"/>
                </a:cubicBezTo>
                <a:cubicBezTo>
                  <a:pt x="5640" y="605"/>
                  <a:pt x="7295" y="0"/>
                  <a:pt x="7348" y="295"/>
                </a:cubicBezTo>
                <a:cubicBezTo>
                  <a:pt x="7401" y="590"/>
                  <a:pt x="6422" y="1508"/>
                  <a:pt x="5443" y="2427"/>
                </a:cubicBezTo>
              </a:path>
            </a:pathLst>
          </a:custGeom>
          <a:noFill/>
          <a:ln w="76320">
            <a:solidFill>
              <a:srgbClr val="99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50920" y="4221000"/>
            <a:ext cx="151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mRNA attaches to small ribosomal subunit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1" name="Line 8"/>
          <p:cNvSpPr/>
          <p:nvPr/>
        </p:nvSpPr>
        <p:spPr>
          <a:xfrm flipV="1">
            <a:off x="1042920" y="3789000"/>
            <a:ext cx="7308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734040" y="30996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- outlin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75" name="Picture 5" descr="polysome"/>
          <p:cNvPicPr/>
          <p:nvPr/>
        </p:nvPicPr>
        <p:blipFill>
          <a:blip r:embed="rId1"/>
          <a:stretch/>
        </p:blipFill>
        <p:spPr>
          <a:xfrm>
            <a:off x="324000" y="1414440"/>
            <a:ext cx="8064360" cy="482616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1900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.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used to make polypeptide chain (protein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78" name="Picture 4" descr="ELONGATION3"/>
          <p:cNvPicPr/>
          <p:nvPr/>
        </p:nvPicPr>
        <p:blipFill>
          <a:blip r:embed="rId1"/>
          <a:stretch/>
        </p:blipFill>
        <p:spPr>
          <a:xfrm>
            <a:off x="0" y="1989000"/>
            <a:ext cx="4427640" cy="26766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elongation_4"/>
          <p:cNvPicPr/>
          <p:nvPr/>
        </p:nvPicPr>
        <p:blipFill>
          <a:blip r:embed="rId2"/>
          <a:stretch/>
        </p:blipFill>
        <p:spPr>
          <a:xfrm>
            <a:off x="4427640" y="1989000"/>
            <a:ext cx="4716360" cy="269748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27000" y="216000"/>
            <a:ext cx="3364920" cy="37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1.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3" name="Picture 5" descr="ELONGATION3"/>
          <p:cNvPicPr/>
          <p:nvPr/>
        </p:nvPicPr>
        <p:blipFill>
          <a:blip r:embed="rId1"/>
          <a:stretch/>
        </p:blipFill>
        <p:spPr>
          <a:xfrm>
            <a:off x="684360" y="189000"/>
            <a:ext cx="7561080" cy="41036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179280" y="4437000"/>
            <a:ext cx="8964720" cy="29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irst the mRNA attaches itself to a ribosome (to the small subunit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Six bases of the mRNA are expos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complementary tRNA molecule with its attached amino acid (methionine) base pairs via its anticodon UAC with the AUG on the mRNA in the first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base pairs with the other three mRNA bases in the ribosome at position A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enzyme peptidyl transferase forms a peptide bond between the two amino acid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first tRNA (without its amino acid) leaves the ribosom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la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88" name="Picture 5" descr="elongation_4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504180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6"/>
          <p:cNvSpPr/>
          <p:nvPr/>
        </p:nvSpPr>
        <p:spPr>
          <a:xfrm>
            <a:off x="0" y="5157720"/>
            <a:ext cx="889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250920" y="5300640"/>
            <a:ext cx="84978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ribosome moves along the mRNA to the next codon (three bases)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second tRNA molecule moves into position P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nother tRNA molecule pairs with the mRNA in position A bringing its amino aci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growing polypeptide is formed in this way until a stop codon is reache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End of Translation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94" name="Picture 5" descr="termination_5"/>
          <p:cNvPicPr/>
          <p:nvPr/>
        </p:nvPicPr>
        <p:blipFill>
          <a:blip r:embed="rId1"/>
          <a:stretch/>
        </p:blipFill>
        <p:spPr>
          <a:xfrm>
            <a:off x="900000" y="189000"/>
            <a:ext cx="7345440" cy="520056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6"/>
          <p:cNvSpPr/>
          <p:nvPr/>
        </p:nvSpPr>
        <p:spPr>
          <a:xfrm>
            <a:off x="430200" y="5877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A stop codon on the mRNA is reached and this signals the ribosome to leave the mRNA. A newly synthesised protein is now complete!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9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lation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mRNA to Polypeptide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298" name="Picture 5" descr="code_2"/>
          <p:cNvPicPr/>
          <p:nvPr/>
        </p:nvPicPr>
        <p:blipFill>
          <a:blip r:embed="rId1"/>
          <a:stretch/>
        </p:blipFill>
        <p:spPr>
          <a:xfrm>
            <a:off x="4427640" y="2492280"/>
            <a:ext cx="4410000" cy="30956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6" descr="polyphenyl"/>
          <p:cNvPicPr/>
          <p:nvPr/>
        </p:nvPicPr>
        <p:blipFill>
          <a:blip r:embed="rId2"/>
          <a:stretch/>
        </p:blipFill>
        <p:spPr>
          <a:xfrm>
            <a:off x="1117440" y="2800440"/>
            <a:ext cx="2448000" cy="2555640"/>
          </a:xfrm>
          <a:prstGeom prst="rect">
            <a:avLst/>
          </a:prstGeom>
          <a:ln w="0">
            <a:noFill/>
          </a:ln>
        </p:spPr>
      </p:pic>
      <p:sp>
        <p:nvSpPr>
          <p:cNvPr id="30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03" name="Picture 5" descr="code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489640"/>
          </a:xfrm>
          <a:prstGeom prst="rect">
            <a:avLst/>
          </a:prstGeom>
          <a:ln w="0">
            <a:noFill/>
          </a:ln>
        </p:spPr>
      </p:pic>
      <p:sp>
        <p:nvSpPr>
          <p:cNvPr id="3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61760" y="259920"/>
            <a:ext cx="792468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Arial"/>
              </a:rPr>
              <a:t>Protein synthesis </a:t>
            </a:r>
            <a:r>
              <a:rPr b="0" lang="en-GB" sz="1600" spc="-1" strike="noStrike">
                <a:solidFill>
                  <a:srgbClr val="ffffcc"/>
                </a:solidFill>
                <a:latin typeface="Arial"/>
              </a:rPr>
              <a:t>pg 72-73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DNA unwin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is made of one of the DNA strand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moves out of nucleus into cytoplas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RNA molecules are activated as their complementary amino acids are attached to them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mRNA copy  attaches to the small subunit of the ribosomes in cytoplasm. 6 of the bases in the mRNA are exposed in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RNA bonds complementarily with the mRNA via its anticod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second tRNA bonds with the next three bases of the mRNA, the amino acid joins onto the amino acid of the first tRNA via a peptide bond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The ribosome moves along. The first tRNA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A third tRNA brings a third amino acid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-380880">
              <a:spcBef>
                <a:spcPts val="4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Eventually a stop codon is reached on the mRNA. The newly synthesised polypeptide leaves the ribosom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pic>
        <p:nvPicPr>
          <p:cNvPr id="306" name="Picture 10" descr="protein_synthesis"/>
          <p:cNvPicPr/>
          <p:nvPr/>
        </p:nvPicPr>
        <p:blipFill>
          <a:blip r:embed="rId1"/>
          <a:stretch/>
        </p:blipFill>
        <p:spPr>
          <a:xfrm>
            <a:off x="1305000" y="260280"/>
            <a:ext cx="6427800" cy="6597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30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11800" y="454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Rough endoplasmic reticulum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1" name="Picture 5" descr="rough1"/>
          <p:cNvPicPr/>
          <p:nvPr/>
        </p:nvPicPr>
        <p:blipFill>
          <a:blip r:embed="rId1"/>
          <a:stretch/>
        </p:blipFill>
        <p:spPr>
          <a:xfrm>
            <a:off x="2411280" y="155736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31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5" name="Picture 5" descr="rough4"/>
          <p:cNvPicPr/>
          <p:nvPr/>
        </p:nvPicPr>
        <p:blipFill>
          <a:blip r:embed="rId1"/>
          <a:stretch/>
        </p:blipFill>
        <p:spPr>
          <a:xfrm>
            <a:off x="2340000" y="2421000"/>
            <a:ext cx="4319640" cy="4319640"/>
          </a:xfrm>
          <a:prstGeom prst="rect">
            <a:avLst/>
          </a:prstGeom>
          <a:ln w="0">
            <a:noFill/>
          </a:ln>
        </p:spPr>
      </p:pic>
      <p:sp>
        <p:nvSpPr>
          <p:cNvPr id="31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56360" y="405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ne ribosome from the RER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19" name="Picture 5" descr="rough3"/>
          <p:cNvPicPr/>
          <p:nvPr/>
        </p:nvPicPr>
        <p:blipFill>
          <a:blip r:embed="rId1"/>
          <a:stretch/>
        </p:blipFill>
        <p:spPr>
          <a:xfrm>
            <a:off x="1979640" y="1628640"/>
            <a:ext cx="4968720" cy="4969080"/>
          </a:xfrm>
          <a:prstGeom prst="rect">
            <a:avLst/>
          </a:prstGeom>
          <a:ln w="0">
            <a:noFill/>
          </a:ln>
        </p:spPr>
      </p:pic>
      <p:sp>
        <p:nvSpPr>
          <p:cNvPr id="3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3" name="Picture 5" descr="rough3"/>
          <p:cNvPicPr/>
          <p:nvPr/>
        </p:nvPicPr>
        <p:blipFill>
          <a:blip r:embed="rId1"/>
          <a:stretch/>
        </p:blipFill>
        <p:spPr>
          <a:xfrm>
            <a:off x="2411280" y="1484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827640" y="720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A ribosome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327" name="Picture 5" descr="cyto3"/>
          <p:cNvPicPr/>
          <p:nvPr/>
        </p:nvPicPr>
        <p:blipFill>
          <a:blip r:embed="rId1"/>
          <a:stretch/>
        </p:blipFill>
        <p:spPr>
          <a:xfrm>
            <a:off x="2050920" y="1341360"/>
            <a:ext cx="5185080" cy="518472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Overview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27" name="Picture 5" descr="dogma1"/>
          <p:cNvPicPr/>
          <p:nvPr/>
        </p:nvPicPr>
        <p:blipFill>
          <a:blip r:embed="rId1"/>
          <a:stretch/>
        </p:blipFill>
        <p:spPr>
          <a:xfrm>
            <a:off x="395280" y="3213000"/>
            <a:ext cx="8353440" cy="13924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6"/>
          <p:cNvSpPr/>
          <p:nvPr/>
        </p:nvSpPr>
        <p:spPr>
          <a:xfrm>
            <a:off x="468360" y="4365720"/>
            <a:ext cx="820728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2" name="Picture 5" descr="central_dogma"/>
          <p:cNvPicPr/>
          <p:nvPr/>
        </p:nvPicPr>
        <p:blipFill>
          <a:blip r:embed="rId1"/>
          <a:stretch/>
        </p:blipFill>
        <p:spPr>
          <a:xfrm>
            <a:off x="611280" y="549360"/>
            <a:ext cx="7777080" cy="585612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36" name="Picture 8" descr="cendogma"/>
          <p:cNvPicPr/>
          <p:nvPr/>
        </p:nvPicPr>
        <p:blipFill>
          <a:blip r:embed="rId1"/>
          <a:stretch/>
        </p:blipFill>
        <p:spPr>
          <a:xfrm>
            <a:off x="395280" y="2060640"/>
            <a:ext cx="8280360" cy="462132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anscription 1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(making a mRNA copy of DNA)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0" name="Picture 5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8"/>
          <p:cNvSpPr/>
          <p:nvPr/>
        </p:nvSpPr>
        <p:spPr>
          <a:xfrm>
            <a:off x="1042920" y="4724280"/>
            <a:ext cx="72741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part of the DNA molecule (the gene) that the cell wants the information from to make a protein unwinds to expose the bases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Free mRNA nucleotides in the nucleus base pair with one strand of the unwound DNA molecule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Comic Sans MS"/>
              </a:rPr>
              <a:t>Transcription 2</a:t>
            </a: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46" name="Picture 5" descr="11_4c"/>
          <p:cNvPicPr/>
          <p:nvPr/>
        </p:nvPicPr>
        <p:blipFill>
          <a:blip r:embed="rId1"/>
          <a:stretch/>
        </p:blipFill>
        <p:spPr>
          <a:xfrm>
            <a:off x="179280" y="191628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11_4d"/>
          <p:cNvPicPr/>
          <p:nvPr/>
        </p:nvPicPr>
        <p:blipFill>
          <a:blip r:embed="rId2"/>
          <a:stretch/>
        </p:blipFill>
        <p:spPr>
          <a:xfrm>
            <a:off x="4606920" y="1916280"/>
            <a:ext cx="4537080" cy="31446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684360" y="5157720"/>
            <a:ext cx="8208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copy is made with the help of RNA polymerase. This enzyme joins up the mRNA nucleotides to make a mRNA strand.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is mRNA strand is a complementary copy of the DNA (gene)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  <a:p>
            <a:pPr>
              <a:spcBef>
                <a:spcPts val="1125"/>
              </a:spcBef>
              <a:buClr>
                <a:srgbClr val="003366"/>
              </a:buClr>
              <a:buSzPct val="75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Comic Sans MS"/>
              </a:rPr>
              <a:t>The mRNA molecule leaves the nucleus via a nuclear pore into the cytoplasm</a:t>
            </a:r>
            <a:endParaRPr b="0" lang="en-US" sz="1800" spc="-1" strike="noStrike">
              <a:solidFill>
                <a:srgbClr val="003366"/>
              </a:solidFill>
              <a:latin typeface="Comic Sans MS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2" name="Picture 5" descr="template_strand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48316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72640" y="810360"/>
            <a:ext cx="7833600" cy="62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tRNA – </a:t>
            </a:r>
            <a:br>
              <a:rPr sz="3200"/>
            </a:br>
            <a:r>
              <a:rPr b="1" lang="en-GB" sz="3200" spc="-1" strike="noStrike">
                <a:solidFill>
                  <a:srgbClr val="006666"/>
                </a:solidFill>
                <a:latin typeface="Comic Sans MS"/>
              </a:rPr>
              <a:t>pick up their specific amino acids from the cytoplasm</a:t>
            </a:r>
            <a:endParaRPr b="1" lang="en-US" sz="3200" spc="-1" strike="noStrike">
              <a:solidFill>
                <a:srgbClr val="006666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Comic Sans MS"/>
            </a:endParaRPr>
          </a:p>
        </p:txBody>
      </p:sp>
      <p:pic>
        <p:nvPicPr>
          <p:cNvPr id="256" name="Picture 5" descr="tRNA2"/>
          <p:cNvPicPr/>
          <p:nvPr/>
        </p:nvPicPr>
        <p:blipFill>
          <a:blip r:embed="rId1"/>
          <a:stretch/>
        </p:blipFill>
        <p:spPr>
          <a:xfrm>
            <a:off x="755640" y="1916280"/>
            <a:ext cx="7489800" cy="494172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3366"/>
                </a:solidFill>
                <a:latin typeface="Comic Sans MS"/>
              </a:rPr>
              <a:t>www.sliderbase.com</a:t>
            </a:r>
            <a:endParaRPr b="0" lang="en-US" sz="1400" spc="-1" strike="noStrike">
              <a:solidFill>
                <a:srgbClr val="0033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20:24:59Z</dcterms:created>
  <dc:creator>Bella Griffiths</dc:creator>
  <dc:description/>
  <dc:language>en-US</dc:language>
  <cp:lastModifiedBy>LEGION2</cp:lastModifiedBy>
  <dcterms:modified xsi:type="dcterms:W3CDTF">2016-01-11T13:49:33Z</dcterms:modified>
  <cp:revision>77</cp:revision>
  <dc:subject/>
  <dc:title>Slide 1</dc:title>
</cp:coreProperties>
</file>