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09C9-F3F9-4B1D-BD4E-77B4948D96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alise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1 Bi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1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hite Blood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Xyl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d Blood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erv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F9CC-0EFE-4F81-B27A-6C9004B6B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A559-9B99-4C8C-83C1-9793850A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0A78-4B28-4263-B4DC-1A8A4CD57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FE88-B7CC-40B5-8F6E-C742E916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1F28-B12C-4412-958C-E2264F24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B1DE-A568-4603-8E5C-1ED75CE2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6721-8FDB-425C-966B-51226837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34DA-1A3D-4F47-A94F-AF88A4C3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998A-EFF0-41CD-AC82-9A180779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0B46-5EF2-4E32-A2B3-E9D5A467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BD01-52E9-48F5-87B0-2E6F6FE8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6E7C-32D2-4A07-9444-E23F1A48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56BE-692F-4E1D-85BB-DADF3CAE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EC8F-E15B-4F63-9CCD-7B59D7A6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570B-9DBE-453F-A94A-ED31950A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8E13-30BF-49FA-972D-CEC50D626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AD83-B5B2-452C-BE24-2E619971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A76A-4BAB-4D82-B246-D287DE3E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2349-8F62-4E5D-9E2C-9F6C8D5C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21F6-A553-4697-ACBE-2CB42075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B6F8-D06A-4300-838C-5FB911F6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3148-B605-469E-8AAA-B3BEC69A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225F-29D2-44BE-8A2A-DFC1854A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6E26-6806-4BB7-B6E0-617E7E19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8FE5-9369-47ED-9030-324A0E0F8EE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B31E-DB71-4737-9153-7F3E1E18685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Specialised Cel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1 Bi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ite Blood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White blood cell engulfing yeast"/>
          <p:cNvPicPr/>
          <p:nvPr/>
        </p:nvPicPr>
        <p:blipFill>
          <a:blip r:embed="rId1"/>
          <a:stretch/>
        </p:blipFill>
        <p:spPr>
          <a:xfrm>
            <a:off x="539640" y="1535040"/>
            <a:ext cx="8101080" cy="532296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rm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Sperm fertilizing egg"/>
          <p:cNvPicPr/>
          <p:nvPr/>
        </p:nvPicPr>
        <p:blipFill>
          <a:blip r:embed="rId1"/>
          <a:stretch/>
        </p:blipFill>
        <p:spPr>
          <a:xfrm>
            <a:off x="1692360" y="1557360"/>
            <a:ext cx="6048360" cy="499428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Xy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5" descr="Xylem plant cells, SEM"/>
          <p:cNvPicPr/>
          <p:nvPr/>
        </p:nvPicPr>
        <p:blipFill>
          <a:blip r:embed="rId1"/>
          <a:stretch/>
        </p:blipFill>
        <p:spPr>
          <a:xfrm>
            <a:off x="900000" y="1413000"/>
            <a:ext cx="7417080" cy="49370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d Blood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Red blood cells, SEM"/>
          <p:cNvPicPr/>
          <p:nvPr/>
        </p:nvPicPr>
        <p:blipFill>
          <a:blip r:embed="rId1"/>
          <a:stretch/>
        </p:blipFill>
        <p:spPr>
          <a:xfrm>
            <a:off x="1116000" y="1341360"/>
            <a:ext cx="6840720" cy="52182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Nerve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Nerve cell, computer artwork"/>
          <p:cNvPicPr/>
          <p:nvPr/>
        </p:nvPicPr>
        <p:blipFill>
          <a:blip r:embed="rId1"/>
          <a:stretch/>
        </p:blipFill>
        <p:spPr>
          <a:xfrm>
            <a:off x="1476360" y="1197000"/>
            <a:ext cx="7056360" cy="516096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16:30:41Z</dcterms:created>
  <dc:creator>CEC</dc:creator>
  <dc:description/>
  <dc:language>en-US</dc:language>
  <cp:lastModifiedBy>LEGION2</cp:lastModifiedBy>
  <dcterms:modified xsi:type="dcterms:W3CDTF">2016-01-11T14:02:17Z</dcterms:modified>
  <cp:revision>7</cp:revision>
  <dc:subject/>
  <dc:title>Specialised Cells</dc:title>
</cp:coreProperties>
</file>