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C32F-25F4-47CE-8550-427317D933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353-FFF5-4FBA-86AE-9D921CB0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E32-CDD9-49A7-B60C-11E6BE06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127-24F9-4704-A0F6-9E6E2FA2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14F-1310-4971-9122-22E8B089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0D64-DB86-477C-81B2-BDF53CFF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4FD0-C48D-456E-A693-98B5AB7C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A868-4E50-4B67-8DAF-46B5C908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E214-0A14-430B-B858-3B159545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8A4D-C65A-40CA-BFC5-C417F8E4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15AA-62A9-46AA-8D75-88F3F157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ED5E-32D4-42A9-8D9F-86A2E1A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D3C-08DC-48EE-A32E-8C0D8293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160E-1AB9-47C9-BFB2-5631027E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AA9C-4676-42EC-8F7F-24B1B87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7D22-680E-4231-8C77-2A08816C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7908-D589-4787-9665-C076E756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1D99-A49D-4BD5-8E76-39F2CC79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C95-6572-47D8-99A0-B2D247E8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209-39C3-4298-B251-D8B95F2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4E6-1A2F-48FD-AF56-86081BC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A44-3659-4695-B2CF-59B95CFA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CEA-C6A3-40AD-B6B7-BA3363C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FAD-85E8-4739-89FB-1D0218FE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860-D061-4245-93D0-6DA5701B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4EE7-8979-4B05-AF1D-72A4DC4A7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690C-9D67-4521-9245-6CA777906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6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82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94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209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17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19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3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42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5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LEGION2</cp:lastModifiedBy>
  <dcterms:modified xsi:type="dcterms:W3CDTF">2016-01-11T14:11:37Z</dcterms:modified>
  <cp:revision>32</cp:revision>
  <dc:subject/>
  <dc:title>Slide 1</dc:title>
</cp:coreProperties>
</file>