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6418-3BCD-4152-A125-8B3F2AE610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ACD-278D-4A31-B88F-54E19C46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E14-19EF-49F5-8748-65DD71E5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AA4-B5AA-44B4-A0DB-A1E7CE00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BC8-5F63-48B1-A6D1-002B966A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D234-656B-4797-86E9-6527CA4B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8067-42D8-4F07-A00C-CC91D9F0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878D-1F3D-4FC2-933F-CA8CC662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E806-7905-48DA-A059-6BD654F9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6EB3-DDA5-420F-82F1-18F23ED1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B9E2-B1AE-42F7-AF5B-36C8FFCA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CAF8-5458-4511-B7A0-0AB579F0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D2D-690F-43F2-8345-D01F445E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4070-DEE1-4C9A-B7C4-BC9B3903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6F6D-F009-4CB6-AF0C-E91B48D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F8A2-3ED5-4ECF-9F97-85C888A2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8DD2-CD4F-402D-A3A5-C5EDE22B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D026-6718-43B2-B666-3291FBBA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BB2-7009-401F-BE5B-CA17DF01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B952-537C-41FC-9C8A-06C0EEE5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121-FEC4-4CD2-8649-972AA06B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793-4D71-4F76-A7A4-81113F68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12F-F8A8-44BB-88BB-3ADAB7D1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922-1C37-4B88-8A31-CA8F42F4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384-9CE3-4377-8D6C-1C90AD0C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C6AD-514B-4B05-9176-5607B2119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F1E2-050C-43F6-8971-F5C6F1052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387645"/>
          <p:cNvPicPr/>
          <p:nvPr/>
        </p:nvPicPr>
        <p:blipFill>
          <a:blip r:embed="rId1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Line 6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tageclips"/>
          <p:cNvPicPr/>
          <p:nvPr/>
        </p:nvPicPr>
        <p:blipFill>
          <a:blip r:embed="rId1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66" name="Line 5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icroscopediaphragm"/>
          <p:cNvPicPr/>
          <p:nvPr/>
        </p:nvPicPr>
        <p:blipFill>
          <a:blip r:embed="rId1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icroscopediaphragm2"/>
          <p:cNvPicPr/>
          <p:nvPr/>
        </p:nvPicPr>
        <p:blipFill>
          <a:blip r:embed="rId2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icroscopelight"/>
          <p:cNvPicPr/>
          <p:nvPr/>
        </p:nvPicPr>
        <p:blipFill>
          <a:blip r:embed="rId1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icroscopelight2"/>
          <p:cNvPicPr/>
          <p:nvPr/>
        </p:nvPicPr>
        <p:blipFill>
          <a:blip r:embed="rId2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82" name="Line 7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87645"/>
          <p:cNvPicPr/>
          <p:nvPr/>
        </p:nvPicPr>
        <p:blipFill>
          <a:blip r:embed="rId1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j0387645"/>
          <p:cNvPicPr/>
          <p:nvPr/>
        </p:nvPicPr>
        <p:blipFill>
          <a:blip r:embed="rId1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94" name="Line 5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387645"/>
          <p:cNvPicPr/>
          <p:nvPr/>
        </p:nvPicPr>
        <p:blipFill>
          <a:blip r:embed="rId1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stageclips"/>
          <p:cNvPicPr/>
          <p:nvPr/>
        </p:nvPicPr>
        <p:blipFill>
          <a:blip r:embed="rId2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Microscopeadjustmentknob"/>
          <p:cNvPicPr/>
          <p:nvPr/>
        </p:nvPicPr>
        <p:blipFill>
          <a:blip r:embed="rId1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87645"/>
          <p:cNvPicPr/>
          <p:nvPr/>
        </p:nvPicPr>
        <p:blipFill>
          <a:blip r:embed="rId2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209" name="Line 7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j0387645"/>
          <p:cNvPicPr/>
          <p:nvPr/>
        </p:nvPicPr>
        <p:blipFill>
          <a:blip r:embed="rId3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11" name="Line 9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Microscopeadjustmentknob"/>
          <p:cNvPicPr/>
          <p:nvPr/>
        </p:nvPicPr>
        <p:blipFill>
          <a:blip r:embed="rId1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217" name="Line 7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microscopeknob"/>
          <p:cNvPicPr/>
          <p:nvPr/>
        </p:nvPicPr>
        <p:blipFill>
          <a:blip r:embed="rId2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19" name="Line 9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stageclips"/>
          <p:cNvPicPr/>
          <p:nvPr/>
        </p:nvPicPr>
        <p:blipFill>
          <a:blip r:embed="rId1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33" name="Line 5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42" name="Picture 4" descr="01_carry_microscope_P1200161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eeuwenhoekpaint"/>
          <p:cNvPicPr/>
          <p:nvPr/>
        </p:nvPicPr>
        <p:blipFill>
          <a:blip r:embed="rId1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mages"/>
          <p:cNvPicPr/>
          <p:nvPr/>
        </p:nvPicPr>
        <p:blipFill>
          <a:blip r:embed="rId2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ooke_scope"/>
          <p:cNvPicPr/>
          <p:nvPr/>
        </p:nvPicPr>
        <p:blipFill>
          <a:blip r:embed="rId3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105" name="Picture 4" descr="Jansen microscope"/>
          <p:cNvPicPr/>
          <p:nvPr/>
        </p:nvPicPr>
        <p:blipFill>
          <a:blip r:embed="rId1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anssen microscope1"/>
          <p:cNvPicPr/>
          <p:nvPr/>
        </p:nvPicPr>
        <p:blipFill>
          <a:blip r:embed="rId2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4" descr="convex lense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j0303765"/>
          <p:cNvPicPr/>
          <p:nvPr/>
        </p:nvPicPr>
        <p:blipFill>
          <a:blip r:embed="rId2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onvex lense2"/>
          <p:cNvPicPr/>
          <p:nvPr/>
        </p:nvPicPr>
        <p:blipFill>
          <a:blip r:embed="rId3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9" name="Picture 7" descr="j0387645"/>
          <p:cNvPicPr/>
          <p:nvPr/>
        </p:nvPicPr>
        <p:blipFill>
          <a:blip r:embed="rId1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icroscope-boxed"/>
          <p:cNvPicPr/>
          <p:nvPr/>
        </p:nvPicPr>
        <p:blipFill>
          <a:blip r:embed="rId1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Coarse 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LEGION2</cp:lastModifiedBy>
  <dcterms:modified xsi:type="dcterms:W3CDTF">2016-01-11T14:11:37Z</dcterms:modified>
  <cp:revision>32</cp:revision>
  <dc:subject/>
  <dc:title>Slide 1</dc:title>
</cp:coreProperties>
</file>