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5040" cy="12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ite Blood Cel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 or Acidophils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, numerous granu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uclei with two lob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-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nd in lining of respiratory and digestive tra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crete anti-inflammatory substances in allergic react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 or Acidophi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, numerous gran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i with two lo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nd in lining of respiratory and digestive tr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functions involve protections against infections caused by parasitic worms and involvement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rete anti-inflammatory substances in allergic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ast numerous--.5-1%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ntain histamine,serotonin,heparin—inflammatory chemic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st numerous--.5-1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 histamine,serotonin,heparin—inflammatory chem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mallest WB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 nuclei/small amount of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ccount for 2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est W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nuclei/small amount of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ount for 2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—T lymphocytes—attack an infect or cancerous cell, B lymphocytes—produce antibodies against specific antigens (foreign bod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argest of WB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rk kidney bean shaped nucle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phagocyt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of WB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k kidney bean shaped nucle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phagocy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-14225760" y="-11796840"/>
            <a:ext cx="16651440" cy="12490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ells are also known as Leucocytes as they are colorless due to lack of Haemoglob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about 6000-8000mm of WBC for 1ml of bl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also called Scavengers &amp; Microscopic policem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Blood Corpus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 Numb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octors look at WBC number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f number goes up there is some kind of infection and surgery might be needed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 decrease in the number of white blood cells is leukopen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n increase in the number of white blood cells is leukocytosi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ctors look at WBC numb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number goes up there is some kind of infection and surgery might be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nics will count the number of WBC’s in a blood sample, this is called differential cou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ecrease in the number of white blood cells is leukope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crease in the number of white blood cells is leukocyto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rmation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re formed in the red marrow of many bone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can also be formed in lymphatic tissue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y live for about 13-20 days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re formed in the red marrow of many b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also be formed in lymphatic tiss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live for about 13-20 day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1"/>
          <p:cNvSpPr/>
          <p:nvPr/>
        </p:nvSpPr>
        <p:spPr>
          <a:xfrm>
            <a:off x="-11798280" y="-11796840"/>
            <a:ext cx="11798280" cy="124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.RajaSekh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RajaSekh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GUIIIT,Ba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ve Type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ve Typ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ed according to the presence or absence of granules and the staining characteristics of their cytopla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ucocytes appear brightly colored in stained preparations, they have a nuclei and are generally larger in size than RBC’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ytes—have larg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osin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s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ytes—have larg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osin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ypes of WBC’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granulocytes—do not have granules in their cytoplasm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ymph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onocyt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BC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ranulocytes—do not have granules in their cytopla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mph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ocy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oct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eutrophi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in light purple with neutral dy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ranules are small and numerous—course appear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ral lobes in nucleu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5% of WBC cou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ghly mobile/very activ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apedesis—Can leave blood vessels and enter tissue spa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hagocytosis (eater), contain several lysosomes (janitor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oct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oph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in light purple with neutral dy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nules are small and numerous—course appea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lobes in 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5% of WBC 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ghly mobile/very a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apedesis—Can leave blood vessels and enter tissue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gocytosis (eater), contain several lysosomes (jani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6964F-8BAC-4741-8259-2C0547C812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4C84C-F20F-44EC-8F28-5206126A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40BEA-8243-4806-9864-1502B7E5E4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97466-2AED-476E-B853-E5F89DB85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DAD3F-0925-4FD7-96EC-9E34E5E9AF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912B9-BB9A-4796-9225-422F856CCE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709FE-9F60-47CF-9B5A-39343368B4C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BBDD8-031C-47B3-BF6E-CA0E23A6B97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6B6DA-AC25-41EB-93C0-0992E75412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B28F9-00E5-4C71-8FDD-89F576FC3B2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200B6-9D86-4215-9A8B-1A94D45BEB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76227-8FC4-47E5-AB7A-5E933765A3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9485-CCF1-4986-9B96-6D3DDE088DF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F58CC-EC76-46B6-960B-1EFE05BCF3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6732C-A4AE-4C6A-AB90-84D405E4FC6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71874-D023-4EF7-AA9B-89A8A9829F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44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5000" y="201744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2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0844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5000" y="41641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334DF-F572-4D1A-A972-E5B1331AD7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E0D6E-C73C-420A-A45E-FBF9E203A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F47A-0AF6-41CD-B84D-5FDA05DE7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2462F-0A6C-425E-8CFA-D9F200025E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212760"/>
            <a:ext cx="7788240" cy="675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74D9F-F9D4-457B-87DA-9330ADC4CD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889B6-87D6-4A16-A25A-7BD750C826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2760" y="41641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768B-3ED5-4EEA-8328-1BBED7323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2760" y="201744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240" y="41641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E6FE-3847-4C2C-920E-C2589C588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Rectangle 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Rectangle 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1162080" y="6240600"/>
            <a:ext cx="19051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657600" y="6240600"/>
            <a:ext cx="289548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1"/>
          </p:nvPr>
        </p:nvSpPr>
        <p:spPr>
          <a:xfrm>
            <a:off x="7042320" y="6243120"/>
            <a:ext cx="19000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A4A77-FD64-44F3-986A-08599376F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9" name="Group 2"/>
            <p:cNvGrpSpPr/>
            <p:nvPr/>
          </p:nvGrpSpPr>
          <p:grpSpPr>
            <a:xfrm>
              <a:off x="293400" y="2545920"/>
              <a:ext cx="710280" cy="472320"/>
              <a:chOff x="293400" y="2545920"/>
              <a:chExt cx="710280" cy="472320"/>
            </a:xfrm>
          </p:grpSpPr>
          <p:sp>
            <p:nvSpPr>
              <p:cNvPr id="50" name="Rectangle 3"/>
              <p:cNvSpPr/>
              <p:nvPr/>
            </p:nvSpPr>
            <p:spPr>
              <a:xfrm>
                <a:off x="29340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4"/>
              <p:cNvSpPr/>
              <p:nvPr/>
            </p:nvSpPr>
            <p:spPr>
              <a:xfrm>
                <a:off x="67608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5"/>
            <p:cNvGrpSpPr/>
            <p:nvPr/>
          </p:nvGrpSpPr>
          <p:grpSpPr>
            <a:xfrm>
              <a:off x="417240" y="2967480"/>
              <a:ext cx="737640" cy="472320"/>
              <a:chOff x="417240" y="2967480"/>
              <a:chExt cx="737640" cy="472320"/>
            </a:xfrm>
          </p:grpSpPr>
          <p:sp>
            <p:nvSpPr>
              <p:cNvPr id="53" name="Rectangle 6"/>
              <p:cNvSpPr/>
              <p:nvPr/>
            </p:nvSpPr>
            <p:spPr>
              <a:xfrm>
                <a:off x="417240" y="2967480"/>
                <a:ext cx="42084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7"/>
              <p:cNvSpPr/>
              <p:nvPr/>
            </p:nvSpPr>
            <p:spPr>
              <a:xfrm>
                <a:off x="785880" y="2967480"/>
                <a:ext cx="369000" cy="4723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5" name="Rectangle 8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6" name="Rectangle 9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Rectangle 10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920" y="212760"/>
            <a:ext cx="7788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240" y="201744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990720" y="624528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429000" y="6245280"/>
            <a:ext cx="2895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008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1303EA-304D-4708-A9C5-8E5DB393A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990720" y="167652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ucocyte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ite Blood Cell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95200" y="4114800"/>
            <a:ext cx="8620200" cy="685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5715000" y="4435560"/>
            <a:ext cx="2514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b84700"/>
                </a:solidFill>
                <a:latin typeface="Tahoma"/>
              </a:rPr>
              <a:t>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"/>
          <p:cNvPicPr/>
          <p:nvPr/>
        </p:nvPicPr>
        <p:blipFill>
          <a:blip r:embed="rId1"/>
          <a:stretch/>
        </p:blipFill>
        <p:spPr>
          <a:xfrm>
            <a:off x="44280" y="304920"/>
            <a:ext cx="3841920" cy="5867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3886200" y="91440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4664160" y="3827520"/>
            <a:ext cx="287964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" descr=""/>
          <p:cNvPicPr/>
          <p:nvPr/>
        </p:nvPicPr>
        <p:blipFill>
          <a:blip r:embed="rId1"/>
          <a:stretch/>
        </p:blipFill>
        <p:spPr>
          <a:xfrm>
            <a:off x="2286000" y="0"/>
            <a:ext cx="4782960" cy="659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Text Box 2"/>
          <p:cNvSpPr/>
          <p:nvPr/>
        </p:nvSpPr>
        <p:spPr>
          <a:xfrm>
            <a:off x="380880" y="2017800"/>
            <a:ext cx="8574120" cy="48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Eosinophils or Acidophil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arge, numerous granu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uclei with two lob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2-5% of WBC coun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Found in lining of respiratory and digestive trac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Important functions involve protections against infections caused by parasitic worms and involvement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649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crete anti-inflammatory substances in allergic reac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2743200" y="838080"/>
            <a:ext cx="4213080" cy="46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numerous--.5-1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 histamine,serotonin,heparin—inflammatory chemic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WordArt 2"/>
          <p:cNvSpPr txBox="1"/>
          <p:nvPr/>
        </p:nvSpPr>
        <p:spPr>
          <a:xfrm>
            <a:off x="2743200" y="485640"/>
            <a:ext cx="47214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5310"/>
                <a:gd name="adj2" fmla="val 4333"/>
              </a:avLst>
            </a:prstTxWarp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Times New Roman"/>
              </a:rPr>
              <a:t>Granulocy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3924360" cy="3743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429000" y="85680"/>
            <a:ext cx="5715000" cy="44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st WB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nuclei/small amount of cytopla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 for 2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types—T lymphocytes—attack an infect or cancerous cell, B lymphocytes—produce antibodies against specific antigens (foreign bod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4738680" y="0"/>
            <a:ext cx="4405320" cy="487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04920" y="3838680"/>
            <a:ext cx="3609720" cy="301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ranulocy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st of WB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k kidney bean shaped nucle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phagocyti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1905120" y="2362320"/>
            <a:ext cx="531468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228600" y="2286000"/>
            <a:ext cx="84582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buSzPct val="102812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ite Blood cells are also known as Leucocytes as they are colorless due to lack of Haemoglobin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re are about 6000-8000mm of WBC for 1ml of bloo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buSzPct val="102812"/>
              <a:buBlip>
                <a:blip r:embed="rId3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ese are also called Scavengers &amp; Microscopic policemen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2286000" y="914400"/>
            <a:ext cx="5257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600" spc="-1" strike="noStrike">
                <a:solidFill>
                  <a:srgbClr val="0000ff"/>
                </a:solidFill>
                <a:latin typeface="Tahoma"/>
              </a:rPr>
              <a:t>White Blood Corpuscl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 Number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143000" y="228600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tors look at WBC numb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umber goes up there is some kind of infection and surgery might be need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nics will count the number of WBC’s in a blood sample, this is called differential 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crease in the number of white blood cells is leukopen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crease in the number of white blood cells is leukocytosi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ormation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re formed in the red marrow of many bon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also be formed in lymphatic tissu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live for about 13-20 day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"/>
          <p:cNvGrpSpPr/>
          <p:nvPr/>
        </p:nvGrpSpPr>
        <p:grpSpPr>
          <a:xfrm>
            <a:off x="1371600" y="228600"/>
            <a:ext cx="6399360" cy="6399360"/>
            <a:chOff x="1371600" y="228600"/>
            <a:chExt cx="6399360" cy="6399360"/>
          </a:xfrm>
        </p:grpSpPr>
        <p:pic>
          <p:nvPicPr>
            <p:cNvPr id="146" name="Picture 2" descr=""/>
            <p:cNvPicPr/>
            <p:nvPr/>
          </p:nvPicPr>
          <p:blipFill>
            <a:blip r:embed="rId1"/>
            <a:stretch/>
          </p:blipFill>
          <p:spPr>
            <a:xfrm>
              <a:off x="1371600" y="228600"/>
              <a:ext cx="6399360" cy="639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Text Box 3"/>
            <p:cNvSpPr/>
            <p:nvPr/>
          </p:nvSpPr>
          <p:spPr>
            <a:xfrm>
              <a:off x="1371600" y="228600"/>
              <a:ext cx="6399360" cy="639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WordArt 1" descr=""/>
          <p:cNvPicPr/>
          <p:nvPr/>
        </p:nvPicPr>
        <p:blipFill>
          <a:blip r:embed="rId1"/>
          <a:stretch/>
        </p:blipFill>
        <p:spPr>
          <a:xfrm>
            <a:off x="4346640" y="3651120"/>
            <a:ext cx="3882960" cy="23418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2"/>
          <p:cNvSpPr/>
          <p:nvPr/>
        </p:nvSpPr>
        <p:spPr>
          <a:xfrm>
            <a:off x="685800" y="22860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reated b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4572000" y="5943600"/>
            <a:ext cx="3429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GUIIIT,Bas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ve Typ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ified according to the presence or absence of granules and the staining characteristics of their cytoplas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ucocytes appear brightly colored in stained preparations, they have a nuclei and are generally larger in size than RBC’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1920" y="2286000"/>
            <a:ext cx="9082080" cy="365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1151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ahoma"/>
              </a:rPr>
              <a:t>Granulocytes—have large granules in their cytoplasm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115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Eosin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sophil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424400" cy="6224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0" y="2641680"/>
            <a:ext cx="4419720" cy="421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es of WBC’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spcBef>
                <a:spcPts val="1026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ahoma"/>
              </a:rPr>
              <a:t>Agranulocytes—do not have granules in their cytoplasm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99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Lymph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onocyt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901"/>
              </a:spcBef>
              <a:tabLst>
                <a:tab algn="l" pos="0"/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4457520" cy="59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115092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anulocty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56664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utrophi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in light purple with neutral dy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nules are small and numerous—course appear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al lobes in nucle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5% of WBC cou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ly mobile/very ac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pedesis—Can leave blood vessels and enter tissue sp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8360" indent="-2811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"/>
              <a:tabLst>
                <a:tab algn="l" pos="33804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gocytosis (eater), contain several lysosomes (janit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16:31:14Z</dcterms:created>
  <dc:creator>HS Room 33</dc:creator>
  <dc:description/>
  <dc:language>en-US</dc:language>
  <cp:lastModifiedBy>RomaK</cp:lastModifiedBy>
  <dcterms:modified xsi:type="dcterms:W3CDTF">2015-09-04T10:58:52Z</dcterms:modified>
  <cp:revision>10</cp:revision>
  <dc:subject/>
  <dc:title>Leukocytes White Blood Cells</dc:title>
</cp:coreProperties>
</file>