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ite Blood Cel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osinophils or Acidophil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, numerous granu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clei with two lob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-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nd in lining of respiratory and digestive tra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ortant functions involve protections against infections caused by parasitic worms and involvement in allergic rea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crete anti-inflammatory substances in allergic rea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osinophils or Acidophi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, numerous gran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i with two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lining of respiratory and digestive 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functions involve protections against infections caused by parasitic worms and involvement in allergic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 anti-inflammatory substances in allergic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ast numerous--.5-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apedesis—Can leave blood vessels and enter tissue sp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 histamine,serotonin,heparin—inflammatory chemic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numerous--.5-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edesis—Can leave blood vessels and enter tissu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histamine,serotonin,heparin—inflammatory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ymph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est WB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 nuclei/small amount of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ount for 2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wo types—T lymphocytes—attack an infect or cancerous cell, B lymphocytes—produce antibodies against specific antigens (foreign bod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W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nuclei/small amount of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 for 2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—T lymphocytes—attack an infect or cancerous cell, B lymphocytes—produce antibodies against specific antigens (foreign bod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n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st of WB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rk kidney bean shaped nucle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ly phagocyt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of WB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kidney bean shaped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phagocy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are also known as Leucocytes as they are colorless due to lack of Haemoglob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6000-8000mm of WBC for 1ml of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also called Scavengers &amp; Microscopic policem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orp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BC Numb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ctors look at WBC numbe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number goes up there is some kind of infection and surgery might be need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nics will count the number of WBC’s in a blood sample, this is called differential coun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decrease in the number of white blood cells is leukopen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 increase in the number of white blood cells is leukocytos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BC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tors look at WBC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umber goes up there is some kind of infection and surgery might be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s will count the number of WBC’s in a blood sample, this is called differential cou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crease in the number of white blood cells is leukop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crease in the number of white blood cells is leukocyt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mation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 are formed in the red marrow of many bon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can also be formed in lymphatic tissu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live for about 13-20 day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 are formed in the red marrow of many b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also be formed in lymphatic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 for about 13-20 d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.RajaSekh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d 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GUIIIT,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RajaSek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GUIIIT,Ba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ve Typ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ified according to the presence or absence of granules and the staining characteristics of their cytoplas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 appear brightly colored in stained preparations, they have a nuclei and are generally larger in size than RBC’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Ty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ed according to the presence or absence of granules and the staining characteristics of their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 appear brightly colored in stained preparations, they have a nuclei and are generally larger in size than RBC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e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—have large granules in their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utr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osin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—have large granules in their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osin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es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—do not have granules in their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ymph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n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—do not have granules in their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t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utr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in light purple with neutral d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es are small and numerous—course appear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ral lobes in nucle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ly mobile/very a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apedesis—Can leave blood vessels and enter tissue sp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agocytosis (eater), contain several lysosomes (janito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t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in light purple with neutral d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es are small and numerous—course appea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lobes in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mobile/very a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edesis—Can leave blood vessels and enter tissu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gocytosis (eater), contain several lysosomes (jani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C0DA8-6BD8-481F-A64C-DFA6E8A94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DB36-4626-44E2-8039-02A0BABE9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386CC-AC8E-4158-8834-A2476628C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63E32-F530-47C8-9EF0-4178DF93B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75D17-3736-4B83-80DB-E84B2D91BE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2FB54-0949-4CB1-A74F-36166EF5B7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E799C-43FD-4F73-AEF5-9493A7DD05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43F4E-C315-4A06-B60D-8640512A69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BC9B7-396F-442B-AAE1-4E46280770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8B69A-8D96-47FB-9830-A1F5908FDB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B53A5-BC13-4224-B843-72C3018849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DE77-F191-4E15-8B52-133103DB9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460A5-8ED6-49FB-9D5C-A5AADD6565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8E353-3CF9-4948-B1A8-3F30BA3E2E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16C63-61BF-4712-A5EE-638828DDC6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4B643-3B19-4E44-848D-B74F445A81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23CE8-E442-41F3-8FBF-762769CC86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F025-BCA0-45E3-950C-2864F9481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A23FD-F7F7-4748-8C4E-B5F91628B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CFE54-7C76-4E7E-AFB5-3A4631AC2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188B-4932-4178-90D2-E70779992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B780-FB96-402E-93E3-2CB1FCC58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8D751-688A-4C85-974C-FA027AD8A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E3D7C-6CB9-4A5D-886D-E0B3216D2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1162080" y="624060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3657600" y="624060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7042320" y="62431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F231E-46D9-4B93-940D-E0D3695AC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9" name="Group 2"/>
            <p:cNvGrpSpPr/>
            <p:nvPr/>
          </p:nvGrpSpPr>
          <p:grpSpPr>
            <a:xfrm>
              <a:off x="293400" y="2545920"/>
              <a:ext cx="710280" cy="472320"/>
              <a:chOff x="293400" y="2545920"/>
              <a:chExt cx="710280" cy="47232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29340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>
                <a:off x="67608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5"/>
            <p:cNvGrpSpPr/>
            <p:nvPr/>
          </p:nvGrpSpPr>
          <p:grpSpPr>
            <a:xfrm>
              <a:off x="417240" y="2967480"/>
              <a:ext cx="737640" cy="472320"/>
              <a:chOff x="417240" y="2967480"/>
              <a:chExt cx="737640" cy="472320"/>
            </a:xfrm>
          </p:grpSpPr>
          <p:sp>
            <p:nvSpPr>
              <p:cNvPr id="53" name="Rectangle 6"/>
              <p:cNvSpPr/>
              <p:nvPr/>
            </p:nvSpPr>
            <p:spPr>
              <a:xfrm>
                <a:off x="417240" y="2967480"/>
                <a:ext cx="42084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7"/>
              <p:cNvSpPr/>
              <p:nvPr/>
            </p:nvSpPr>
            <p:spPr>
              <a:xfrm>
                <a:off x="785880" y="2967480"/>
                <a:ext cx="3690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990720" y="624528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429000" y="624528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80214-2BFA-4E5E-9475-8674F5263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990720" y="167652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ucocyte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ite Blood Ce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95200" y="4114800"/>
            <a:ext cx="8620200" cy="685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5715000" y="4435560"/>
            <a:ext cx="25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84700"/>
                </a:solidFill>
                <a:latin typeface="Tahoma"/>
              </a:rPr>
              <a:t>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44280" y="304920"/>
            <a:ext cx="3841920" cy="5867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3886200" y="914400"/>
            <a:ext cx="434340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4664160" y="3827520"/>
            <a:ext cx="287964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2286000" y="0"/>
            <a:ext cx="4782960" cy="65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380880" y="2017800"/>
            <a:ext cx="85741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osinophils or Acidophil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arge, numerous granu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uclei with two lob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-5% of WBC cou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nd in lining of respiratory and digestive trac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mportant functions involve protections against infections caused by parasitic worms and involvement in allergic reac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rete anti-inflammatory substances in allergic reac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2743200" y="838080"/>
            <a:ext cx="42130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oph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numerous--.5-1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pedesis—Can leave blood vessels and enter tissue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 histamine,serotonin,heparin—inflammatory chem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WordArt 2"/>
          <p:cNvSpPr txBox="1"/>
          <p:nvPr/>
        </p:nvSpPr>
        <p:spPr>
          <a:xfrm>
            <a:off x="2743200" y="485640"/>
            <a:ext cx="47214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5310"/>
                <a:gd name="adj2" fmla="val 4333"/>
              </a:avLst>
            </a:prstTxWarp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Times New Roman"/>
              </a:rPr>
              <a:t>Granulocy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3924360" cy="3743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3429000" y="85680"/>
            <a:ext cx="571500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ymphocy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st W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nuclei/small amount of cytopla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 for 25% of WBC 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types—T lymphocytes—attack an infect or cancerous cell, B lymphocytes—produce antibodies against specific antigens (foreign bod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4738680" y="0"/>
            <a:ext cx="4405320" cy="4876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304920" y="3838680"/>
            <a:ext cx="3609720" cy="30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cy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st of WB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rk kidney bean shaped nucl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phagocy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31468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228600" y="2286000"/>
            <a:ext cx="84582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SzPct val="102812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ite Blood cells are also known as Leucocytes as they are colorless due to lack of Haemoglobi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SzPct val="102812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re are about 6000-8000mm of WBC for 1ml of bloo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SzPct val="102812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se are also called Scavengers &amp; Microscopic policeme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2286000" y="914400"/>
            <a:ext cx="5257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ahoma"/>
              </a:rPr>
              <a:t>White Blood Corpusc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BC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1430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tors look at WBC numb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umber goes up there is some kind of infection and surgery might be need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nics will count the number of WBC’s in a blood sample, this is called differential cou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crease in the number of white blood cells is leukope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crease in the number of white blood cells is leukocytos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tion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ucocytes are formed in the red marrow of many b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also be formed in lymphatic tiss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live for about 13-20 day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"/>
          <p:cNvGrpSpPr/>
          <p:nvPr/>
        </p:nvGrpSpPr>
        <p:grpSpPr>
          <a:xfrm>
            <a:off x="1371600" y="228600"/>
            <a:ext cx="6399360" cy="6399360"/>
            <a:chOff x="1371600" y="228600"/>
            <a:chExt cx="6399360" cy="6399360"/>
          </a:xfrm>
        </p:grpSpPr>
        <p:pic>
          <p:nvPicPr>
            <p:cNvPr id="146" name="Picture 2" descr=""/>
            <p:cNvPicPr/>
            <p:nvPr/>
          </p:nvPicPr>
          <p:blipFill>
            <a:blip r:embed="rId1"/>
            <a:stretch/>
          </p:blipFill>
          <p:spPr>
            <a:xfrm>
              <a:off x="1371600" y="228600"/>
              <a:ext cx="6399360" cy="639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3"/>
            <p:cNvSpPr/>
            <p:nvPr/>
          </p:nvSpPr>
          <p:spPr>
            <a:xfrm>
              <a:off x="1371600" y="228600"/>
              <a:ext cx="6399360" cy="639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WordArt 1" descr=""/>
          <p:cNvPicPr/>
          <p:nvPr/>
        </p:nvPicPr>
        <p:blipFill>
          <a:blip r:embed="rId1"/>
          <a:stretch/>
        </p:blipFill>
        <p:spPr>
          <a:xfrm>
            <a:off x="4346640" y="3651120"/>
            <a:ext cx="3882960" cy="23418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"/>
          <p:cNvSpPr/>
          <p:nvPr/>
        </p:nvSpPr>
        <p:spPr>
          <a:xfrm>
            <a:off x="685800" y="22860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d 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572000" y="5943600"/>
            <a:ext cx="34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GUIIIT,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ve Typ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fied according to the presence or absence of granules and the staining characteristics of their cytoplas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ucocytes appear brightly colored in stained preparations, they have a nuclei and are generally larger in size than RBC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61920" y="2286000"/>
            <a:ext cx="908208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11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Granulocytes—have large granules in their cytoplasm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eutr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osin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s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4419720" y="304920"/>
            <a:ext cx="4424400" cy="6224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0" y="2641680"/>
            <a:ext cx="4419720" cy="42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102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ahoma"/>
              </a:rPr>
              <a:t>Agranulocytes—do not have granules in their cytoplasm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ymphocy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onocy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44575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cty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56664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troph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in light purple with neutral dy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es are small and numerous—course appea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lobes in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5% of WBC 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mobile/very a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pedesis—Can leave blood vessels and enter tissue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gocytosis (eater), contain several lysosomes (janito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6:31:14Z</dcterms:created>
  <dc:creator>HS Room 33</dc:creator>
  <dc:description/>
  <dc:language>en-US</dc:language>
  <cp:lastModifiedBy>RomaK</cp:lastModifiedBy>
  <dcterms:modified xsi:type="dcterms:W3CDTF">2015-09-04T10:58:52Z</dcterms:modified>
  <cp:revision>10</cp:revision>
  <dc:subject/>
  <dc:title>Leukocytes White Blood Cells</dc:title>
</cp:coreProperties>
</file>