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10.png" ContentType="image/png"/>
  <Override PartName="/ppt/media/image9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5040" cy="12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ucocytes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ite Blood Cel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s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ucocyt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ranulocy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osinophils or Acidophil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arge, numerous granul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uclei with two lob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-5% of WBC cou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nd in lining of respiratory and digestive trac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mportant functions involve protections against infections caused by parasitic worms and involvement in allergic reactio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crete anti-inflammatory substances in allergic reactio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nuloc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osinophils or Acidophi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, numerous gran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i with two lo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5% of WBC c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in lining of respiratory and digestive tr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functions involve protections against infections caused by parasitic worms and involvement in allergic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rete anti-inflammatory substances in allergic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sophi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ast numerous--.5-1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iapedesis—Can leave blood vessels and enter tissue spa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ntain histamine,serotonin,heparin—inflammatory chemic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ranulocy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oph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st numerous--.5-1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pedesis—Can leave blood vessels and enter tissue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 histamine,serotonin,heparin—inflammatory chem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nuloc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granulocy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ymphocy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mallest WB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arge nuclei/small amount of cytoplas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ccount for 25% of WBC cou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wo types—T lymphocytes—attack an infect or cancerous cell, B lymphocytes—produce antibodies against specific antigens (foreign body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ranuloc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mphoc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est W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nuclei/small amount of cytopla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ount for 25% of WBC c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types—T lymphocytes—attack an infect or cancerous cell, B lymphocytes—produce antibodies against specific antigens (foreign bod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granulocy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nocy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argest of WBC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ark kidney bean shaped nucle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ighly phagocyti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ranuloc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c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st of WB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kidney bean shaped nucle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ly phagocy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1440" cy="124905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 are also known as Leucocytes as they are colorless due to lack of Haemoglob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about 6000-8000mm of WBC for 1ml of bl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also called Scavengers &amp; Microscopic policem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orpus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BC Number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octors look at WBC number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f number goes up there is some kind of infection and surgery might be needed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nics will count the number of WBC’s in a blood sample, this is called differential count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decrease in the number of white blood cells is leukopen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n increase in the number of white blood cells is leukocytosi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BC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tors look at WBC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number goes up there is some kind of infection and surgery might be nee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ics will count the number of WBC’s in a blood sample, this is called differential cou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crease in the number of white blood cells is leukope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crease in the number of white blood cells is leukocyto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rmation of WBC’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ucocytes are formed in the red marrow of many bon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y can also be formed in lymphatic tissu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y live for about 13-20 days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WBC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ucocytes are formed in the red marrow of many b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also be formed in lymphatic tiss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live for about 13-20 day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.RajaSekh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reated b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GUIIIT,Bas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.RajaSekh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GUIIIT,Bas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BC’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ve Type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assified according to the presence or absence of granules and the staining characteristics of their cytoplasm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ucocytes appear brightly colored in stained preparations, they have a nuclei and are generally larger in size than RBC’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BC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Ty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ed according to the presence or absence of granules and the staining characteristics of their cytopla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ucocytes appear brightly colored in stained preparations, they have a nuclei and are generally larger in size than RBC’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ype of WBC’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ranulocytes—have large granules in their cytoplas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eutrophi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osinophi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sophi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of WBC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nulocytes—have large granules in their cytopla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oph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osinoph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oph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ypes of WBC’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granulocytes—do not have granules in their cytoplas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ymphocy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nocy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WBC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ranulocytes—do not have granules in their cytopla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mphoc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c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ranulocty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eutrophi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tain light purple with neutral dy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ranules are small and numerous—course appearan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ral lobes in nucleu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5% of WBC cou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ighly mobile/very activ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iapedesis—Can leave blood vessels and enter tissue spa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hagocytosis (eater), contain several lysosomes (janitor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nuloct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oph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in light purple with neutral d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nules are small and numerous—course appea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lobes in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% of WBC c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ly mobile/very a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pedesis—Can leave blood vessels and enter tissue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gocytosis (eater), contain several lysosomes (jani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BA3A7-E4A8-4A7E-9DF3-7001B7CE8E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240" y="41641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EDD58-50EB-41D5-A53C-150966DF41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276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5E8F6-4EE8-486F-92E9-F08A39EF3F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0844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500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24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0844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500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254EA-A6CC-4C33-B6FA-13CE12CD00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A5A11-30BF-459C-B5C7-CD5455A79D0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2F8CF-3132-4633-826E-5709321763E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998A1-3A47-4454-AD0E-032FD66A423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8867B-D711-46D1-BFF4-A33167275A5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6947C-CF26-4539-B5BD-81ADA70CC4D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920" y="212760"/>
            <a:ext cx="7788240" cy="67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43EC5-5265-4EF7-A8EC-4362B2922DE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0B031-66DD-43E7-AAD6-E469FA9209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AF37F-695E-4D09-A187-F1659CADF3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276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26F03-1D83-4391-B618-2231F2BCF69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C20AF-6C95-4281-BC89-F828679B62F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240" y="41641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FFCE9-B117-43CA-969B-0C7B8BAF994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276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5585B-5884-4654-A359-5CD0C49885E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0844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500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24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0844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500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D0EF5-CD76-4875-8A74-61F74425D5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7949D-A655-4425-9B9D-946E2922E3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97BD9-C95C-415C-A3D2-CD73746A57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1F83E-71A3-419F-BAC0-3C01AEB61D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920" y="212760"/>
            <a:ext cx="7788240" cy="67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70CE0-8DE5-44A1-AF8A-C23917EDFF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B211F-125A-428C-93CF-A6D545C33C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276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71C01-6147-4803-8205-BF2A9F4743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ACC0D-549E-4734-BF3D-2C4E0F93DC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Text Box 10"/>
          <p:cNvSpPr/>
          <p:nvPr/>
        </p:nvSpPr>
        <p:spPr>
          <a:xfrm>
            <a:off x="1162080" y="624060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Text Box 11"/>
          <p:cNvSpPr/>
          <p:nvPr/>
        </p:nvSpPr>
        <p:spPr>
          <a:xfrm>
            <a:off x="3657600" y="6240600"/>
            <a:ext cx="28954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1"/>
          </p:nvPr>
        </p:nvSpPr>
        <p:spPr>
          <a:xfrm>
            <a:off x="7042320" y="6243120"/>
            <a:ext cx="190008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4A7274-7FD0-422C-9403-7C1721D50D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9" name="Group 2"/>
            <p:cNvGrpSpPr/>
            <p:nvPr/>
          </p:nvGrpSpPr>
          <p:grpSpPr>
            <a:xfrm>
              <a:off x="293400" y="2545920"/>
              <a:ext cx="710280" cy="472320"/>
              <a:chOff x="293400" y="2545920"/>
              <a:chExt cx="710280" cy="472320"/>
            </a:xfrm>
          </p:grpSpPr>
          <p:sp>
            <p:nvSpPr>
              <p:cNvPr id="50" name="Rectangle 3"/>
              <p:cNvSpPr/>
              <p:nvPr/>
            </p:nvSpPr>
            <p:spPr>
              <a:xfrm>
                <a:off x="29340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4"/>
              <p:cNvSpPr/>
              <p:nvPr/>
            </p:nvSpPr>
            <p:spPr>
              <a:xfrm>
                <a:off x="67608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5"/>
            <p:cNvGrpSpPr/>
            <p:nvPr/>
          </p:nvGrpSpPr>
          <p:grpSpPr>
            <a:xfrm>
              <a:off x="417240" y="2967480"/>
              <a:ext cx="737640" cy="472320"/>
              <a:chOff x="417240" y="2967480"/>
              <a:chExt cx="737640" cy="472320"/>
            </a:xfrm>
          </p:grpSpPr>
          <p:sp>
            <p:nvSpPr>
              <p:cNvPr id="53" name="Rectangle 6"/>
              <p:cNvSpPr/>
              <p:nvPr/>
            </p:nvSpPr>
            <p:spPr>
              <a:xfrm>
                <a:off x="417240" y="2967480"/>
                <a:ext cx="42084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7"/>
              <p:cNvSpPr/>
              <p:nvPr/>
            </p:nvSpPr>
            <p:spPr>
              <a:xfrm>
                <a:off x="785880" y="2967480"/>
                <a:ext cx="369000" cy="4723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5" name="Rectangle 8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" name="Rectangle 9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990720" y="6245280"/>
            <a:ext cx="19047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3429000" y="6245280"/>
            <a:ext cx="2895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DEA5E3-13F0-4B13-A418-0981593270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990720" y="1676520"/>
            <a:ext cx="77724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ucocyte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ite Blood Cel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295200" y="4114800"/>
            <a:ext cx="8620200" cy="685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5715000" y="4435560"/>
            <a:ext cx="251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b84700"/>
                </a:solidFill>
                <a:latin typeface="Tahoma"/>
              </a:rPr>
              <a:t>Bas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" descr=""/>
          <p:cNvPicPr/>
          <p:nvPr/>
        </p:nvPicPr>
        <p:blipFill>
          <a:blip r:embed="rId1"/>
          <a:stretch/>
        </p:blipFill>
        <p:spPr>
          <a:xfrm>
            <a:off x="44280" y="304920"/>
            <a:ext cx="3841920" cy="5867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3886200" y="914400"/>
            <a:ext cx="4343400" cy="2286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3"/>
          <a:stretch/>
        </p:blipFill>
        <p:spPr>
          <a:xfrm>
            <a:off x="4664160" y="3827520"/>
            <a:ext cx="2879640" cy="188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" descr=""/>
          <p:cNvPicPr/>
          <p:nvPr/>
        </p:nvPicPr>
        <p:blipFill>
          <a:blip r:embed="rId1"/>
          <a:stretch/>
        </p:blipFill>
        <p:spPr>
          <a:xfrm>
            <a:off x="2286000" y="0"/>
            <a:ext cx="4782960" cy="659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anulocyt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Text Box 2"/>
          <p:cNvSpPr/>
          <p:nvPr/>
        </p:nvSpPr>
        <p:spPr>
          <a:xfrm>
            <a:off x="380880" y="2017800"/>
            <a:ext cx="857412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5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Eosinophils or Acidophils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Large, numerous granul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Nuclei with two lob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2-5% of WBC coun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nd in lining of respiratory and digestive tract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Important functions involve protections against infections caused by parasitic worms and involvement in allergic reaction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rete anti-inflammatory substances in allergic reaction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" descr=""/>
          <p:cNvPicPr/>
          <p:nvPr/>
        </p:nvPicPr>
        <p:blipFill>
          <a:blip r:embed="rId1"/>
          <a:stretch/>
        </p:blipFill>
        <p:spPr>
          <a:xfrm>
            <a:off x="2743200" y="838080"/>
            <a:ext cx="421308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"/>
          <p:cNvSpPr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ophi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numerous--.5-1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pedesis—Can leave blood vessels and enter tissue sp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 histamine,serotonin,heparin—inflammatory chemic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WordArt 2"/>
          <p:cNvSpPr txBox="1"/>
          <p:nvPr/>
        </p:nvSpPr>
        <p:spPr>
          <a:xfrm>
            <a:off x="2743200" y="485640"/>
            <a:ext cx="47214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5310"/>
                <a:gd name="adj2" fmla="val 4333"/>
              </a:avLst>
            </a:prstTxWarp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ff"/>
                </a:solidFill>
                <a:latin typeface="Times New Roman"/>
              </a:rPr>
              <a:t>Granulocyt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" descr=""/>
          <p:cNvPicPr/>
          <p:nvPr/>
        </p:nvPicPr>
        <p:blipFill>
          <a:blip r:embed="rId1"/>
          <a:stretch/>
        </p:blipFill>
        <p:spPr>
          <a:xfrm>
            <a:off x="533520" y="2666880"/>
            <a:ext cx="3924360" cy="3743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"/>
          <p:cNvPicPr/>
          <p:nvPr/>
        </p:nvPicPr>
        <p:blipFill>
          <a:blip r:embed="rId2"/>
          <a:stretch/>
        </p:blipFill>
        <p:spPr>
          <a:xfrm>
            <a:off x="3429000" y="85680"/>
            <a:ext cx="5715000" cy="448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granulocyt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ymphocy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st WB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nuclei/small amount of cytopla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 for 25% of WBC cou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types—T lymphocytes—attack an infect or cancerous cell, B lymphocytes—produce antibodies against specific antigens (foreign bod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" descr=""/>
          <p:cNvPicPr/>
          <p:nvPr/>
        </p:nvPicPr>
        <p:blipFill>
          <a:blip r:embed="rId1"/>
          <a:stretch/>
        </p:blipFill>
        <p:spPr>
          <a:xfrm>
            <a:off x="4738680" y="0"/>
            <a:ext cx="4405320" cy="4876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"/>
          <p:cNvPicPr/>
          <p:nvPr/>
        </p:nvPicPr>
        <p:blipFill>
          <a:blip r:embed="rId2"/>
          <a:stretch/>
        </p:blipFill>
        <p:spPr>
          <a:xfrm>
            <a:off x="304920" y="3838680"/>
            <a:ext cx="3609720" cy="30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granulocyt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ocy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st of WB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rk kidney bean shaped nucle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ly phagocyt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" descr=""/>
          <p:cNvPicPr/>
          <p:nvPr/>
        </p:nvPicPr>
        <p:blipFill>
          <a:blip r:embed="rId1"/>
          <a:stretch/>
        </p:blipFill>
        <p:spPr>
          <a:xfrm>
            <a:off x="1905120" y="2362320"/>
            <a:ext cx="531468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"/>
          <p:cNvSpPr/>
          <p:nvPr/>
        </p:nvSpPr>
        <p:spPr>
          <a:xfrm>
            <a:off x="228600" y="2286000"/>
            <a:ext cx="8458200" cy="50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buSzPct val="102812"/>
              <a:buBlip>
                <a:blip r:embed="rId1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White Blood cells are also known as Leucocytes as they are colorless due to lack of Haemoglobin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buSzPct val="102812"/>
              <a:buBlip>
                <a:blip r:embed="rId2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re are about 6000-8000mm of WBC for 1ml of bloo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buSzPct val="102812"/>
              <a:buBlip>
                <a:blip r:embed="rId3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se are also called Scavengers &amp; Microscopic policemen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2286000" y="914400"/>
            <a:ext cx="5257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Tahoma"/>
              </a:rPr>
              <a:t>White Blood Corpuscl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BC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1143000" y="22860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tors look at WBC numbe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umber goes up there is some kind of infection and surgery might be need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nics will count the number of WBC’s in a blood sample, this is called differential cou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crease in the number of white blood cells is leukopen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crease in the number of white blood cells is leukocytosi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1" descr=""/>
          <p:cNvPicPr/>
          <p:nvPr/>
        </p:nvPicPr>
        <p:blipFill>
          <a:blip r:embed="rId1"/>
          <a:stretch/>
        </p:blipFill>
        <p:spPr>
          <a:xfrm>
            <a:off x="2286000" y="17146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mation of WBC’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ucocytes are formed in the red marrow of many bon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also be formed in lymphatic tissu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live for about 13-20 day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1"/>
          <p:cNvGrpSpPr/>
          <p:nvPr/>
        </p:nvGrpSpPr>
        <p:grpSpPr>
          <a:xfrm>
            <a:off x="1371600" y="228600"/>
            <a:ext cx="6399360" cy="6399360"/>
            <a:chOff x="1371600" y="228600"/>
            <a:chExt cx="6399360" cy="6399360"/>
          </a:xfrm>
        </p:grpSpPr>
        <p:pic>
          <p:nvPicPr>
            <p:cNvPr id="146" name="Picture 2" descr=""/>
            <p:cNvPicPr/>
            <p:nvPr/>
          </p:nvPicPr>
          <p:blipFill>
            <a:blip r:embed="rId1"/>
            <a:stretch/>
          </p:blipFill>
          <p:spPr>
            <a:xfrm>
              <a:off x="1371600" y="228600"/>
              <a:ext cx="6399360" cy="639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Text Box 3"/>
            <p:cNvSpPr/>
            <p:nvPr/>
          </p:nvSpPr>
          <p:spPr>
            <a:xfrm>
              <a:off x="1371600" y="228600"/>
              <a:ext cx="6399360" cy="639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WordArt 1" descr=""/>
          <p:cNvPicPr/>
          <p:nvPr/>
        </p:nvPicPr>
        <p:blipFill>
          <a:blip r:embed="rId1"/>
          <a:stretch/>
        </p:blipFill>
        <p:spPr>
          <a:xfrm>
            <a:off x="4346640" y="3651120"/>
            <a:ext cx="3882960" cy="23418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2"/>
          <p:cNvSpPr/>
          <p:nvPr/>
        </p:nvSpPr>
        <p:spPr>
          <a:xfrm>
            <a:off x="685800" y="22860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reated b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4572000" y="5943600"/>
            <a:ext cx="3429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GUIIIT,Bas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BC’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ve Typ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ified according to the presence or absence of granules and the staining characteristics of their cytoplas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ucocytes appear brightly colored in stained preparations, they have a nuclei and are generally larger in size than RBC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61920" y="2286000"/>
            <a:ext cx="9082080" cy="365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ype of WBC’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90000"/>
              </a:lnSpc>
              <a:spcBef>
                <a:spcPts val="115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ahoma"/>
              </a:rPr>
              <a:t>Granulocytes—have large granules in their cytoplasm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11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Neutrophil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osinophil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Basophil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"/>
          <p:cNvPicPr/>
          <p:nvPr/>
        </p:nvPicPr>
        <p:blipFill>
          <a:blip r:embed="rId1"/>
          <a:stretch/>
        </p:blipFill>
        <p:spPr>
          <a:xfrm>
            <a:off x="4419720" y="304920"/>
            <a:ext cx="4424400" cy="6224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0" y="2641680"/>
            <a:ext cx="4419720" cy="421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ypes of WBC’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1026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ahoma"/>
              </a:rPr>
              <a:t>Agranulocytes—do not have granules in their cytoplasm</a:t>
            </a: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7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ymphocyt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onocyt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9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304920" y="685800"/>
            <a:ext cx="445752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anulocty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56664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utrophi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in light purple with neutral dy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nules are small and numerous—course appear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ral lobes in nucle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5% of WBC cou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ly mobile/very ac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pedesis—Can leave blood vessels and enter tissue sp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gocytosis (eater), contain several lysosomes (janitor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5T16:31:14Z</dcterms:created>
  <dc:creator>HS Room 33</dc:creator>
  <dc:description/>
  <dc:language>en-US</dc:language>
  <cp:lastModifiedBy>RomaK</cp:lastModifiedBy>
  <dcterms:modified xsi:type="dcterms:W3CDTF">2015-09-04T10:58:52Z</dcterms:modified>
  <cp:revision>10</cp:revision>
  <dc:subject/>
  <dc:title>Leukocytes White Blood Cells</dc:title>
</cp:coreProperties>
</file>