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Verdana"/>
              </a:rPr>
              <a:t>Click to move the slide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4DC45-2141-40EC-BE87-4204967B91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nimal Adap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Adap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ything that helps an organism survive in its environment is an  adaptation.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also refers to the ability of living things to adjust to different conditions within their environments.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uctural adaptatio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ective col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micry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haviour adap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bern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dap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thing that helps an organism survive in its environment is an  adaptation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refers to the ability of living things to adjust to different conditions within their environments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al adapt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ive col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micry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ur 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ber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uctural adap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tructural adaptation involves some part of an animal's bod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eth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dy coverings  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ment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al 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ructural adaptation involves some part of an animal's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coverings  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ective Col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loration and protective resemblance allow an animal to blend into its environment.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ther word for this might be camouflage.  Their camouflage makes it hard for enemies to single out individuals. 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ive Col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ation and protective resemblance allow an animal to blend into its environment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word for this might be camouflage.  Their camouflage makes it hard for enemies to single out individuals. 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mic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micry allows one animal to look, sound, or act like another animal to fool predators into thinking it is poisonous or dangerous. 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mic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micry allows one animal to look, sound, or act like another animal to fool predators into thinking it is poisonous or dangerous. 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haviour adap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haviour adaptations include activities that help an animal survive.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haviour adaptations can be learned or instinctiv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cial behaviour  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haviour for protection 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haviour 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haviour adaptations include activities that help an animal survive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haviour adaptations can be learned or instinct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cial behaviour  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haviour for protection 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imals migrate for different reasons.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tter climat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tter food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fe place to liv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fe place to raise young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 back to the place they were born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when behavioral adaptation that involves an animal or group of animals moving from one region to another and then back again.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imals migrate for different reasons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tter clim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tter fo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fe place to l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fe place to raise you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 back to the place they were bor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is when behavioral adaptation that involves an animal or group of animals moving from one region to another and then back again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bern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deep sleep in which animal’s body temp droops, body activities are slowed to conserve energ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.g. Bats, woodchucks &amp; bea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ber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is deep sleep in which animal’s body temp droops, body activities are slowed to conserve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.g. Bats, woodchucks &amp; b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61E9-1418-4C77-A48C-93C781C2A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4B9B-F171-4C62-8E0E-3348A9B33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5493-5140-42BA-8524-DB4D327AA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C56B-AD7C-482F-B9ED-5DE2545B0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213E3-CE59-4E18-8568-27888F7CF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52B86-844E-4006-A022-63D780B59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B1A17-90B4-4E21-A849-F1D837663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EF6A-5354-4B1B-BD1E-9C9D832C3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E641D-71BB-4B84-AFF3-D9CF596F7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C9C56-6BEA-4F99-BBC4-DB95C49FA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3872B-7687-4716-BC3C-9CED2A99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6ACC-61BE-4236-9175-73014E8ED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36656-0346-483E-A93C-65A84830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60DD2-E013-4624-9BC2-FB0C7E4A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1DFC0-ECFB-438E-B5A4-7AB6FBCF0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EE316-9769-4F69-BB99-D4A1296D3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A1EB1-6AB9-4357-9318-5173AD3FA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DFE0-A07D-4129-B7F0-0D0C81B63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6BA8-D6F1-4D37-B64E-C31130546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1BDD-9807-404F-8949-1F4FAE947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6C3C-1053-4A1B-9BA5-CD6A071C1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0368-D1A2-4C2E-AE54-DFC6769E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E9F8-0849-4CBD-9410-4AE74B5B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FD9A-AEB5-460E-B9EF-49EFF6C0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36D3A-7B71-4B02-ACD0-35CCE395B6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C897D-0635-48ED-91B5-301DC25144E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ffffcc"/>
                </a:solidFill>
                <a:latin typeface="Verdana"/>
              </a:rPr>
              <a:t>Animal Adaptations</a:t>
            </a:r>
            <a:endParaRPr b="1" lang="en-US" sz="5000" spc="-1" strike="noStrike">
              <a:solidFill>
                <a:srgbClr val="ffffcc"/>
              </a:solidFill>
              <a:latin typeface="Verdana"/>
            </a:endParaRPr>
          </a:p>
        </p:txBody>
      </p:sp>
      <p:pic>
        <p:nvPicPr>
          <p:cNvPr id="128" name="Picture 4" descr="bat"/>
          <p:cNvPicPr/>
          <p:nvPr/>
        </p:nvPicPr>
        <p:blipFill>
          <a:blip r:embed="rId1"/>
          <a:stretch/>
        </p:blipFill>
        <p:spPr>
          <a:xfrm>
            <a:off x="4284720" y="3789360"/>
            <a:ext cx="2595600" cy="216072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Types of Adaptation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Anything that helps an organism survive in its environment is an  adaptation.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It also refers to the ability of living things to adjust to different conditions within their environments.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Structural adaptation</a:t>
            </a:r>
            <a:r>
              <a:rPr b="0" i="1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Protective color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Mimicry</a:t>
            </a:r>
            <a:r>
              <a:rPr b="0" i="1" lang="en-GB" sz="28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Behaviour adapt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Migr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Hibern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Structural adaptations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structural adaptation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involves some part of an animal's bod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Teeth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Body coverings  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Movement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5" name="Picture 4" descr="GreatWhite_"/>
          <p:cNvPicPr/>
          <p:nvPr/>
        </p:nvPicPr>
        <p:blipFill>
          <a:blip r:embed="rId1"/>
          <a:stretch/>
        </p:blipFill>
        <p:spPr>
          <a:xfrm>
            <a:off x="4572000" y="3213000"/>
            <a:ext cx="3887640" cy="291636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Protective Coloration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oloration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and 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protective resemblance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allow an animal to blend into its environment. 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Another word for this might be camouflage.  Their camouflage makes it hard for enemies to single out individuals. 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9" name="Picture 5" descr="Bears,  panda, white bears, brown bears"/>
          <p:cNvPicPr/>
          <p:nvPr/>
        </p:nvPicPr>
        <p:blipFill>
          <a:blip r:embed="rId1"/>
          <a:stretch/>
        </p:blipFill>
        <p:spPr>
          <a:xfrm>
            <a:off x="755640" y="1455840"/>
            <a:ext cx="3456000" cy="2446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camorabbit"/>
          <p:cNvPicPr/>
          <p:nvPr/>
        </p:nvPicPr>
        <p:blipFill>
          <a:blip r:embed="rId2"/>
          <a:stretch/>
        </p:blipFill>
        <p:spPr>
          <a:xfrm>
            <a:off x="611280" y="4005360"/>
            <a:ext cx="3744720" cy="236052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Mimicry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44956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Mimicry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allows one animal to look, sound, or act like another animal to fool predators into thinking it is poisonous or dangerous. 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5" name="Picture 15" descr="pauwoog"/>
          <p:cNvPicPr/>
          <p:nvPr/>
        </p:nvPicPr>
        <p:blipFill>
          <a:blip r:embed="rId1"/>
          <a:stretch/>
        </p:blipFill>
        <p:spPr>
          <a:xfrm>
            <a:off x="4643280" y="1308240"/>
            <a:ext cx="4032360" cy="2439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7" descr="coral"/>
          <p:cNvPicPr/>
          <p:nvPr/>
        </p:nvPicPr>
        <p:blipFill>
          <a:blip r:embed="rId2"/>
          <a:stretch/>
        </p:blipFill>
        <p:spPr>
          <a:xfrm>
            <a:off x="2916360" y="3933720"/>
            <a:ext cx="3528720" cy="2611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9" descr="Red_milk_snake"/>
          <p:cNvPicPr/>
          <p:nvPr/>
        </p:nvPicPr>
        <p:blipFill>
          <a:blip r:embed="rId3"/>
          <a:stretch/>
        </p:blipFill>
        <p:spPr>
          <a:xfrm>
            <a:off x="6084720" y="3933720"/>
            <a:ext cx="3059280" cy="261648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Behaviour adaptations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492000" y="1557360"/>
            <a:ext cx="5327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Behaviour adaptations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include activities that help an animal survive.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Behaviour adaptations can be learned or instinctive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ocial behaviour   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Behaviour for protection  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1" name="Picture 7" descr="opossum_"/>
          <p:cNvPicPr/>
          <p:nvPr/>
        </p:nvPicPr>
        <p:blipFill>
          <a:blip r:embed="rId1"/>
          <a:stretch/>
        </p:blipFill>
        <p:spPr>
          <a:xfrm>
            <a:off x="324000" y="1484280"/>
            <a:ext cx="3095640" cy="2320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CanadaFam"/>
          <p:cNvPicPr/>
          <p:nvPr/>
        </p:nvPicPr>
        <p:blipFill>
          <a:blip r:embed="rId2"/>
          <a:stretch/>
        </p:blipFill>
        <p:spPr>
          <a:xfrm>
            <a:off x="324000" y="4005360"/>
            <a:ext cx="3456000" cy="215892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Migration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924000" y="1341360"/>
            <a:ext cx="48956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Animals migrate for different reasons.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better climat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better food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afe place to liv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afe place to raise young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go back to the place they were born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14126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This is when behavioral adaptation that involves an animal or group of animals moving from one region to another and then back again.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Picture 11" descr="NI006%20Serengeti%20Migration%20A3"/>
          <p:cNvPicPr/>
          <p:nvPr/>
        </p:nvPicPr>
        <p:blipFill>
          <a:blip r:embed="rId1"/>
          <a:stretch/>
        </p:blipFill>
        <p:spPr>
          <a:xfrm>
            <a:off x="250920" y="4005360"/>
            <a:ext cx="4048200" cy="267660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Hibernation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This is deep sleep in which animal’s body temp droops, body activities are slowed to conserve energ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E.g. Bats, woodchucks &amp; bear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Picture 6" descr="bear"/>
          <p:cNvPicPr/>
          <p:nvPr/>
        </p:nvPicPr>
        <p:blipFill>
          <a:blip r:embed="rId1"/>
          <a:stretch/>
        </p:blipFill>
        <p:spPr>
          <a:xfrm>
            <a:off x="5724360" y="3716280"/>
            <a:ext cx="3129120" cy="2357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HIBERNATION_PICTURE"/>
          <p:cNvPicPr/>
          <p:nvPr/>
        </p:nvPicPr>
        <p:blipFill>
          <a:blip r:embed="rId2"/>
          <a:stretch/>
        </p:blipFill>
        <p:spPr>
          <a:xfrm>
            <a:off x="2843280" y="3716280"/>
            <a:ext cx="2752560" cy="24004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no-mamm-fathomseminar-bats-session4-mouseearedpic_6781_1"/>
          <p:cNvPicPr/>
          <p:nvPr/>
        </p:nvPicPr>
        <p:blipFill>
          <a:blip r:embed="rId3"/>
          <a:stretch/>
        </p:blipFill>
        <p:spPr>
          <a:xfrm>
            <a:off x="179280" y="3719520"/>
            <a:ext cx="2448000" cy="237492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13:37:10Z</dcterms:created>
  <dc:creator>Burntwood School</dc:creator>
  <dc:description/>
  <dc:language>en-US</dc:language>
  <cp:lastModifiedBy>LEGION2</cp:lastModifiedBy>
  <dcterms:modified xsi:type="dcterms:W3CDTF">2016-01-12T07:30:10Z</dcterms:modified>
  <cp:revision>7</cp:revision>
  <dc:subject/>
  <dc:title>Animal Adaptations</dc:title>
</cp:coreProperties>
</file>