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2F75-E639-4D87-844E-AE21509708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in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in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Trait and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larial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natural selection favours people with genotype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that are HH will die during serious outbreaks of the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s loses selective advantage in non-malarial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Trait and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larial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natural selection favours people with genotype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that are HH will die during serious outbreaks of the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s loses selective advantage in non-malarial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Melanism in Peppered M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orms of Biston betularia (peppered mo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ela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Melanism in Peppered M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orms of Biston betularia (peppered mo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ela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ston betu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 by only one allele of the gene forming dark pigment (melan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rms fly by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rms rest on trees during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ston betu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 by only one allele of the gene forming dark pigment (melan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rms fly by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rms rest on trees during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 180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form common throughou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arose by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ery r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 180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form common throughou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arose by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ery r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eppered mo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on-pollute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ree trunks covered with pale coloured lich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h well camouflaged against pale back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form easily seen and eaten by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eppered mo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on-pollute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ree trunks covered with pale coloured lich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h well camouflaged against pale back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form easily seen and eaten by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ey in the 195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e form most abundant in non-industrial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forms most abundant in areas suffering from heavy air-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ey in the 195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e form most abundant in non-industrial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forms most abundant in areas suffering from heavy air-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 for chan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ollute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oxic gases kill lic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oot particles darken tree tru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coloured well hidden and favoured by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coloured moth easily s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 for chan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ollute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oxic gases kill lic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oot particles darken tree tru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coloured well hidden and favoured by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coloured moth easily s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ies of two forms of peppered moths in the 195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ies of two forms of peppered moths in the 195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ural Selection in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st mutations produce inferior versions of original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mutations allow adaption to a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tant allele gives mutant form of organism a selective adva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nge i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abiotic factor (e.g. pol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biotic factor (e.g. dise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in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utations produce inferior versions of original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utations allow adaption to a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nt allele gives mutant form of organism a selective adva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biotic factor (e.g. pol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iotic factor (e.g. dise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a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ally transmitted disease of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presence of abnormal 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normality occurs as result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a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ally transmitted disease of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presence of abnormal 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normality occurs as result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 – allele for normal 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 – allele for 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ople homozygous for mutant allele (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sickle-shaped red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inefficient at carrying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cells clump together interfering with cir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– allele for normal 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– allele for 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homozygous for mutant allele (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ickle-shaped red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efficient at carrying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cells clump together interfering with cir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ptoms of Sickle Cell Ana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t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eathless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pid hear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layed growth and pub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sceptibility to inf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lcers on the lower legs (in adolescents and adul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und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tacks of abdominal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a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int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om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oody (hematuria) ur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ssive th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ssive penis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iap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st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creased fert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 of Sickle Cell Ana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thless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hear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ayed growth and pub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ceptibility to inf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s on the lower legs (in adolescents and adul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und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acks of abdominal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t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m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y (hematuria) ur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ive th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ive penis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ap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st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reased fert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plete 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H incompletely dominant to allele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s –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S partially ex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 third of the haemoglobin is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plete 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H incompletely dominant to allele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s –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S partially ex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 third of the haemoglobin is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emia in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S rare in populations as semi-leth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arts of Africa up to 40% of population is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ith Sickle Cell Trait resistant to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emia in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S rare in populations as semi-leth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arts of Africa up to 40% of population is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ith Sickle Cell Trait resistant to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 sickle cell 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 sickle cell 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3846-4833-42F1-8DFC-F2008D528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233F-5189-4C31-A833-673761A3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1D52-72FC-4A04-8245-14024D9D6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EBD9-F5C9-4D97-9ED8-C6047BB8B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1752-6F91-4981-8805-3517A4ED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ABAC-AD01-4CEA-B078-5FB0AF7E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9F19-1EC4-49D2-804B-5CFBA342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013A-1422-4B85-A48B-26C031A7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F99F-2AE4-4781-B6E1-9BB0FD24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94F1-ECCB-499E-9034-7D0C0051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AFA0-4DFA-4AF4-9FE7-7AD7A9A0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7C61-804D-490F-8278-38CE080A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020A-75F4-49C9-9C0E-F1F5D0C3FF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audio" Target="../media/whoosh.wav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atural Selection in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ckle Cell Trait and Mal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malarial reg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natural selection favours people with genotype 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ople that are HH will die during serious outbreaks of the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s loses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elective advantage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non-malarial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dustrial Melanism in Peppered Mo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wo forms of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Biston betularia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peppered mot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2438280" y="3048120"/>
            <a:ext cx="4724640" cy="34956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819520" y="5943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melan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Comic Sans MS"/>
              </a:rPr>
              <a:t>Biston betul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ffer by only one allele of the gene forming dark pigment (melan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th forms fly by n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th forms rest on trees during the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ior to Industrial r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e 1800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ght form common throughout Brit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ark arose by m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very r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3809880" y="2362320"/>
            <a:ext cx="5105520" cy="38448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ight peppered mo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In non-polluted are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tree trunks covered with pale coloured liche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Moth well </a:t>
            </a:r>
            <a:r>
              <a:rPr b="1" lang="en-GB" sz="2500" spc="-1" strike="noStrike">
                <a:solidFill>
                  <a:srgbClr val="000000"/>
                </a:solidFill>
                <a:latin typeface="Comic Sans MS"/>
              </a:rPr>
              <a:t>camouflaged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against pale backgrou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Dark form easily seen and eaten by predato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5272200" y="1600200"/>
            <a:ext cx="3671640" cy="50292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urvey in the 1950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le form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st abundan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n non-industrial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rk forms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st abundan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n areas suffering from heavy air-pol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4800600" y="2514600"/>
            <a:ext cx="4086360" cy="272268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ason for chan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In polluted are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toxic gases kill lich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soot particles darken tree trun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Dark coloured well hidden and favoured by natural selec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Light coloured moth easily se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5278320" y="1676520"/>
            <a:ext cx="3417840" cy="47242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600200" y="0"/>
            <a:ext cx="6781680" cy="67262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228600" y="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requencies of two forms of peppered moths in the 195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atural Selection in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Most mutations produce inferior versions of original gen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Some mutations allow </a:t>
            </a:r>
            <a:r>
              <a:rPr b="1" lang="en-GB" sz="2500" spc="-1" strike="noStrike">
                <a:solidFill>
                  <a:srgbClr val="000000"/>
                </a:solidFill>
                <a:latin typeface="Comic Sans MS"/>
              </a:rPr>
              <a:t>adaption to a changing environme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Mutant allele gives mutant form of organism a </a:t>
            </a:r>
            <a:r>
              <a:rPr b="1" lang="en-GB" sz="2500" spc="-1" strike="noStrike">
                <a:solidFill>
                  <a:srgbClr val="000000"/>
                </a:solidFill>
                <a:latin typeface="Comic Sans MS"/>
              </a:rPr>
              <a:t>selective advantag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Change in environme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abiotic factor (e.g. pollution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biotic factor (e.g. disease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ckle cell ana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enetically transmitted disease of the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used by presence of abnormal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aemoglobin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bnormality occurs as result of m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emoglobin 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 – allele for normal haemoglob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– allele for haemoglobin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ople homozygous for mutant allele (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sickle-shaped red blood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inefficient at carrying 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cells clump together interfering with cir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82880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ymptoms of Sickle Cell Ana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ati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reathless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pid heart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ayed growth and pube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usceptibility to inf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ulcers on the lower legs (in adolescents and adult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jaund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ttacks of abdominal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joint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e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Vom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loody (hematuria) ur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xcessive thir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xcessive penis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riap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hest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creased fer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complete domin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lele H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completely dominan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o allele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eterozygotes – 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lele S partially exp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ickle Cell Tra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a third of the haemoglobin is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ckle Cell Anemia in Af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ele S rare in populations as semi-leth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me parts of Africa up to 40% of population is 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ople with Sickle Cell Trait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resistan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o mal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1295280"/>
            <a:ext cx="4619520" cy="4724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rcRect l="0" t="15493" r="45371" b="0"/>
          <a:stretch/>
        </p:blipFill>
        <p:spPr>
          <a:xfrm>
            <a:off x="4876920" y="1600200"/>
            <a:ext cx="4038480" cy="42670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609480" y="2286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stribution of 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34120" y="60948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stribution of sickle cell tr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0:23:54Z</dcterms:created>
  <dc:creator>hhashmi</dc:creator>
  <dc:description/>
  <dc:language>en-US</dc:language>
  <cp:lastModifiedBy>LEGION2</cp:lastModifiedBy>
  <dcterms:modified xsi:type="dcterms:W3CDTF">2016-01-12T07:38:20Z</dcterms:modified>
  <cp:revision>6</cp:revision>
  <dc:subject/>
  <dc:title>Natural Selection in Action</dc:title>
</cp:coreProperties>
</file>