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F903-F412-4B66-BEF2-B827145977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larial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natural selection favours people with genotype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that are HH will die during serious outbreaks of the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 loses selective advantage in non-malarial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Melanism in Peppered M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orms of Biston betularia (peppered mo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ela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ton betu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 by only one allele of the gene forming dark pigment (melan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fly by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rms rest on tree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 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form common throughou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arose by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r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eppered mo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on-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ree trunks covered with pale coloured lic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 well camouflaged against pale back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 easily seen and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 form most abundant in non-industrial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forms most abundant in areas suffering from heavy air-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fo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ollute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xic gases kill li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oot particles darken tree tr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coloured well hidden and favoured by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oloured moth easily s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wo forms of peppered moths in the 195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utations produce inferior versions of original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utations allow adaption to a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 allele gives mutant form of organism a selectiv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iotic factor (e.g. pol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iotic factor (e.g. dise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ally transmitted disease of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presence of abnormal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normality occurs as result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– allele for normal 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– allele for haemoglobin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homozygous for mutant allele (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ickle-shaped 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efficient at carrying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ells clump together interfering with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of Sickle Cell Ana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less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hear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ayed growth and pu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ceptibility to inf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on the lower legs (in adolescents and adul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of abdominal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y (hematuria) ur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th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ive penis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ap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plete domi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H incompletely dominant to allele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s –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partially ex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third of the haemoglobin is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 i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S rare in populations as semi-let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ts of Africa up to 40% of population is 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Sickle Cell Trait resistant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 sickle cell 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DFC-D618-4F94-A824-C4F5042D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07C-D24D-45FF-95FC-1616AFCA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916-EBA4-4B3D-9CD9-5A3656BD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A4D-1075-468C-9B62-1FFECFA9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5CA-0BC0-4BB3-9286-7456ED5F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422-AF7E-4905-8763-8E303173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C4C-9973-48EC-A0C8-42EE2345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4C7-4C69-4251-96E9-D1B8D4BE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F1E-9928-4794-A0B5-7DB2C22C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282-B27F-486E-B359-03774E9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70D-CF64-4F2F-A77D-59DFF0FF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4EB-B087-4E35-A845-3E13CF9B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A388-FCE1-4C90-81B1-514BD1636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Trait and Ma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malari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natural selection favours people with genotype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that are HH will die during serious outbreaks of the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s los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ective advantage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non-malarial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dustrial Melanism in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forms of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peppered mo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Comic Sans MS"/>
              </a:rPr>
              <a:t>Biston betul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ree trunks covered with pale coloured lich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272200" y="1600200"/>
            <a:ext cx="36716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le form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4086360" cy="2722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toxic gases kill lich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ark coloured well hidden and favoured by natural selec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Light coloured moth easily se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Mutant allele gives mutant form of organism a </a:t>
            </a:r>
            <a:r>
              <a:rPr b="1" lang="en-GB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Change in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-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ally transmitted disease of th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used by presence of abnorma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normality occurs as result of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 – allele for normal haemogl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– allele for haemoglobi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ople homozygous for mutant allele (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ickle-shaped red bloo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inefficient at carrying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cells clump together interfering with cir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ymptoms of Sickle Cell Ana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reathles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apid hear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ayed growth and pub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sceptibility to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lcers on the lower legs (in adolescents and adul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tacks of abdominal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oin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om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oody (hematuria) ur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th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cessive peni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iap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reased fer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H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completely dominan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allel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terozygotes – 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ele S partially ex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ickle Cell 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 third of the haemoglobin is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ickle Cell Anemia in Af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le S rare in populations as semi-let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me parts of Africa up to 40% of population is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with Sickle Cell Trai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istan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ma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619520" cy="472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0" t="15493" r="45371" b="0"/>
          <a:stretch/>
        </p:blipFill>
        <p:spPr>
          <a:xfrm>
            <a:off x="4876920" y="1600200"/>
            <a:ext cx="403848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609480" y="228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4120" y="60948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 of sickle cell 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LEGION2</cp:lastModifiedBy>
  <dcterms:modified xsi:type="dcterms:W3CDTF">2016-01-12T07:38:20Z</dcterms:modified>
  <cp:revision>6</cp:revision>
  <dc:subject/>
  <dc:title>Natural Selection in Action</dc:title>
</cp:coreProperties>
</file>