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14D5-1CA1-4405-8B63-84CEF56B13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C1F-8843-407E-80EE-F15401BB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799-CE4E-421E-AFB7-EF2A5C71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D4C69-D00E-4901-B104-DA019642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61C77-FA57-448D-89BC-A68D9261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3852A-5659-498B-BB55-5278B1F4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7F6FD-F2D0-46DB-8276-E2B99A91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96241-63EE-49A0-9A39-91D3B8F7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0C305-7135-4E65-A9CE-84A11497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BBEEE-4CFA-45D2-8A1A-4C3850F3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A8202-6C99-4DD4-87E8-958CE6CD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5D6A5-3C56-46C6-99F3-9F578BF1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43687-BCB2-4EAC-B31E-7BF3D471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BB1-F497-4389-B4A1-8B7BB1D0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38309-76E1-4C3C-802B-191CCB6D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FFBF0-B0A1-4A83-B0DF-11EA37B5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438E2-6713-4BEB-9720-DDEAC097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423F4-2023-480B-84DC-B0B9B79D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14614-6DBC-4EDC-8E9F-081D691E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054EE-A655-46DD-8D7A-5019BC2D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D5AD3-83D2-4D45-8581-3B0CF4AF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BFE5E-78A4-4687-964A-939247C6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BF879-EE20-44D4-A00A-7FA7D792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26653-5100-49AB-A2A7-DAF47889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39D-ADFC-4AE9-B45A-5B468988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6D3D0-BFFF-4ACE-B6F7-F8DAB604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32887-40E9-490F-BE13-3F6C718A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F0FFD-5E22-403E-B146-F8E800DA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18487-28C7-4638-8583-39FCD5D8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19373-7F93-4C2D-AFE4-B120223F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81560-323C-4334-8A54-53F09CB2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42326-B14F-40EC-82F9-75B59518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2899B-11DA-4BE1-83F2-2F87A435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32B42-E011-4F45-A746-703CE07B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5C4F3-16F9-4E4C-9F52-4EEA4062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DEB9-F470-4486-A32C-2775A375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F5E69-8BC4-4E0D-A20D-28C916BA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9D79E-1DE6-4102-90F7-94CC3033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7173E-F8F3-4352-98A5-BC517B2F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8F16E-2DE7-40E9-AAE9-780890CA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44E71-2573-4CC1-B855-D7BF3550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B724F-5277-4AEA-9E74-02796F5F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E1500-90E4-45C5-AF8F-455C3FD3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00CF4-4556-444E-8ED7-9C418265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5A865-E881-4E70-9626-24094929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33CCB-540A-4BAC-AB40-602AC68D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AB67-E36A-4DB1-B1F0-3C34130D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98280-78AC-494E-8684-8E4A8674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097F4-C03D-4903-8E7E-D612D831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0E9DC-FC8B-4F74-BF0E-D7C114C6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416C9-90B6-43EC-9943-85276DA2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841D2-8781-4D9D-9AAA-406852D6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2676-DFEA-480D-8848-677D9176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1E67-E77B-49ED-9D1C-5AE1DDA3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F088-9E8A-40D8-8FF2-37CA6DD1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18AB-C76E-4FB7-B564-84D88541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FFA9-6EFE-4B11-BCE3-BC7D5EBC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D58-E5B6-467A-BDB1-C866D22B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2420-C907-46D3-AF3E-B7F5C332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5C08-6166-4302-87CD-A84DBCF4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0A9C-8684-4866-A3A3-72166903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21AA-EA38-4353-AF5F-1D8404C7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B3A0-8A0B-4301-9B64-ADB24DFA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6FF9F-BE4A-4570-88C4-41E82C50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2921A-0377-4EFD-AB8B-A5837187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A0D1C-2A9E-4F0D-8CC9-DC0C7BD7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D805D-1026-4F00-AAF3-0F03DDC8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4F50-3756-478A-B695-2FF420D6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D1B-BB06-4619-8271-B0B45E85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10A33-7EB9-424C-830E-2C695D93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A5658-6EDB-4015-85E7-7252A523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BC180-A3CF-45B6-A042-EB417E0E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D8642-2810-412C-BE09-19A9FA65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0FEBB-ABCB-40FA-8456-B52B1649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81CC0-BE79-4A0B-A8CE-DEF67A01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CBE8-9D85-4DD8-BA7F-B4E0DB6B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D66A4-D178-4B85-B3CE-CEE0ACB6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7A3F9-9CA0-4C4C-85D7-FB3936A8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37B62-FCC0-44D2-91F0-9A091A3C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495-6054-40E8-9902-2C55D309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42F7D-1ECE-4B98-BDF8-4CE7E239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C826E-328B-4B98-82DC-2797DDB0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EC1D9-6A74-4649-A632-9B5241C4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17F2B-3851-496F-9DB1-FF1A7760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3FC87-8E64-431E-A469-01CD9763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363E6-FF2D-4FE3-9F35-45CCD2E9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73B92-BAC4-4818-B4F5-4998E94B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DAAC5-0B2A-4E8D-8903-C988686B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3502A-BF3B-44AE-9800-6E5797C8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BD2D4-F052-42E6-85D3-E478F652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DAC-D0F4-49A8-964C-7135082D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15BFD-68C3-4560-BA07-8BE2D520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EC1A9-D330-4BDA-A420-D189DC59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9F5E9-FBD2-4937-A4D7-5A12C949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DC807-0FF2-4315-880A-2EDD5FD9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5B643-614F-427B-9CAB-48E404BF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00796-0F89-4A0B-A4BE-50398359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6BEC0-452C-4B17-A6F9-F128929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02DBC-CC76-4055-B30F-1C688F49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4FD71-A107-42BF-8D45-1CF97E01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09D2C-0654-4322-85BF-900012A0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9D8-18A6-444B-B9CA-2DD75678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E8979-5449-4444-ABBE-E91A7EC6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763BD-E6AB-4DFA-BA52-21DEA151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306DB-3F54-4694-A30D-9A2D85EC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B8D21-18C1-48FE-BD0B-B608CC81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42C43-F5E4-431B-BE82-23B2FEED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0C06A-F420-4439-B6AE-6411E695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39D21-3221-4FF1-BA4A-FF088BE2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E0FCB-2C93-4FE8-A420-E24C2F61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A5235-56A8-4A59-BFCE-1F0C5CC6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9C306-089C-4D15-ADDC-9FF3DDC9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417-8A25-41BE-BAF9-790ED4A3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20866-3189-4229-A1F2-D6E6BCA9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B3996-9582-406C-A7F0-73C5A61E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33411-A293-4D18-9FDA-B5014E28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BDD82-176E-4C9D-8936-2C80C7C3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A27EE-E251-49D6-898A-F8B844CD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ABEF7-836B-4334-889F-EC67C9CE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E85AC-A38E-4C91-97AC-80F167FC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05AF0-62A8-4578-87A2-3E3FA455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54D14-435C-4B1D-923C-1023E426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0040B-B7F2-4277-AD98-E1670A4C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8523-BB11-4AFB-8020-A6611E54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7BAE0-C8AB-4CF0-9014-E3D7DA51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1AA14-67C6-4456-8C33-0CC8D592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737A8-AF84-459A-8FD5-FC86CC2C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A6176-33EF-4251-843C-C69F47AE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0982A-C8B9-4276-BDB5-05DF0569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060B7-CBBD-4BA5-A4E2-4063A96C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6168F-9B0F-42BC-A28A-766267CB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E29AC-9975-44E4-8D14-707F4556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5370B-C53E-44E6-95C7-FD835661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58D6B-9626-4B8A-B366-B018E7A1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9F0-DBA2-4638-BABF-6BF20942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36848-BEEE-4D10-B74C-608C6B32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74C00-2E15-4174-A790-6F9AB962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09670-FF07-49BD-AA3F-EDE4ACD6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A0AD0-C637-434C-BD53-CBDF25CA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43A04-3490-4850-B027-B7B8A52B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9BCEB-D895-4EFD-8F86-364691F5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34F95-C6A2-44FD-BD7B-19DFC789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F9828-D2F0-405C-8FD2-B4179CAB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9EF01-49EA-4E32-8179-73B5F950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DA89F-4BB0-4984-BC7B-075210E4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0B09-C99A-40A7-BF50-A00444C5ED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F92A-477D-42B4-A583-699E4B9B71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ECCF-8C45-4E7B-9A35-967EA12CE4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62C7-E530-4F7A-97BE-5887C24245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AE88-A4E3-449E-B714-92AA24727C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25F4-DB9C-42A0-B0F2-8E8E608D4F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F69F-4599-40A1-9BD4-627673F167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C330-FE6F-47A6-83C8-8433C67847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8B64-E166-446D-888C-CEE30CDAF9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0FB1-DE85-46CA-B582-2D7E2D6EC6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1B79-880B-4E91-B80D-F6DB7BB9F7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BCBD-D8F9-41F0-8FD0-A149CC2110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6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7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8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9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20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1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7"/>
          <p:cNvSpPr/>
          <p:nvPr/>
        </p:nvSpPr>
        <p:spPr>
          <a:xfrm>
            <a:off x="1219320" y="5410080"/>
            <a:ext cx="3504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owing variation in col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6477120" y="5486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1052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8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22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24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25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27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28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29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30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32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35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36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37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38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9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0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41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42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43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1052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1054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1055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1056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1057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1058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1059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1060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1061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1062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1063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AutoShape 1064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1065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AutoShape 1066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1067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utoShape 1068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utoShape 1069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1070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1071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1072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1073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1074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43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AutoShape 44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37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38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39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AutoShape 40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7"/>
          <p:cNvSpPr/>
          <p:nvPr/>
        </p:nvSpPr>
        <p:spPr>
          <a:xfrm>
            <a:off x="685800" y="3808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9"/>
          <p:cNvSpPr/>
          <p:nvPr/>
        </p:nvSpPr>
        <p:spPr>
          <a:xfrm>
            <a:off x="10666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AutoShape 1026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utoShape 102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AutoShape 102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102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AutoShape 103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3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3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03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1034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1036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AutoShape 1037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utoShape 1038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AutoShape 1039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040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AutoShape 10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AutoShape 10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AutoShape 10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10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AutoShape 10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AutoShape 10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AutoShape 1047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AutoShape 1048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1049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1050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1051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27432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1447920" y="2514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2286000" y="3581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3809880" y="2286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548640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59436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3"/>
          <p:cNvSpPr/>
          <p:nvPr/>
        </p:nvSpPr>
        <p:spPr>
          <a:xfrm>
            <a:off x="6629400" y="2133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21337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62120" y="228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24"/>
          <p:cNvSpPr/>
          <p:nvPr/>
        </p:nvSpPr>
        <p:spPr>
          <a:xfrm>
            <a:off x="1523880" y="3352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25"/>
          <p:cNvSpPr/>
          <p:nvPr/>
        </p:nvSpPr>
        <p:spPr>
          <a:xfrm>
            <a:off x="2971800" y="4038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26"/>
          <p:cNvSpPr/>
          <p:nvPr/>
        </p:nvSpPr>
        <p:spPr>
          <a:xfrm>
            <a:off x="45720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27"/>
          <p:cNvSpPr/>
          <p:nvPr/>
        </p:nvSpPr>
        <p:spPr>
          <a:xfrm>
            <a:off x="5867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28"/>
          <p:cNvSpPr/>
          <p:nvPr/>
        </p:nvSpPr>
        <p:spPr>
          <a:xfrm>
            <a:off x="609588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6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23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24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25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26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27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8"/>
          <p:cNvSpPr/>
          <p:nvPr/>
        </p:nvSpPr>
        <p:spPr>
          <a:xfrm>
            <a:off x="1355760" y="575640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9"/>
          <p:cNvSpPr/>
          <p:nvPr/>
        </p:nvSpPr>
        <p:spPr>
          <a:xfrm>
            <a:off x="1584360" y="57564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990720" y="76212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533520" y="49860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4800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68580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>
            <a:hlinkClick r:id="" action="ppaction://hlinkshowjump?jump=nextslide"/>
          </p:cNvPr>
          <p:cNvSpPr/>
          <p:nvPr/>
        </p:nvSpPr>
        <p:spPr>
          <a:xfrm>
            <a:off x="6019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6858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24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5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23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24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25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2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27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28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9"/>
          <p:cNvSpPr/>
          <p:nvPr/>
        </p:nvSpPr>
        <p:spPr>
          <a:xfrm>
            <a:off x="1050840" y="52992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1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0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21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22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3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6019920" y="11430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2"/>
          <p:cNvSpPr/>
          <p:nvPr/>
        </p:nvSpPr>
        <p:spPr>
          <a:xfrm>
            <a:off x="5791320" y="19051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5"/>
          <p:cNvSpPr/>
          <p:nvPr/>
        </p:nvSpPr>
        <p:spPr>
          <a:xfrm>
            <a:off x="4038480" y="1981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36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0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1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2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3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4"/>
          <p:cNvSpPr/>
          <p:nvPr/>
        </p:nvSpPr>
        <p:spPr>
          <a:xfrm>
            <a:off x="1143000" y="380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35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7:15:31Z</dcterms:created>
  <dc:creator>Default</dc:creator>
  <dc:description/>
  <dc:language>en-US</dc:language>
  <cp:lastModifiedBy>LEGION2</cp:lastModifiedBy>
  <dcterms:modified xsi:type="dcterms:W3CDTF">2016-01-12T07:48:48Z</dcterms:modified>
  <cp:revision>13</cp:revision>
  <dc:subject/>
  <dc:title>PowerPoint Presentation</dc:title>
</cp:coreProperties>
</file>