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9B02-1356-4239-9F3D-3B22D9003C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B8E-9ECB-4CD4-A545-C238B0C8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068-E06D-441B-8747-D0E0BF3C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AF47C-ED67-4B5F-A1BD-F6577D3C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6A49D-83CC-4959-93D5-6AF36BF5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C3F31-95EC-460D-A782-819C8D96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4A39B-DA2C-4847-A824-05085D33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61586-D16E-4FF1-8B58-8A9D8E0C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ED64E-24EE-4C58-829F-D71FE30E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6AA69-5145-442D-B19B-DD85C3A7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8A82A-1678-45A3-8210-76D49FC9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99B80-BB0D-4AEA-A785-9B15DA24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11F2D-AC97-4AA8-ADF0-DD70FD7C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ED3-A112-46D6-89B2-BF1F4E3E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5BB95-4E59-44E0-B41B-A91BD2AB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E77C7-F1C5-4F9D-9B08-B48D69F9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C563E-C638-4C34-B4B6-D0F3F3B5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F7A9C-7577-491A-B5AA-A3D7A416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179ED-53CC-49F3-A8A7-8A9B7ECB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79D79-675A-486A-84ED-AEA354A9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8E773-2107-4636-977C-C4DC0774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61888-24FC-4144-A9E0-965DC84D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183CC-A280-4E64-BE35-183BEBAB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5C660-1141-4EA4-A94D-6F155B92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18A5-8AF2-4DB9-952D-F2F71253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C83B6-6196-4386-9334-E18D866B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CC58E-657C-48C9-AED5-744E135F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F8FCB-80AE-455A-A05E-52B72812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F1553-A1F3-4AE9-8CE2-BFA2241E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8E7CD-2EF7-42A2-8B2A-084D9016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14AE2-451A-4A6D-BA6A-24B19728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C14DD-C8C3-4805-8C7F-18602234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D56F7-955A-4FC9-8711-06940ACB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AE9A7-291B-4F7C-B3DC-14E1F8D7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50E13-8FBB-463C-920D-75888339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E75F-E1D7-4961-B321-F8D6F877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109AC-90ED-4CDD-87B9-A9F7A444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13735-12DB-4053-B87D-BB8206E0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5E22D-1CF4-4272-AB36-D79F7A24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49786-B45F-4ABF-9660-FBF699FC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A3D69-10E8-4440-B958-760C7694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2BDAF-341C-4880-AA81-7811688E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A66E5-4C64-4783-A4E9-449AFC7D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31800-6A2B-43FD-9604-F50D8D07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6C328-A540-4DEC-A131-47767D3C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9CC82-C875-49CA-A6AA-A664EA7D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F65D-88D0-4608-818E-1C0D878D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AEB30-1DA7-45C1-BE61-26D91EDB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18876-F249-4762-AFD4-27830E59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20BB9-1601-4ABD-9C31-7ACA5F5E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2F716-A098-4210-90DD-A6B04536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E347E-B1BB-4103-A56D-3FBF9E00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27DC-BD99-4FF9-B4CD-4A060DC9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19B2-C0F0-41E0-9CA2-6B6164E3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5CDC-3B1F-4878-BAF5-033398EA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1BA2-AF5A-4641-B1FE-DC08C8FE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B56C-6A7C-436F-A1DE-98B573FC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084-35B5-4119-85ED-10AACC59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AC69-AFC1-4EBD-96CE-272E909D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F754-CB87-47C4-A5E4-DB3EE5F9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2306-20CA-46E0-9D64-F0DC4F33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D855-E997-4964-A5E3-A468E536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6222-489A-4E0A-9753-5BB66ADA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B6F0D-6B82-417F-BF97-4E0A40E5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69AF0-0F30-41FB-92C7-9ED93D19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6E16A-2A53-4333-AB8A-630B0474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FD0B-FBB1-44D5-914A-0C141A50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A7B06-3D9F-4153-9487-F15EB5E6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CC1-0FFD-4B24-BC62-BCC0B52B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B9C3A-E124-49F0-BC12-B217C5CB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873AB-815F-4475-9799-C60B4A19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BD5B-EDC8-4B62-9BEE-7F2FDD44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679B4-2C6B-44C8-829D-B8CE2676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43C24-7823-4CB6-9497-C0C4B001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1B34C-DA74-4745-BF65-4FFBC3FA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21BA4-FAFE-4EE9-8804-8A169368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14A9-995C-430F-B902-FF4DAD36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29ABC-7057-490B-AFFC-990C9B2E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B669A-C836-42B4-AC56-250868B3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282-BB9D-45B5-81C6-7CEDD7B2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D7AE9-68D8-4E12-9245-97C2D8A0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AED83-2F0D-49F4-904E-2DCAB36C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CC882-B9AC-4803-B3B4-6F04B866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9A2D-71C3-445C-990D-45A79D63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8AEBF-469B-4AA2-A281-352F4901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87FF-D2A0-4886-A911-C7A7D389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2AA69-BDA3-4C1F-BA46-2A18A07B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074C6-66DE-4CED-A638-C383902F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0FAD4-7E6A-4039-BB8D-08E4C5D4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E8EF9-DB44-4A72-887B-F2E65F6D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B52-B58B-4A63-893E-133AD4D1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AE10E-5ED8-47BA-9CB3-A0FBA184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DA71D-D876-49EA-9629-E463A1BF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6B6FD-039A-43FE-9C0F-DD2443AE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1799D-84E2-4E93-BB60-BDD883D4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2E0DC-764B-4706-89B1-5929AA29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E272A-2516-443C-B67A-98E2FF5A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8C0C9-EB28-4E62-BA9D-9ACE614D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D3B4B-34F6-44B2-BF0C-9A15C41E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CBFC5-6B66-4C21-B629-A4D68180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A0D95-162D-40E4-A8DD-5BE14CB4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E8E-EBB6-41D9-97C4-47AE76FF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B5D1B-2319-413F-BEE2-49872F34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0F7CE-DA4E-49A3-A132-3E0541B9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53875-7FB0-4731-8311-14FC619E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B9CFB-2ABF-43FA-A906-70022F19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8E519-F27F-4789-AEFC-9B7E1AE9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FA500-5E48-45ED-836D-E745B8C7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CE541-B1EB-434B-B40A-40C2B4C3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E784F-4529-4E1C-8430-3671DB2D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CC318-0462-40D7-A787-46B6389A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07D03-B052-4541-A157-AF32E4EF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88D-3268-4DCB-889C-CC43E9F4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43CF8-2315-482D-91A4-025852C5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EA19B-2258-4FE1-89BC-D35B21B1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AB68B-9772-43B8-8AF9-9C7518E9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DCCF7-A437-4EED-A56C-AEA8AFF9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97AFE-EB58-4512-BAE0-89583B48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D53B8-1B42-457A-8AF8-3EEB2804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E84EF-CA47-4058-8E05-A454F610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C4662-9B93-4AC1-87E1-2B90DCC4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6097E-060D-48B9-B323-5063A079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839B4-1FAB-491D-B152-CD9B9E9D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C94-7ADD-4990-9418-05C7A7EC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C47E6-2161-4AC0-A5E2-406900EA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974EC-DBC0-4B0D-8FBA-6A3C28ED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E0C55-816C-471C-96CE-B0D6706F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0ED26-AF04-4466-9B58-6DB4B46B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0B412-2206-40E6-8C04-6CFDF956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7EE4A-879D-4774-A901-EB90F597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52CD6-C6A1-4C59-80CA-0B9C519C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CC10D-DFB5-4982-B857-C7BEBB67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99E36-1B14-4449-B8BD-5DB94114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2DC7C-3B2E-4BAB-AB96-41261E0D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BC2-2C2E-4FF5-9B26-516900F6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98128-36A4-45C4-AB6E-A17C6BFB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B7027-5808-4970-A4DD-1D95430F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4C8AC-BF06-4A85-96A5-4BCCE134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AF6D5-CA3B-4FE0-9D9F-03A1E7E0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031F6-5EA3-470E-9876-82FB00F1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8A7C5-40DC-40F4-84E9-6CC0DEAC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36F01-A057-4A14-B84B-BB8920B8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62593-9A80-4BB2-B95C-5E101675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5A6E6-3C22-4878-97A8-F219EB1A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97C2A-872A-4B52-8C14-79F0BF92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8AE4-67FD-47F9-95CC-22C25D0EFE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81C1-A089-4D4E-AF28-86CBCAB663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52D5-EE20-4A0E-BC92-1075558C4B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3FD9-563F-41CE-AB8A-7D5A3B99DC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81EE-F696-4240-9780-F8E502920A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F9B4-F3C3-4D4D-A0FB-643C23B400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6E81-2544-46FB-A4A7-D97483F17C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A551-5DE8-4542-B284-B19A428438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B20E-A954-4E7B-948A-9C7E73FA05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4534-666C-42D8-9BF7-E24952CC06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AEE0-9DA8-4236-81C0-66BEEA07C1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F897-9326-4F66-AC3F-83180B78F4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6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7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8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9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20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1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7"/>
          <p:cNvSpPr/>
          <p:nvPr/>
        </p:nvSpPr>
        <p:spPr>
          <a:xfrm>
            <a:off x="1219320" y="5410080"/>
            <a:ext cx="3504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owing variation in col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6477120" y="5486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1052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8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22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24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25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27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28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29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30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32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35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36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37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38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9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0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41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42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43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1052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1054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1055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1056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1057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1058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1059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1060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1061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1062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1063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AutoShape 1064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1065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AutoShape 1066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1067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utoShape 1068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utoShape 1069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1070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1071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1072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1073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1074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43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AutoShape 44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37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38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39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AutoShape 40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7"/>
          <p:cNvSpPr/>
          <p:nvPr/>
        </p:nvSpPr>
        <p:spPr>
          <a:xfrm>
            <a:off x="685800" y="3808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9"/>
          <p:cNvSpPr/>
          <p:nvPr/>
        </p:nvSpPr>
        <p:spPr>
          <a:xfrm>
            <a:off x="10666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AutoShape 1026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utoShape 102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AutoShape 102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102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AutoShape 103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3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3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03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1034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1036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AutoShape 1037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utoShape 1038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AutoShape 1039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040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AutoShape 10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AutoShape 10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AutoShape 10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10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AutoShape 10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AutoShape 10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AutoShape 1047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AutoShape 1048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1049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1050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1051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27432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1447920" y="2514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2286000" y="3581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3809880" y="2286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548640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59436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3"/>
          <p:cNvSpPr/>
          <p:nvPr/>
        </p:nvSpPr>
        <p:spPr>
          <a:xfrm>
            <a:off x="6629400" y="2133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21337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62120" y="228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24"/>
          <p:cNvSpPr/>
          <p:nvPr/>
        </p:nvSpPr>
        <p:spPr>
          <a:xfrm>
            <a:off x="1523880" y="3352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25"/>
          <p:cNvSpPr/>
          <p:nvPr/>
        </p:nvSpPr>
        <p:spPr>
          <a:xfrm>
            <a:off x="2971800" y="4038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26"/>
          <p:cNvSpPr/>
          <p:nvPr/>
        </p:nvSpPr>
        <p:spPr>
          <a:xfrm>
            <a:off x="45720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27"/>
          <p:cNvSpPr/>
          <p:nvPr/>
        </p:nvSpPr>
        <p:spPr>
          <a:xfrm>
            <a:off x="5867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28"/>
          <p:cNvSpPr/>
          <p:nvPr/>
        </p:nvSpPr>
        <p:spPr>
          <a:xfrm>
            <a:off x="609588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6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23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24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25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26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27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8"/>
          <p:cNvSpPr/>
          <p:nvPr/>
        </p:nvSpPr>
        <p:spPr>
          <a:xfrm>
            <a:off x="1355760" y="575640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9"/>
          <p:cNvSpPr/>
          <p:nvPr/>
        </p:nvSpPr>
        <p:spPr>
          <a:xfrm>
            <a:off x="1584360" y="57564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990720" y="76212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533520" y="49860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4800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68580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>
            <a:hlinkClick r:id="" action="ppaction://hlinkshowjump?jump=nextslide"/>
          </p:cNvPr>
          <p:cNvSpPr/>
          <p:nvPr/>
        </p:nvSpPr>
        <p:spPr>
          <a:xfrm>
            <a:off x="6019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6858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24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5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23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24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25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2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27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28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9"/>
          <p:cNvSpPr/>
          <p:nvPr/>
        </p:nvSpPr>
        <p:spPr>
          <a:xfrm>
            <a:off x="1050840" y="52992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1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0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21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22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3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6019920" y="11430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2"/>
          <p:cNvSpPr/>
          <p:nvPr/>
        </p:nvSpPr>
        <p:spPr>
          <a:xfrm>
            <a:off x="5791320" y="19051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5"/>
          <p:cNvSpPr/>
          <p:nvPr/>
        </p:nvSpPr>
        <p:spPr>
          <a:xfrm>
            <a:off x="4038480" y="1981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36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0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1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2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3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4"/>
          <p:cNvSpPr/>
          <p:nvPr/>
        </p:nvSpPr>
        <p:spPr>
          <a:xfrm>
            <a:off x="1143000" y="380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35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7:15:31Z</dcterms:created>
  <dc:creator>Default</dc:creator>
  <dc:description/>
  <dc:language>en-US</dc:language>
  <cp:lastModifiedBy>LEGION2</cp:lastModifiedBy>
  <dcterms:modified xsi:type="dcterms:W3CDTF">2016-01-12T07:48:48Z</dcterms:modified>
  <cp:revision>13</cp:revision>
  <dc:subject/>
  <dc:title>PowerPoint Presentation</dc:title>
</cp:coreProperties>
</file>