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0F1E-2F4E-425E-9C49-DFFF9044C0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– Science Fiction or Science F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 carries genes from the male part of plants this fertilizes the ovule (female sex ce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gives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 produces variation not clones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and each ce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can be made naturall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Welsh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ly clone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Dolly the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 will do today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cloning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and Cloning Re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a budding to make a c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ividing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LONES as only have information from 1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der plant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berry plants making asexual c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F5EF-65DC-4CEB-867A-C6F0A049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15DE-A701-48B0-A727-DF684AA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457D-0800-40E2-8A78-11DC36E6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DEE3-A33D-411E-B5B6-C6CA191E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DDAD-AF14-482A-934D-E9FD463A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4495-53A7-4149-B53E-8AAA2357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4AFB-1700-432E-8A31-A886C478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60F5-1F29-486E-9F37-96D5298E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E7A8-5EEA-4A41-8837-96C0CE33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F26E-3525-4739-8C88-26908A51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29F5-808A-4ACB-BF6C-6FFE8DA7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2B9F5-25C2-4163-A063-BC9537C9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F8AA-ED53-4399-A172-450F5AD0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3862-3D1D-4E18-AF39-787A62E1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DDCB-3208-45A4-8F54-BAEA4086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F347-F694-4834-8CC6-7FA4E42E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7A8A-F6D7-4E07-A543-CA82D238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4B0B-7853-462A-99B7-DF08873D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1D5D-9853-4BF6-886C-EB3A9B15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9C152-97D3-4803-A7D8-6DEFE09A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4BB8-F5C0-4C04-B220-9FA280EF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B97FA-0218-4887-9951-35F0304F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4B35-3687-4616-9B75-C2167778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A8F8F-661D-4582-9662-FAAC5062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194C-48E1-4555-B97D-43F9C63605B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54EE-5A9E-4F56-8586-EA35D37A3CB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images.google.co.uk/imgres?imgurl=http://www.gutenberg.org/files/16487/16487-h/images/073fig9.png&amp;imgrefurl=http://www.gutenberg.org/files/16487/16487-h/16487-h.htm&amp;h=152&amp;w=194&amp;sz=18&amp;hl=en&amp;start=55&amp;tbnid=WVITmyov9YyWaM:&amp;tbnh=81&amp;tbnw=103&amp;prev=/images%3Fq%3Dpicture%2Bof%2Begg%2Bcell%26start%3D40%26ndsp%3D20%26svnum%3D10%26hl%3Den%26lr%3D%26sa%3DN" TargetMode="External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600" spc="-1" strike="noStrike">
                <a:solidFill>
                  <a:srgbClr val="ffffff"/>
                </a:solidFill>
                <a:latin typeface="Comic Sans MS"/>
              </a:rPr>
              <a:t>Cloning – Science Fiction or Science Fact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(genes) from 2 parents in the sperm and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perm&amp;egg"/>
          <p:cNvPicPr/>
          <p:nvPr/>
        </p:nvPicPr>
        <p:blipFill>
          <a:blip r:embed="rId1"/>
          <a:stretch/>
        </p:blipFill>
        <p:spPr>
          <a:xfrm>
            <a:off x="755640" y="3429000"/>
            <a:ext cx="2876400" cy="2592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sperm on egg"/>
          <p:cNvPicPr/>
          <p:nvPr/>
        </p:nvPicPr>
        <p:blipFill>
          <a:blip r:embed="rId2"/>
          <a:stretch/>
        </p:blipFill>
        <p:spPr>
          <a:xfrm>
            <a:off x="4500720" y="3213000"/>
            <a:ext cx="3924000" cy="27226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Sexual Reproduction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rries genes from the male part of plants this fertilizes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vu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female sex ce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L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llen"/>
          <p:cNvPicPr/>
          <p:nvPr/>
        </p:nvPicPr>
        <p:blipFill>
          <a:blip r:embed="rId1"/>
          <a:stretch/>
        </p:blipFill>
        <p:spPr>
          <a:xfrm>
            <a:off x="971640" y="4581360"/>
            <a:ext cx="2735280" cy="188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arpel"/>
          <p:cNvPicPr/>
          <p:nvPr/>
        </p:nvPicPr>
        <p:blipFill>
          <a:blip r:embed="rId2"/>
          <a:stretch/>
        </p:blipFill>
        <p:spPr>
          <a:xfrm>
            <a:off x="6588000" y="3357720"/>
            <a:ext cx="1866960" cy="2857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exual reproduction gives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humans"/>
          <p:cNvPicPr/>
          <p:nvPr/>
        </p:nvPicPr>
        <p:blipFill>
          <a:blip r:embed="rId1"/>
          <a:stretch/>
        </p:blipFill>
        <p:spPr>
          <a:xfrm>
            <a:off x="1403280" y="1989000"/>
            <a:ext cx="6048360" cy="381636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xual reproduction produces variation not clones.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_377081_cloned_kids300"/>
          <p:cNvPicPr/>
          <p:nvPr/>
        </p:nvPicPr>
        <p:blipFill>
          <a:blip r:embed="rId1"/>
          <a:stretch/>
        </p:blipFill>
        <p:spPr>
          <a:xfrm>
            <a:off x="1332000" y="3500280"/>
            <a:ext cx="5976720" cy="3025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Identical Tw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rm fertilizes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rtilized egg starts to div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 a embryo, but the cell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el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omes a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zygote"/>
          <p:cNvPicPr/>
          <p:nvPr/>
        </p:nvPicPr>
        <p:blipFill>
          <a:blip r:embed="rId1"/>
          <a:stretch/>
        </p:blipFill>
        <p:spPr>
          <a:xfrm>
            <a:off x="755640" y="4005360"/>
            <a:ext cx="2521080" cy="1852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sperm&amp;egg"/>
          <p:cNvPicPr/>
          <p:nvPr/>
        </p:nvPicPr>
        <p:blipFill>
          <a:blip r:embed="rId2"/>
          <a:stretch/>
        </p:blipFill>
        <p:spPr>
          <a:xfrm>
            <a:off x="826920" y="1916280"/>
            <a:ext cx="2448000" cy="1685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lones can be made naturall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785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cal twins are clones of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image: sperm cell, root hair cell, blood cells, leaf cell, pollen cell"/>
          <p:cNvPicPr/>
          <p:nvPr/>
        </p:nvPicPr>
        <p:blipFill>
          <a:blip r:embed="rId1"/>
          <a:srcRect l="44813" t="43862" r="0" b="39869"/>
          <a:stretch/>
        </p:blipFill>
        <p:spPr>
          <a:xfrm>
            <a:off x="971640" y="3068640"/>
            <a:ext cx="1800000" cy="620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073fig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716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073fig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03280" y="4724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073fig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2708280"/>
            <a:ext cx="98100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073fig9"/>
          <p:cNvPicPr/>
          <p:nvPr/>
        </p:nvPicPr>
        <p:blipFill>
          <a:blip r:embed="rId8"/>
          <a:stretch/>
        </p:blipFill>
        <p:spPr>
          <a:xfrm>
            <a:off x="6804000" y="4724280"/>
            <a:ext cx="981000" cy="771480"/>
          </a:xfrm>
          <a:prstGeom prst="rect">
            <a:avLst/>
          </a:prstGeom>
          <a:ln w="0">
            <a:noFill/>
          </a:ln>
        </p:spPr>
      </p:pic>
      <p:sp>
        <p:nvSpPr>
          <p:cNvPr id="176" name="Line 21"/>
          <p:cNvSpPr/>
          <p:nvPr/>
        </p:nvSpPr>
        <p:spPr>
          <a:xfrm>
            <a:off x="2916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 flipV="1">
            <a:off x="2627280" y="342900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3"/>
          <p:cNvSpPr/>
          <p:nvPr/>
        </p:nvSpPr>
        <p:spPr>
          <a:xfrm flipH="1">
            <a:off x="2410920" y="414972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5003640" y="4149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796000" y="3357720"/>
            <a:ext cx="79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5796000" y="414972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2827080" y="37828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8"/>
          <p:cNvSpPr/>
          <p:nvPr/>
        </p:nvSpPr>
        <p:spPr>
          <a:xfrm>
            <a:off x="3404160" y="460044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rtilised 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6066360" y="3952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1242360" y="26557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1314000" y="568152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gg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3"/>
          <p:cNvSpPr/>
          <p:nvPr/>
        </p:nvSpPr>
        <p:spPr>
          <a:xfrm>
            <a:off x="7938000" y="2924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7958520" y="493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Twin Welsh La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nes of each other but not of thei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twin welsh lambs"/>
          <p:cNvPicPr/>
          <p:nvPr/>
        </p:nvPicPr>
        <p:blipFill>
          <a:blip r:embed="rId1"/>
          <a:stretch/>
        </p:blipFill>
        <p:spPr>
          <a:xfrm>
            <a:off x="2843280" y="3213000"/>
            <a:ext cx="3529080" cy="27370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Recently cloned 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cloned dog"/>
          <p:cNvPicPr/>
          <p:nvPr/>
        </p:nvPicPr>
        <p:blipFill>
          <a:blip r:embed="rId1"/>
          <a:stretch/>
        </p:blipFill>
        <p:spPr>
          <a:xfrm>
            <a:off x="1187280" y="2637000"/>
            <a:ext cx="1944720" cy="202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_41375397_cloned_piglets_ap300"/>
          <p:cNvPicPr/>
          <p:nvPr/>
        </p:nvPicPr>
        <p:blipFill>
          <a:blip r:embed="rId2"/>
          <a:stretch/>
        </p:blipFill>
        <p:spPr>
          <a:xfrm>
            <a:off x="5724360" y="2637000"/>
            <a:ext cx="2857680" cy="20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ned kitten"/>
          <p:cNvPicPr/>
          <p:nvPr/>
        </p:nvPicPr>
        <p:blipFill>
          <a:blip r:embed="rId3"/>
          <a:stretch/>
        </p:blipFill>
        <p:spPr>
          <a:xfrm>
            <a:off x="3851280" y="3890880"/>
            <a:ext cx="1297080" cy="1554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Idaho Gem"/>
          <p:cNvPicPr/>
          <p:nvPr/>
        </p:nvPicPr>
        <p:blipFill>
          <a:blip r:embed="rId4"/>
          <a:stretch/>
        </p:blipFill>
        <p:spPr>
          <a:xfrm>
            <a:off x="3780000" y="1989000"/>
            <a:ext cx="1218960" cy="141948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ello Dolly"/>
          <p:cNvPicPr/>
          <p:nvPr/>
        </p:nvPicPr>
        <p:blipFill>
          <a:blip r:embed="rId1"/>
          <a:stretch/>
        </p:blipFill>
        <p:spPr>
          <a:xfrm>
            <a:off x="611280" y="1916280"/>
            <a:ext cx="3673440" cy="3892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4643280" y="1995840"/>
            <a:ext cx="363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lo Dol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lly was the first mammal cloned from an adul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born in 1996 and died in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 was 6 when she died, about half the usual age for a 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Making Dolly the sh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GeneticEng-Cloning"/>
          <p:cNvPicPr/>
          <p:nvPr/>
        </p:nvPicPr>
        <p:blipFill>
          <a:blip r:embed="rId1"/>
          <a:stretch/>
        </p:blipFill>
        <p:spPr>
          <a:xfrm>
            <a:off x="900000" y="1989000"/>
            <a:ext cx="7137360" cy="45212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What we will do today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knowledge on asexual reproduction and sexual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 how can animals be clo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problems with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Problems with cloning 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lly developed premature arthritis and showed signs of aging too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died 6 years old which is half the natural age of a sh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now owned by the National Museum in Scot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Reproduction and Cloning Rec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Are Sonny and Cher clones? Explain you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If I wanted to clone Sonny how would I do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 What problems may I encounter if I try to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one Son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2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7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of cl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we clone mam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we clone humans? What would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clon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clones"/>
          <p:cNvPicPr/>
          <p:nvPr/>
        </p:nvPicPr>
        <p:blipFill>
          <a:blip r:embed="rId1"/>
          <a:stretch/>
        </p:blipFill>
        <p:spPr>
          <a:xfrm>
            <a:off x="2916360" y="1844640"/>
            <a:ext cx="5903640" cy="4205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Hydra budding to make a c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ydra2"/>
          <p:cNvPicPr/>
          <p:nvPr/>
        </p:nvPicPr>
        <p:blipFill>
          <a:blip r:embed="rId1"/>
          <a:stretch/>
        </p:blipFill>
        <p:spPr>
          <a:xfrm>
            <a:off x="539640" y="2060640"/>
            <a:ext cx="7417080" cy="37447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sexual Re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image: hydra putting out a 'bud' which grows mouth tentacles and finally separates to form an offspring"/>
          <p:cNvPicPr/>
          <p:nvPr/>
        </p:nvPicPr>
        <p:blipFill>
          <a:blip r:embed="rId1"/>
          <a:stretch/>
        </p:blipFill>
        <p:spPr>
          <a:xfrm>
            <a:off x="1258920" y="2500200"/>
            <a:ext cx="4306680" cy="293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6208560" y="2944800"/>
            <a:ext cx="232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ny 'buds' grow out from the hydra's side, develop mouth tentacles, and finally nip off at the base to form a separate individ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oeb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amoeba asexual"/>
          <p:cNvPicPr/>
          <p:nvPr/>
        </p:nvPicPr>
        <p:blipFill>
          <a:blip r:embed="rId1"/>
          <a:stretch/>
        </p:blipFill>
        <p:spPr>
          <a:xfrm>
            <a:off x="1504800" y="1989000"/>
            <a:ext cx="6134400" cy="38163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99"/>
                </a:solidFill>
                <a:latin typeface="Arial"/>
              </a:rPr>
              <a:t>Bacteria dividing asex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GB" sz="3200" spc="-1" strike="noStrike">
                <a:solidFill>
                  <a:srgbClr val="990033"/>
                </a:solidFill>
                <a:latin typeface="Arial"/>
              </a:rPr>
              <a:t>CLON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only have information from 1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bacteria dividing"/>
          <p:cNvPicPr/>
          <p:nvPr/>
        </p:nvPicPr>
        <p:blipFill>
          <a:blip r:embed="rId1"/>
          <a:stretch/>
        </p:blipFill>
        <p:spPr>
          <a:xfrm>
            <a:off x="2124000" y="3429000"/>
            <a:ext cx="5184720" cy="31291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pider plant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retain 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specializ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cells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a whole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chlorophytum"/>
          <p:cNvPicPr/>
          <p:nvPr/>
        </p:nvPicPr>
        <p:blipFill>
          <a:blip r:embed="rId1"/>
          <a:stretch/>
        </p:blipFill>
        <p:spPr>
          <a:xfrm>
            <a:off x="4859280" y="1916280"/>
            <a:ext cx="3409920" cy="460836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"/>
              </a:rPr>
              <a:t>Strawberry plants making asexual cl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le n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 th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 the ru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i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strawberry"/>
          <p:cNvPicPr/>
          <p:nvPr/>
        </p:nvPicPr>
        <p:blipFill>
          <a:blip r:embed="rId1"/>
          <a:stretch/>
        </p:blipFill>
        <p:spPr>
          <a:xfrm>
            <a:off x="3780000" y="1844640"/>
            <a:ext cx="453708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4:15:23Z</dcterms:created>
  <dc:creator>Rachel</dc:creator>
  <dc:description/>
  <dc:language>en-US</dc:language>
  <cp:lastModifiedBy>LEGION2</cp:lastModifiedBy>
  <dcterms:modified xsi:type="dcterms:W3CDTF">2016-01-12T09:54:31Z</dcterms:modified>
  <cp:revision>23</cp:revision>
  <dc:subject/>
  <dc:title>cloning- science fiction or science fact</dc:title>
</cp:coreProperties>
</file>