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95FF-32B3-4E5E-A5A1-C6AC05951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  What is cloning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:  Review our te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 What is clo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Review our 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clone?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ne refers to genetically identical cells originating from one cel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talking about when they refer to “cloned animals”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take DNA from a cloned cell of another animal, and insert it into a zygote that had its DNA removed, and replace it with the cloned DN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clone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refers to genetically identical cells originating from on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 talking about when they refer to “cloned animals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ake DNA from a cloned cell of another animal, and insert it into a zygote that had its DNA removed, and replace it with the cloned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loning look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 on a cellula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vel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loning loo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on a cell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did they clo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997, they successfully cloned the first animal- a lamb named Doll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they used was from an adult of the same species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then, they have successfully cloned sheep and pig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did they cl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97, they successfully cloned the first animal- a lamb named Do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they used was from an adult of the same speci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n, they have successfully cloned sheep and pi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o they want to clone animal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do this to study genetic disorders and disease susceptibil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done strictly for medical resear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want to clone ani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this to study genetic disorders and disease suscepti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done strictly for medical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blue Biology book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n to page 331 and read up to 333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 questions 1-4 on page 333.  You need to read the previous pages in order to answer the ques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sure your name is on the paper – it will be coll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blue Biology boo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age 331 and read up to 33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uestions 1-4 on page 333.  You need to read the previous pages in order to answer th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r name is on the paper – it will be col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6545-C742-4A6F-963C-0265A54C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F3CB-2833-40AE-8815-55D92AFC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2580-1E4A-4208-9D78-F511FA70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6D42-40F1-4DDD-80CB-9656818F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F831A-3843-42A8-AD02-AF934ED8A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97C6D-4504-4141-8A96-5B1156541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6672C-CE2E-4144-827F-564F9FAB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2579F-9647-4F9F-BC68-326F48A3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F58A8-4697-4F4E-878E-2D1F1002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DAB6A-25D5-4F9E-9785-B069CEE4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71C31-E0E4-41CE-9280-94050FFD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E850-038D-4CA2-8B2E-EAF7CACC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D16290-D810-4C5E-8555-1FB89D6A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98D7B-61EB-4A70-A27F-3164C8C9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10A68-EE98-418B-8F90-737B5AC05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2914E-6ED0-45DD-8044-9FC1A0C94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FF29C-8DF1-4D62-A994-3257DCA7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CBA6-9F6D-4E17-A16C-6EFE0AEE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10A-F46B-4B7C-B7F5-8BC521827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91A0-54BD-4FC0-A430-C62A0196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1276-6624-4EB2-944C-D78323DE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3289-E3D5-48F4-B1E2-85EBB29E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FC06-D1A5-4BC3-8A6C-4CFCF407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337C-ABB8-4EB2-8D26-7E9E24D0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6F28-D6FC-45FD-95E5-06B5D42A4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9BBE-AED4-4051-957F-F0494808DB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im:  What is clon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w:  Review our t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a clone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ne refers to genetically identical cells originating from one c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y talking about when they refer to “cloned animals”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take DNA from a cloned cell of another animal, and insert it into a zygote that had its DNA removed, and replace it with the cloned D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cells3"/>
          <p:cNvPicPr/>
          <p:nvPr/>
        </p:nvPicPr>
        <p:blipFill>
          <a:blip r:embed="rId1"/>
          <a:stretch/>
        </p:blipFill>
        <p:spPr>
          <a:xfrm>
            <a:off x="4389480" y="304920"/>
            <a:ext cx="4754520" cy="6553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cloning look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ike on a cellula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vel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o did they clon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97, they successfully cloned the first animal- a lamb named Dol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they used was from an adult of the same specie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then, they have successfully cloned sheep and pi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dolly"/>
          <p:cNvPicPr/>
          <p:nvPr/>
        </p:nvPicPr>
        <p:blipFill>
          <a:blip r:embed="rId1"/>
          <a:stretch/>
        </p:blipFill>
        <p:spPr>
          <a:xfrm>
            <a:off x="1066680" y="204840"/>
            <a:ext cx="6477120" cy="59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" descr="cloning-sheep"/>
          <p:cNvPicPr/>
          <p:nvPr/>
        </p:nvPicPr>
        <p:blipFill>
          <a:blip r:embed="rId1"/>
          <a:stretch/>
        </p:blipFill>
        <p:spPr>
          <a:xfrm>
            <a:off x="2482920" y="0"/>
            <a:ext cx="4498920" cy="7010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do they want to clone animal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do this to study genetic disorders and disease suscepti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done strictly for medical resear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the blue Biology book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n to page 331 and read up to 33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 questions 1-4 on page 333.  You need to read the previous pages in order to answer the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your name is on the paper – it will be collec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3:53:53Z</dcterms:created>
  <dc:creator>Liza Evanson</dc:creator>
  <dc:description/>
  <dc:language>en-US</dc:language>
  <cp:lastModifiedBy>LEGION2</cp:lastModifiedBy>
  <dcterms:modified xsi:type="dcterms:W3CDTF">2016-01-12T10:16:54Z</dcterms:modified>
  <cp:revision>19</cp:revision>
  <dc:subject/>
  <dc:title>Aim:  What is cloning?</dc:title>
</cp:coreProperties>
</file>