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7E81-BB0C-460C-958C-7B1FE402CD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ACA-F5A3-4360-8B39-5B4B407C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26F-31AD-492B-8A02-A01F84B8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4FF-3BC0-4201-B98E-30E3982E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566-0A97-475D-8793-779E1499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9083-59AE-4FD9-A4F4-9BF321F9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0DE3-E794-46A0-AF9C-1711AF9A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1920-6299-45C4-AF4B-B8BC4A80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CFD1-46AD-4451-8D66-C157F320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69C3-88D6-4FC7-8E07-831ADBD4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22E5-91E0-444F-A3AC-C34ACC26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3545-800B-451A-BB24-2792EA0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72B-DB73-407C-8F6B-35ED2DDA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7961-1B6C-4C09-93D1-1F8850F3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7FCD-6C1C-4EE9-A0DC-E6AF65BD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AA6D-DE19-4CD9-A4A4-AEC037C3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D942-2FD7-4D30-8CD6-054238CF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2DE9-4723-4403-B6D0-AE2B91B9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8AF-4A04-4432-8DDC-4A691682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C6E-CA5E-4A01-BF20-2C40FCE6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B03-E1A6-4D60-A494-A347E5AF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8B3-BAF0-480A-940D-53C2DE95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2E3-D9AB-4A58-9263-2DCEC3E6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65E-AC1B-4E2D-B09D-28C820A6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EEC-B0D5-4DA5-8371-40B87EB3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ACC8-C1DE-44EA-B28D-CC8303EE005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7E1F-66AA-485F-BC03-2279D4D9F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cc"/>
                </a:solidFill>
                <a:latin typeface="Verdana"/>
              </a:rPr>
              <a:t>Dihybrid Inheritanc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Verdana"/>
              </a:rPr>
              <a:t>Dihybrid inheritance refers to the simultaneous inheritance of two charac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Mendel’s experime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del investigated the inheritance of seed shape (round v wrinkled) and seed colour (green v yellow) at the same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m his monohybrid crosses he knew that round seeds were dominant to wrinkled seeds and yellow seeds were dominant to green see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Verdana"/>
              </a:rPr>
              <a:t>Results</a:t>
            </a: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plants with round x plants with wrinkled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and yellow seeds      and green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100% plants with round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66680" y="2438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ants with round x plants with 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yellow seeds   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06668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2 offspr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tal 556 seeds collected from F2 pla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15 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8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green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2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green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However, the ratio of dominant to recessive features is still 3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Explanation of Mendel’s result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round seeds be R and the allele for wrinkled seeds be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yellow seeds be Y and the allele for green seeds b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  Ph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und      x    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yellow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     green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rr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434340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541008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9343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78487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1"/>
          <p:cNvGraphicFramePr/>
          <p:nvPr/>
        </p:nvGraphicFramePr>
        <p:xfrm>
          <a:off x="4114800" y="5443560"/>
          <a:ext cx="3201840" cy="11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443560"/>
                    <a:ext cx="32018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h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, yellow seeds  x   round, yellow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       Rr 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526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3962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572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5105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80773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75438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6858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63244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19320" y="44197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Verdana"/>
              </a:rPr>
              <a:t>What are the genotypes and phenotypes of the F2 offspring and in what rat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6"/>
          <p:cNvGraphicFramePr/>
          <p:nvPr/>
        </p:nvGraphicFramePr>
        <p:xfrm>
          <a:off x="1789200" y="905040"/>
          <a:ext cx="564336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905040"/>
                    <a:ext cx="5643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7"/>
          <p:cNvSpPr/>
          <p:nvPr/>
        </p:nvSpPr>
        <p:spPr>
          <a:xfrm>
            <a:off x="11430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F2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14400" y="3429000"/>
            <a:ext cx="80773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s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phenotypes   expected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4)   yellow,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2)  RrYY (2)  yellow, roun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Rryy (2)   roun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 rrYy (2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yellow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430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ing for statistical error, Mendel’s results were a reasonable approximation to the expected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9:3:3: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of a member of an allelic pair may combine randomly with either of another 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est cross can be performed to check the possible genotypes of a plant producing round, yellow seeds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(RRYY, RrYY, RrYy, RRYy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y crossing the plants with a homozygous recessive plant with wrinkled green seeds genotype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rry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What phenotypes and genotypes would the offspring possess from the 4 crosses, and in what rat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3:59Z</dcterms:created>
  <dc:creator>Angela Wall</dc:creator>
  <dc:description/>
  <dc:language>en-US</dc:language>
  <cp:lastModifiedBy>LEGION2</cp:lastModifiedBy>
  <cp:lastPrinted>2002-12-02T21:19:45Z</cp:lastPrinted>
  <dcterms:modified xsi:type="dcterms:W3CDTF">2016-01-12T10:19:10Z</dcterms:modified>
  <cp:revision>24</cp:revision>
  <dc:subject/>
  <dc:title>Dihybrid Inheritance</dc:title>
</cp:coreProperties>
</file>