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DE39-73A9-4D89-B61C-9236236B02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-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rubid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caesium was added to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w fast will it rea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ill it be endothermic or exothermi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gas will be for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What would be the word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ame of the group 1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3 of these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of these elements has the symbol and atomic number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number of protons, neutrons and electrons in this at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hium, sodium, potassium, rubidium, caesium, fran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d in group 1 as the atom has one electron in its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 – The alkali 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 and 2 are always found in nature combined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’re called active metals because of their readiness to form new substances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l metals except hydrogen, the first element in Group 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hydrogen is placed in Group 1, it shares properties with the elements in Group 1 and Group 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 1 elements have a specific family name—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increase in their reactivity, or tendency to combine with other substances, as you move from top to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 and 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e the position in the Periodic Table of the alkali me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whether these reactions are endothermic or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 – The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These metals all have ___ electron in their outer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all react with water to form an alkali (hence their name) and __________, e.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down, one, shell, hydrogen,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48E-11BE-4E2F-ACCC-DB5D5CDC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ADE8-AB81-409D-888C-B366466A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7A7-A078-4D26-BA9F-4FB6CFCC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47B-14C5-4D39-8B3E-03E9D1A7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1D1-4C48-44AB-B33C-7A4FD8F3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00D-3B96-4999-9367-49AE6A5D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28E-AB09-42DB-92F7-0F544415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D11-E859-4B31-A697-04D12D51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C05-5DB0-4E3F-8657-FE1CFB55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2E3-EFDA-41DE-A6E7-C8B39128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1E3-8285-46D9-B1C9-FCBFA2F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66A-EB29-4613-8AFD-02826E55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A682-B83F-4F1A-BE81-E347F94F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s 1 - the Alkali Me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rubid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lenary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ould happen if caesium was added to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. how fast will it re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. Will it be endothermic or exother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. What gas will be 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. What would be the word eq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t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219320" y="31240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name of the group 1 el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 3 of these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e of these elements has the symbol and atomic number and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are the number of protons, neutrons and electrons in this at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is the electron arrangement in this atom and how do we know what group we should place 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thium, sodium, potassium, rubidium, caesium, fran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t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utrons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ectrons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,8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laced in group 1 as the atom has one electron in its outer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762120" y="3352680"/>
            <a:ext cx="457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  – The alkali met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849400" y="2386080"/>
          <a:ext cx="5962680" cy="2773440"/>
        </p:xfrm>
        <a:graphic>
          <a:graphicData uri="http://schemas.openxmlformats.org/drawingml/2006/table">
            <a:tbl>
              <a:tblPr/>
              <a:tblGrid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1920"/>
                <a:gridCol w="330120"/>
                <a:gridCol w="331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47640" y="1301760"/>
          <a:ext cx="1047960" cy="5168880"/>
        </p:xfrm>
        <a:graphic>
          <a:graphicData uri="http://schemas.openxmlformats.org/drawingml/2006/table">
            <a:tbl>
              <a:tblPr/>
              <a:tblGrid>
                <a:gridCol w="1047960"/>
              </a:tblGrid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86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sp>
        <p:nvSpPr>
          <p:cNvPr id="61" name="Line 223"/>
          <p:cNvSpPr/>
          <p:nvPr/>
        </p:nvSpPr>
        <p:spPr>
          <a:xfrm flipH="1" flipV="1">
            <a:off x="1695240" y="1301400"/>
            <a:ext cx="1153800" cy="1420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4"/>
          <p:cNvSpPr/>
          <p:nvPr/>
        </p:nvSpPr>
        <p:spPr>
          <a:xfrm flipH="1">
            <a:off x="1695240" y="4748040"/>
            <a:ext cx="1153800" cy="1722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569240" y="685800"/>
            <a:ext cx="3192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oups 1 and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12319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ps 1 and 2 are always found in nature combined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216216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’re called active metals because of their readiness to form new substances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5305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ll metals except hydrogen, the first element in Group 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33520" y="4454640"/>
            <a:ext cx="8001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hydrogen is placed in Group 1, it shares properties with the elements in Group 1 and Group 1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533520" y="2174760"/>
            <a:ext cx="8229600" cy="1499040"/>
            <a:chOff x="533520" y="2174760"/>
            <a:chExt cx="8229600" cy="1499040"/>
          </a:xfrm>
        </p:grpSpPr>
        <p:sp>
          <p:nvSpPr>
            <p:cNvPr id="70" name="Text Box 3"/>
            <p:cNvSpPr/>
            <p:nvPr/>
          </p:nvSpPr>
          <p:spPr>
            <a:xfrm>
              <a:off x="900000" y="2604960"/>
              <a:ext cx="3810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low densities and low melting p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533520" y="2174760"/>
              <a:ext cx="82296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ffffff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ll the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alkali metals</a:t>
              </a: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 are silvery solids wit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71040" y="685800"/>
            <a:ext cx="2808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kali Me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21932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 1 elements have a specific family name—alkali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3520" y="3602160"/>
            <a:ext cx="5410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increase in their reactivity, or tendency to combine with other substances, as you move from top to bott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im20"/>
          <p:cNvPicPr/>
          <p:nvPr/>
        </p:nvPicPr>
        <p:blipFill>
          <a:blip r:embed="rId1"/>
          <a:stretch/>
        </p:blipFill>
        <p:spPr>
          <a:xfrm>
            <a:off x="5562720" y="2679840"/>
            <a:ext cx="2800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alt and WI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fferent elements have different properties related to their position in the Periodi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cate the position in the Periodic Table of the alkali me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 how the alkali metals react with water and how this reaction changes as we travel dow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call whether these reactions are endothermic or exother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925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bbe0e3"/>
                </a:solidFill>
                <a:latin typeface="Arial"/>
              </a:rPr>
              <a:t>Group 1 – The alkali met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207"/>
          <p:cNvSpPr/>
          <p:nvPr/>
        </p:nvSpPr>
        <p:spPr>
          <a:xfrm>
            <a:off x="0" y="1390680"/>
            <a:ext cx="438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These metals all have ___ electron in their outer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9"/>
          <p:cNvSpPr/>
          <p:nvPr/>
        </p:nvSpPr>
        <p:spPr>
          <a:xfrm>
            <a:off x="0" y="261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 Reactivity increases as you go _______ the group.  This is because the electrons are further away from the _______ every time a _____ is added, so they are given up more eas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0"/>
          <p:cNvSpPr/>
          <p:nvPr/>
        </p:nvSpPr>
        <p:spPr>
          <a:xfrm>
            <a:off x="0" y="398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all react with water to form an alkali (hence their name) and __________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1"/>
          <p:cNvSpPr/>
          <p:nvPr/>
        </p:nvSpPr>
        <p:spPr>
          <a:xfrm>
            <a:off x="704880" y="6153120"/>
            <a:ext cx="78105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down, one, shell, hydrogen,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12"/>
          <p:cNvGrpSpPr/>
          <p:nvPr/>
        </p:nvGrpSpPr>
        <p:grpSpPr>
          <a:xfrm>
            <a:off x="0" y="4933800"/>
            <a:ext cx="9144000" cy="1066320"/>
            <a:chOff x="0" y="4933800"/>
            <a:chExt cx="9144000" cy="1066320"/>
          </a:xfrm>
        </p:grpSpPr>
        <p:sp>
          <p:nvSpPr>
            <p:cNvPr id="86" name="Text Box 213"/>
            <p:cNvSpPr/>
            <p:nvPr/>
          </p:nvSpPr>
          <p:spPr>
            <a:xfrm>
              <a:off x="0" y="4933800"/>
              <a:ext cx="9144000" cy="10663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water              potassium hydroxide + hyd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2K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s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+      2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l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    2KOH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aq)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           +         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 baseline="-25000">
                  <a:solidFill>
                    <a:srgbClr val="009999"/>
                  </a:solidFill>
                  <a:latin typeface="Comic Sans MS"/>
                </a:rPr>
                <a:t>(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4"/>
            <p:cNvSpPr/>
            <p:nvPr/>
          </p:nvSpPr>
          <p:spPr>
            <a:xfrm>
              <a:off x="3048120" y="516240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15"/>
            <p:cNvSpPr/>
            <p:nvPr/>
          </p:nvSpPr>
          <p:spPr>
            <a:xfrm>
              <a:off x="3429000" y="5695920"/>
              <a:ext cx="110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8:17Z</dcterms:created>
  <dc:creator>CIC1</dc:creator>
  <dc:description/>
  <dc:language>en-US</dc:language>
  <cp:lastModifiedBy>RomaK</cp:lastModifiedBy>
  <dcterms:modified xsi:type="dcterms:W3CDTF">2015-09-01T16:25:46Z</dcterms:modified>
  <cp:revision>14</cp:revision>
  <dc:subject/>
  <dc:title>Group 1, the Alkali Metals</dc:title>
</cp:coreProperties>
</file>