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0130B-976C-4648-9830-AE7F0AF76BA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imal bree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riculture – farm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e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ee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ult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imal bree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riculture – farm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e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ee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ult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br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riculture – fa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ul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eep  -  suffolk  r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eep  -  suffolk  r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ep  -  suffolk  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incol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incol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col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rino  wool shee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rino  wool shee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ino  wool sh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pecifications - suffol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pecifications - suffol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ations - suffo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ickens – longhorn r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ickens – longhorn r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kens – longhorn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akenval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akenval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kenval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te shank white le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te shank white le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shank white l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eef  Cattle -       Charola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eef  Cattle -       Charola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f  Cattle -       Charol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erefor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erefor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f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imous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imous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ou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Pig   -    Landrace   s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Pig   -    Landrace   s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ig   -    Landrace   s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addleback - s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addleback - s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ddleback - s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Yorkshire -  s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Yorkshire -  s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rkshire -  s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urro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urro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r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pecific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pecific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81E2-D87E-4788-B7B4-6E024A5E9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3BC1-0D7D-484D-87E5-F86C39EC6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3B51-0393-4A0E-B27F-6D03028FE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D3C5-0F3E-4E80-970B-9CF98EE00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F58A2-5BE3-4FCD-B70D-D4F6502E5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11B27-27FD-4E78-9D5E-122F01A6F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2E487-7C7F-4178-94C0-C04C3FF7C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3BEB5-2665-4774-B8C5-0EA617F1A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AE857-E503-4A17-8171-65D1D55B5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6B2D6-42D0-44DE-A6F6-469371323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ACC92-539F-493F-B435-953CE9BE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53D3-290B-438A-A728-60C9D2B2E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8AD70-E4F1-4101-804A-1B9C4B9C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4B87E-D5F9-47F3-B38C-F3AFD419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BBB08-E792-4EB8-9DF4-B8458E3DF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664FC-F41E-4A11-AC5C-4FBC43CCD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FF653-E16F-4314-9A18-45DFC9D0F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809D-42CE-4965-9E3D-311645D99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ECB8-52ED-4C5D-B51C-E928E103A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3087-1658-4CF7-8982-E969BFCAA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2F26-085D-4067-816A-884BD7F5B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31E2-E67A-4EDC-B842-C426251E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1BB2-4C48-4BD0-8F96-4896A814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8D6E-06A7-4017-9E33-56886FF0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C0976-918F-4D3A-9FC2-D8DBB9ADF8C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E399C-A3CE-4938-8F36-DEEA28C4D975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ff"/>
                </a:solidFill>
                <a:latin typeface="Arial"/>
              </a:rPr>
              <a:t>Animal breed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32000" y="2421000"/>
            <a:ext cx="64008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Agriculture – farm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e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i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hee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ul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heep  -  suffolk  r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Picture 5" descr="suffolk_4"/>
          <p:cNvPicPr/>
          <p:nvPr/>
        </p:nvPicPr>
        <p:blipFill>
          <a:blip r:embed="rId1"/>
          <a:stretch/>
        </p:blipFill>
        <p:spPr>
          <a:xfrm>
            <a:off x="1476360" y="1628640"/>
            <a:ext cx="5616720" cy="4351320"/>
          </a:xfrm>
          <a:prstGeom prst="rect">
            <a:avLst/>
          </a:prstGeom>
          <a:ln w="0">
            <a:noFill/>
          </a:ln>
        </p:spPr>
      </p:pic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lincol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6" descr="lincoln"/>
          <p:cNvPicPr/>
          <p:nvPr/>
        </p:nvPicPr>
        <p:blipFill>
          <a:blip r:embed="rId1"/>
          <a:stretch/>
        </p:blipFill>
        <p:spPr>
          <a:xfrm>
            <a:off x="1979640" y="1413000"/>
            <a:ext cx="5400720" cy="490032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Merino  wool shee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Picture 6" descr="merino"/>
          <p:cNvPicPr/>
          <p:nvPr/>
        </p:nvPicPr>
        <p:blipFill>
          <a:blip r:embed="rId1"/>
          <a:stretch/>
        </p:blipFill>
        <p:spPr>
          <a:xfrm>
            <a:off x="2124000" y="1989000"/>
            <a:ext cx="4969080" cy="4248360"/>
          </a:xfrm>
          <a:prstGeom prst="rect">
            <a:avLst/>
          </a:prstGeom>
          <a:ln w="0">
            <a:noFill/>
          </a:ln>
        </p:spPr>
      </p:pic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pecifications - suffol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6" descr="south_suffolk4"/>
          <p:cNvPicPr/>
          <p:nvPr/>
        </p:nvPicPr>
        <p:blipFill>
          <a:blip r:embed="rId1"/>
          <a:stretch/>
        </p:blipFill>
        <p:spPr>
          <a:xfrm>
            <a:off x="1908000" y="1773360"/>
            <a:ext cx="4967640" cy="474984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hickens – longhorn r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Picture 6" descr="Leghorn_Red"/>
          <p:cNvPicPr/>
          <p:nvPr/>
        </p:nvPicPr>
        <p:blipFill>
          <a:blip r:embed="rId1"/>
          <a:stretch/>
        </p:blipFill>
        <p:spPr>
          <a:xfrm>
            <a:off x="1692360" y="1595520"/>
            <a:ext cx="5832360" cy="4597200"/>
          </a:xfrm>
          <a:prstGeom prst="rect">
            <a:avLst/>
          </a:prstGeom>
          <a:ln w="0">
            <a:noFill/>
          </a:ln>
        </p:spPr>
      </p:pic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lakenvald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6" descr="Lakenvelder"/>
          <p:cNvPicPr/>
          <p:nvPr/>
        </p:nvPicPr>
        <p:blipFill>
          <a:blip r:embed="rId1"/>
          <a:stretch/>
        </p:blipFill>
        <p:spPr>
          <a:xfrm>
            <a:off x="1619280" y="1916280"/>
            <a:ext cx="5616720" cy="4360680"/>
          </a:xfrm>
          <a:prstGeom prst="rect">
            <a:avLst/>
          </a:prstGeom>
          <a:ln w="0">
            <a:noFill/>
          </a:ln>
        </p:spPr>
      </p:pic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hite shank white le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6" descr="LangshanWhtLg"/>
          <p:cNvPicPr/>
          <p:nvPr/>
        </p:nvPicPr>
        <p:blipFill>
          <a:blip r:embed="rId1"/>
          <a:stretch/>
        </p:blipFill>
        <p:spPr>
          <a:xfrm>
            <a:off x="1835280" y="1665360"/>
            <a:ext cx="5689440" cy="4573440"/>
          </a:xfrm>
          <a:prstGeom prst="rect">
            <a:avLst/>
          </a:prstGeom>
          <a:ln w="0">
            <a:noFill/>
          </a:ln>
        </p:spPr>
      </p:pic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Beef  Cattle -       Charola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6" descr="cow charolais-web-1"/>
          <p:cNvPicPr/>
          <p:nvPr/>
        </p:nvPicPr>
        <p:blipFill>
          <a:blip r:embed="rId1"/>
          <a:stretch/>
        </p:blipFill>
        <p:spPr>
          <a:xfrm>
            <a:off x="1403280" y="1916280"/>
            <a:ext cx="6769080" cy="419724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erefor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6" descr="cow hereford1"/>
          <p:cNvPicPr/>
          <p:nvPr/>
        </p:nvPicPr>
        <p:blipFill>
          <a:blip r:embed="rId1"/>
          <a:stretch/>
        </p:blipFill>
        <p:spPr>
          <a:xfrm>
            <a:off x="1187280" y="1628640"/>
            <a:ext cx="6985080" cy="428328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Limous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6" descr="cow limousin1"/>
          <p:cNvPicPr/>
          <p:nvPr/>
        </p:nvPicPr>
        <p:blipFill>
          <a:blip r:embed="rId1"/>
          <a:stretch/>
        </p:blipFill>
        <p:spPr>
          <a:xfrm>
            <a:off x="1042920" y="1557360"/>
            <a:ext cx="6696000" cy="434664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Pig   -    Landrace   so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6" descr="pig landrace"/>
          <p:cNvPicPr/>
          <p:nvPr/>
        </p:nvPicPr>
        <p:blipFill>
          <a:blip r:embed="rId1"/>
          <a:stretch/>
        </p:blipFill>
        <p:spPr>
          <a:xfrm>
            <a:off x="1476360" y="1773360"/>
            <a:ext cx="6264360" cy="430668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addleback - so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6" descr="pig saddleback"/>
          <p:cNvPicPr/>
          <p:nvPr/>
        </p:nvPicPr>
        <p:blipFill>
          <a:blip r:embed="rId1"/>
          <a:stretch/>
        </p:blipFill>
        <p:spPr>
          <a:xfrm>
            <a:off x="1187280" y="1779480"/>
            <a:ext cx="6769440" cy="417060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Yorkshire -  so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6" descr="pig yorkshire"/>
          <p:cNvPicPr/>
          <p:nvPr/>
        </p:nvPicPr>
        <p:blipFill>
          <a:blip r:embed="rId1"/>
          <a:stretch/>
        </p:blipFill>
        <p:spPr>
          <a:xfrm>
            <a:off x="1692360" y="1754280"/>
            <a:ext cx="6048360" cy="443232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Durro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6" descr="pig durroc"/>
          <p:cNvPicPr/>
          <p:nvPr/>
        </p:nvPicPr>
        <p:blipFill>
          <a:blip r:embed="rId1"/>
          <a:stretch/>
        </p:blipFill>
        <p:spPr>
          <a:xfrm>
            <a:off x="1258920" y="1844640"/>
            <a:ext cx="6337440" cy="4511880"/>
          </a:xfrm>
          <a:prstGeom prst="rect">
            <a:avLst/>
          </a:prstGeom>
          <a:ln w="0">
            <a:noFill/>
          </a:ln>
        </p:spPr>
      </p:pic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pecific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6" descr="pig meat"/>
          <p:cNvPicPr/>
          <p:nvPr/>
        </p:nvPicPr>
        <p:blipFill>
          <a:blip r:embed="rId1"/>
          <a:stretch/>
        </p:blipFill>
        <p:spPr>
          <a:xfrm>
            <a:off x="900000" y="1773360"/>
            <a:ext cx="7559640" cy="443700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19:50:28Z</dcterms:created>
  <dc:creator>rik g</dc:creator>
  <dc:description/>
  <dc:language>en-US</dc:language>
  <cp:lastModifiedBy>LEGION2</cp:lastModifiedBy>
  <dcterms:modified xsi:type="dcterms:W3CDTF">2016-01-12T10:35:29Z</dcterms:modified>
  <cp:revision>13</cp:revision>
  <dc:subject/>
  <dc:title>Animal breed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