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3720-B1C9-4D10-94CD-B18EE7F041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B47-282F-403A-9A23-38134B4F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246-F230-4D0F-A20A-18C6D1B3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4A5-4665-4AB7-A3CF-1DD7DBC4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D15-E3B9-4BEA-8CF0-25E9A0AC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9049-71A5-4468-8080-3EDACB72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7C1E-E2F2-4487-B557-8550DB58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D365-E9D3-4770-BD76-DCD973D9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E821-AE74-415D-AE2C-68BA2EFB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DEA0-66D1-43A6-B53D-4709F03E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77AE-3D26-4B2E-931A-CAD8C1D9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7F99-9667-4C0E-BFD5-1A0A4023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02E-3F7E-479C-9BF0-615057A3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9D73-DE8B-4C76-9B99-388C6E04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8816-3DDC-4534-ABAE-B032DB7F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076B-CEE6-4665-8377-B55203D5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825C-09DB-4586-AD90-90A509B5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26CA-7725-48B6-96CC-EAD8A12E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9E7-5041-4F0D-A9BE-99AAA18F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9E2-D726-4DFD-B94E-94170DD1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C0B-AD50-47EC-A90C-5261517A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E36-FA31-4426-9DA6-756779BC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765-1D94-4FBD-A90D-E23B1EE1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2DE-EB63-4909-8EE6-20E43DC3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3A2-F4A8-4255-AC6B-B51F028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4A29-F137-4035-A4A3-E90D9A5ADA9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3C09-97EB-4784-B539-D0A991337F4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suffolk_4"/>
          <p:cNvPicPr/>
          <p:nvPr/>
        </p:nvPicPr>
        <p:blipFill>
          <a:blip r:embed="rId1"/>
          <a:stretch/>
        </p:blipFill>
        <p:spPr>
          <a:xfrm>
            <a:off x="1476360" y="1628640"/>
            <a:ext cx="5616720" cy="43513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lincoln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0032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merino"/>
          <p:cNvPicPr/>
          <p:nvPr/>
        </p:nvPicPr>
        <p:blipFill>
          <a:blip r:embed="rId1"/>
          <a:stretch/>
        </p:blipFill>
        <p:spPr>
          <a:xfrm>
            <a:off x="2124000" y="1989000"/>
            <a:ext cx="4969080" cy="4248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outh_suffolk4"/>
          <p:cNvPicPr/>
          <p:nvPr/>
        </p:nvPicPr>
        <p:blipFill>
          <a:blip r:embed="rId1"/>
          <a:stretch/>
        </p:blipFill>
        <p:spPr>
          <a:xfrm>
            <a:off x="1908000" y="1773360"/>
            <a:ext cx="4967640" cy="4749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Leghorn_Red"/>
          <p:cNvPicPr/>
          <p:nvPr/>
        </p:nvPicPr>
        <p:blipFill>
          <a:blip r:embed="rId1"/>
          <a:stretch/>
        </p:blipFill>
        <p:spPr>
          <a:xfrm>
            <a:off x="1692360" y="1595520"/>
            <a:ext cx="5832360" cy="45972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Lakenvelder"/>
          <p:cNvPicPr/>
          <p:nvPr/>
        </p:nvPicPr>
        <p:blipFill>
          <a:blip r:embed="rId1"/>
          <a:stretch/>
        </p:blipFill>
        <p:spPr>
          <a:xfrm>
            <a:off x="1619280" y="1916280"/>
            <a:ext cx="5616720" cy="4360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LangshanWhtLg"/>
          <p:cNvPicPr/>
          <p:nvPr/>
        </p:nvPicPr>
        <p:blipFill>
          <a:blip r:embed="rId1"/>
          <a:stretch/>
        </p:blipFill>
        <p:spPr>
          <a:xfrm>
            <a:off x="1835280" y="1665360"/>
            <a:ext cx="5689440" cy="45734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cow charolais-web-1"/>
          <p:cNvPicPr/>
          <p:nvPr/>
        </p:nvPicPr>
        <p:blipFill>
          <a:blip r:embed="rId1"/>
          <a:stretch/>
        </p:blipFill>
        <p:spPr>
          <a:xfrm>
            <a:off x="1403280" y="1916280"/>
            <a:ext cx="6769080" cy="4197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ow hereford1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283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ow limousin1"/>
          <p:cNvPicPr/>
          <p:nvPr/>
        </p:nvPicPr>
        <p:blipFill>
          <a:blip r:embed="rId1"/>
          <a:stretch/>
        </p:blipFill>
        <p:spPr>
          <a:xfrm>
            <a:off x="1042920" y="1557360"/>
            <a:ext cx="6696000" cy="4346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pig landrace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306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pig saddleback"/>
          <p:cNvPicPr/>
          <p:nvPr/>
        </p:nvPicPr>
        <p:blipFill>
          <a:blip r:embed="rId1"/>
          <a:stretch/>
        </p:blipFill>
        <p:spPr>
          <a:xfrm>
            <a:off x="1187280" y="1779480"/>
            <a:ext cx="6769440" cy="41706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pig yorkshire"/>
          <p:cNvPicPr/>
          <p:nvPr/>
        </p:nvPicPr>
        <p:blipFill>
          <a:blip r:embed="rId1"/>
          <a:stretch/>
        </p:blipFill>
        <p:spPr>
          <a:xfrm>
            <a:off x="1692360" y="1754280"/>
            <a:ext cx="6048360" cy="4432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pig durroc"/>
          <p:cNvPicPr/>
          <p:nvPr/>
        </p:nvPicPr>
        <p:blipFill>
          <a:blip r:embed="rId1"/>
          <a:stretch/>
        </p:blipFill>
        <p:spPr>
          <a:xfrm>
            <a:off x="1258920" y="1844640"/>
            <a:ext cx="6337440" cy="45118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pig meat"/>
          <p:cNvPicPr/>
          <p:nvPr/>
        </p:nvPicPr>
        <p:blipFill>
          <a:blip r:embed="rId1"/>
          <a:stretch/>
        </p:blipFill>
        <p:spPr>
          <a:xfrm>
            <a:off x="900000" y="1773360"/>
            <a:ext cx="7559640" cy="44370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9:50:28Z</dcterms:created>
  <dc:creator>rik g</dc:creator>
  <dc:description/>
  <dc:language>en-US</dc:language>
  <cp:lastModifiedBy>LEGION2</cp:lastModifiedBy>
  <dcterms:modified xsi:type="dcterms:W3CDTF">2016-01-12T10:35:29Z</dcterms:modified>
  <cp:revision>13</cp:revision>
  <dc:subject/>
  <dc:title>Animal br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