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3225C-71AB-48E9-A360-151DEA503B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Math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e added to th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 solution added to the t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amples loaded into wel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current applied to the cha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stained using ethidium brom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ion of DNA fragments according to size, based on movement through a gel medium when an electric field is appli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NA negatively cha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ut up using restriction endonucl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up the gel which the DNA will be put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22644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00080" y="728640"/>
            <a:ext cx="4857840" cy="36432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614840"/>
            <a:ext cx="5486400" cy="437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4BD5-6FF1-477D-85BB-503B075A9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A25F-E650-489F-B711-B7EFBCFD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5CA8-28F8-483F-83DF-7E1E07EB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D4E8-5F82-4DF6-A4AF-8200715B6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5253-2A03-4C7C-B407-1549B42D7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B9A-CD9F-479B-8E5D-4AC2A100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9DE-F4CA-4D5F-8F0F-0E55A4A5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779-FF5B-4254-9089-185C0755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61EC-E596-429C-AF23-A8D31106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BAB1-DBC6-4D52-AAED-DC0EFC9C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FD07-CB68-42FE-8DDB-8129E85C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F36-E8F7-4328-959F-84F3C668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8BCD-7001-4D5D-90A9-DA085EDBABA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el electrophor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L Mathi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ye added to the DN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1476360" y="1700280"/>
          <a:ext cx="61912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00280"/>
                    <a:ext cx="61912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Buffer solution added to the tank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137440" cy="4896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samples loaded into well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" name="Picture 5" descr="gel_plate_600"/>
          <p:cNvPicPr/>
          <p:nvPr/>
        </p:nvPicPr>
        <p:blipFill>
          <a:blip r:embed="rId1"/>
          <a:stretch/>
        </p:blipFill>
        <p:spPr>
          <a:xfrm>
            <a:off x="2268360" y="1314360"/>
            <a:ext cx="4162680" cy="5543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lectrical current applied to the chambe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1187280" y="1700280"/>
          <a:ext cx="684072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684072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is stained using ethidium bromid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8" name="Picture 4" descr="Lab_5_gel_1999"/>
          <p:cNvPicPr/>
          <p:nvPr/>
        </p:nvPicPr>
        <p:blipFill>
          <a:blip r:embed="rId1"/>
          <a:stretch/>
        </p:blipFill>
        <p:spPr>
          <a:xfrm>
            <a:off x="1835280" y="1413000"/>
            <a:ext cx="5329080" cy="52671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eparation of DNA fragments according to size, based on movement through a gel medium when an electric field is applied.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NA negatively charg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5" name="Picture 5" descr="sld002"/>
          <p:cNvPicPr/>
          <p:nvPr/>
        </p:nvPicPr>
        <p:blipFill>
          <a:blip r:embed="rId1"/>
          <a:stretch/>
        </p:blipFill>
        <p:spPr>
          <a:xfrm>
            <a:off x="1187280" y="1484280"/>
            <a:ext cx="6913800" cy="475308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NA cut up using restriction endonucleas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" name="Picture 6" descr="restriction"/>
          <p:cNvPicPr/>
          <p:nvPr/>
        </p:nvPicPr>
        <p:blipFill>
          <a:blip r:embed="rId1"/>
          <a:stretch/>
        </p:blipFill>
        <p:spPr>
          <a:xfrm>
            <a:off x="1042920" y="1989000"/>
            <a:ext cx="6600960" cy="391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5" descr="f_s02gelelect"/>
          <p:cNvPicPr/>
          <p:nvPr/>
        </p:nvPicPr>
        <p:blipFill>
          <a:blip r:embed="rId1"/>
          <a:stretch/>
        </p:blipFill>
        <p:spPr>
          <a:xfrm>
            <a:off x="1476360" y="0"/>
            <a:ext cx="5616720" cy="6453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ke up the gel which the DNA will be put int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" name="Picture 5" descr="12.jpg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9672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" name="Picture 9" descr="sld008"/>
          <p:cNvPicPr/>
          <p:nvPr/>
        </p:nvPicPr>
        <p:blipFill>
          <a:blip r:embed="rId1"/>
          <a:stretch/>
        </p:blipFill>
        <p:spPr>
          <a:xfrm>
            <a:off x="1187280" y="836640"/>
            <a:ext cx="6897960" cy="51735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5" descr="sld009"/>
          <p:cNvPicPr/>
          <p:nvPr/>
        </p:nvPicPr>
        <p:blipFill>
          <a:blip r:embed="rId1"/>
          <a:stretch/>
        </p:blipFill>
        <p:spPr>
          <a:xfrm>
            <a:off x="395280" y="333360"/>
            <a:ext cx="8265960" cy="6199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Picture 5" descr="sld010"/>
          <p:cNvPicPr/>
          <p:nvPr/>
        </p:nvPicPr>
        <p:blipFill>
          <a:blip r:embed="rId1"/>
          <a:stretch/>
        </p:blipFill>
        <p:spPr>
          <a:xfrm>
            <a:off x="826920" y="333360"/>
            <a:ext cx="7920360" cy="61927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0T21:12:08Z</dcterms:created>
  <dc:creator>Matis</dc:creator>
  <dc:description/>
  <dc:language>en-US</dc:language>
  <cp:lastModifiedBy>LEGION2</cp:lastModifiedBy>
  <dcterms:modified xsi:type="dcterms:W3CDTF">2016-01-12T10:37:34Z</dcterms:modified>
  <cp:revision>11</cp:revision>
  <dc:subject/>
  <dc:title>Gel electrophoresis and DNA sequencing</dc:title>
</cp:coreProperties>
</file>