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7415-408C-4ABA-A0D7-062ADB54ED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a ge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function, controlling the inheritance of one “character” or phenotypic at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of structure, operationally defined by recombination and by m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er (1940) - intergenic recombination at loz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lozenge affect eye shape in Drosophi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utations, lzs and lzg, were considered alleles of the same gene because lzs/lzg heterozygotes have lozenge, not wild-type,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en lzs/lzg females are crossed to lzs or lzg males, about 0.2% of the progeny are wild-ty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ust result from recombination between lzs and lzg , because the wild-type progeny always had recombinant flanking markers.  Also, the frequency of 0.2% is much higher than the reversion rate of the mu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nucleotide, not the gene, is the basic unit of genetic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ding sequence of a gene and its polypeptide product are co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 established the concept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ncept has evolved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t that can mutate to cause a specific block in metabolism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unit specifying one enzy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of the g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o genetics what the atom is to chemi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as the concept of a gene developed in the minds of genetic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(186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rod (1909) Inborn errors of Met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 4,000 inherited genetic disorders have now been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bolic mutations in Drosophila (Beadle and Ephruss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nts in v or cn have bright red eyes because they lack brown pi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transplantation experiments showed that wild-type hosts produce a diffusible substance than can allow v or cn disks to form dark red e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disks transplanted into cn hosts also develop normally, but cn disks transplanted into v hosts still develop bright red ey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:  v and cn affect different steps of the same metabolic path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ow know the precise path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dle and Tatum (1942)--One Gene, On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mold Neurospora can normally grow on minimal media, because it can synthesize most essential metabol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tested by irradiating Neurospora spores and screening the cells they produced for additional nutritional requirements (auxotroph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14E-0B73-40AA-A343-5945464F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B56-8339-44FC-9631-7C531E3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D15-1D79-4B14-A9D4-BB0D6AB3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9DE-8918-4355-90EA-604644B5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DA6-5D0C-419C-B32B-739EAE7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47B-6CDC-46E7-86C7-C01E8E8F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E4B-D084-4255-966F-57CEE672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287-F224-496B-B4CB-DF674F6E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C8F-497F-4455-85BE-3EED47C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846-6809-4658-A7FB-4E1C1724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93B-0D21-47C1-8E3C-18FFD668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6C0-9867-44E1-8A7C-41FB9D3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21A7-8C01-495A-8A87-CB9FC48A4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What is a gene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re genes both the basic functional unit and the smallest genetic structural unit?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il 1940, the gene was considered as the basic unit of genetic information as defined by three cri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controlling the inheritance of one “character” or phenotypic attribu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it of stru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perationally define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Oliver (1940) - intergenic recombination at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lozeng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tation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zeng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fect eye shap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rosophi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utation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ere considered alleles of the same gene becaus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terozygotes have lozenge, not wild-type, ey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wh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males are crossed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es, about 0.2% of the progeny are wild-typ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must result from recombination betwee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z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because the wild-type progeny always had recombinant flanking markers.  Also, the frequency of 0.2% is much higher than the reversion rate of the mut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Further studies of intergenic recombination in bacteriophage and bacteria (where billions, instead of thousands, of progeny can be analyzed) showed that recombination occurs between adjacent nucleotide pairs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o the nucleotide, not the gene, is the basic unit of genetic structure.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The coding sequence of a gene and its polypeptide product are colinea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1581120" y="1981080"/>
            <a:ext cx="598176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l’s work established the concept of the g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oncept has evolved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 that can mutate to cause a specific block in metabolism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unit specifying one enzym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he sequence of nucleotide pairs in DNA encoding one polypeptide ch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Definitions of the gen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o genetics what the atom is to chemis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controls a specific aspect of the phenoty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 is the unit of genetic information that specifies the synthesis of one polypept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How has the concept of a gene developed in the minds of geneticists?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Mendel (1866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is governed by “characters” or “constant factors” that each controls a phenotypic trait such as flower col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Garrod (1909)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Inborn errors of Metabolism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herited human metabolic disorders such as alkaptonuria result from alternative metabolis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dividual genes can mutate to cause a specific metabolic block.  Concept later elaborated as “one gene-one enzym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4,000 inherited genetic disorders have now been describ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29076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Metabolic mutations in </a:t>
            </a:r>
            <a:r>
              <a:rPr b="0" i="1" lang="en-US" sz="4000" spc="-1" strike="noStrike">
                <a:solidFill>
                  <a:srgbClr val="ccffff"/>
                </a:solidFill>
                <a:latin typeface="Times New Roman"/>
              </a:rPr>
              <a:t>Drosophila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 (Beadle and Ephrussi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y eyes are normally dark red because of two pigments, one bright red and one br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tants in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ave bright red eyes because they lack brown pig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k transplantation experiments showed that wild-type hosts produce a diffusible substance than can allow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o form dark red ey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also develop normally, bu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sks transplanted in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hosts still develop bright red ey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981000" y="198108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Explanation: 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v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ccffff"/>
                </a:solidFill>
                <a:latin typeface="Times New Roman"/>
              </a:rPr>
              <a:t>c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affect different steps of the same metabolic pathwa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2387520"/>
            <a:ext cx="7772400" cy="3301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We now know the precise pathway.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59040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Beadle and Tatum (1942)--One Gene, One Enzym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ead mold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normally grow on minimal media, because it can synthesize most essential metaboli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this biosynthesis is under genetic control, then mutants in those genes would require additional metabolites in their med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was tested by irradiat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Neurospo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spores and screening the cells they produced for additional nutritional requirements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xotroph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809880" cy="40575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36:51Z</dcterms:created>
  <dc:creator>Paul Lasko</dc:creator>
  <dc:description/>
  <dc:language>en-US</dc:language>
  <cp:lastModifiedBy>LEGION2</cp:lastModifiedBy>
  <dcterms:modified xsi:type="dcterms:W3CDTF">2016-01-12T10:39:03Z</dcterms:modified>
  <cp:revision>10</cp:revision>
  <dc:subject/>
  <dc:title>What is a gene?</dc:title>
</cp:coreProperties>
</file>