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F911-67B0-4ACC-8384-48D24BD79B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28A-2E1A-42A2-B258-E971D6E8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5FA-FBB1-4ABF-A502-AE380771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8C5-57CD-4DDD-A8C0-EFBF9DC2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293-7889-437A-BD8C-C6D58DF5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72E-8343-49C7-962C-299D8552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4E9-8105-44AB-B38B-B118984E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12D-66CC-4FDE-B7CE-1DE272E4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D90-66FD-488D-B998-BFC956D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811-64CE-42D9-AC9A-F37A3241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755-3EDB-4C90-A4C1-4D96C2B4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C55-BE0D-427B-AA31-ED06518E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76E-7437-48E6-9A1E-2D1D8C44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DFB2-301C-49CE-979D-83765B932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at is a gen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ntrolling the inheritance of one “character” or phenotypic attribu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stru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perationally define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ombi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Oliver (1940) - intergenic recombination at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lozeng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tions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oze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ffect eye shap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osophi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mutation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ere considered alleles of the same gene becaus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terozygotes have lozenge, not wild-type, ey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males are crossed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s, about 0.2% of the progeny are wild-typ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must result from recombination betwe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because the wild-type progeny always had recombinant flanking markers.  Also, the frequency of 0.2% is much higher than the reversion rate of the mut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581120" y="1981080"/>
            <a:ext cx="598176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of the 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has the concept of a gene developed in the minds of geneticis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endel (1866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Garrod (1909)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Inborn errors of Metabolism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29076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Metabolic mutations in </a:t>
            </a:r>
            <a:r>
              <a:rPr b="0" i="1" lang="en-US" sz="4000" spc="-1" strike="noStrike">
                <a:solidFill>
                  <a:srgbClr val="ccffff"/>
                </a:solidFill>
                <a:latin typeface="Times New Roman"/>
              </a:rPr>
              <a:t>Drosophila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(Beadle and Ephrussi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tants in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ave bright red eyes because they lack brown pig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o form dark red ey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also develop normally, but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still develop bright red ey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81000" y="1981080"/>
            <a:ext cx="321948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Explanation: 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c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ffect different steps of the same metabolic pathwa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7772400" cy="3301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We now know the precise pathway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40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Beadle and Tatum (1942)--One Gene, One Enzym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ead mold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normally grow on minimal media, because it can synthesize most essential metabo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was tested by irradiatin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spores and screening the cells they produced for additional nutritional requirements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xotroph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809880" cy="40575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36:51Z</dcterms:created>
  <dc:creator>Paul Lasko</dc:creator>
  <dc:description/>
  <dc:language>en-US</dc:language>
  <cp:lastModifiedBy>LEGION2</cp:lastModifiedBy>
  <dcterms:modified xsi:type="dcterms:W3CDTF">2016-01-12T10:39:03Z</dcterms:modified>
  <cp:revision>10</cp:revision>
  <dc:subject/>
  <dc:title>What is a gene?</dc:title>
</cp:coreProperties>
</file>