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gif" ContentType="image/gif"/>
  <Override PartName="/ppt/media/camera.wav" ContentType="audio/x-wav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1CFD-C1D2-4C34-81D3-75536F030D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 of alleles-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red flowe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   RED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of alleles-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red flow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   RE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F93-4780-4C81-A603-7BD8A8DF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7E9-0813-44CE-8262-03E54F65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5E45-429B-49E5-AFC6-4CFEF383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F93-951A-4718-A3A3-CA55228A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0268-0135-4C73-9446-32EBFCED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104C-0E6A-436D-9AFE-DBB3E13F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5F6E-A7F3-45B8-AC3B-9F99857E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0B8E-D1E6-46C5-9CFC-F5D4C9D7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2E7E-3BBD-4EDA-9289-545427B5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FF51-7D0C-4824-A230-9088E6B9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7EF8-838A-48F5-9C6E-13C07606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CE7-D13E-4EA0-A967-6CF3F50D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09A2-DFB8-4340-B821-BB5A2E23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698D-730A-416E-BADF-4481431F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2035-3D72-4066-8F7D-500E580E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F671-0AB2-4A9B-A8F7-EF7DBC71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701D-D5B8-4A9F-9B80-84652632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21D-BA9C-4290-8C1C-39788BEA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0B7-8CFE-4E4E-84E6-461B490A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C31-9ABB-4A6F-886F-5DC17777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AC7-31F7-48A9-B060-76E2EEDE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CD5B-9956-42E3-907D-838D6B7B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4B2D-5762-4D2A-8EA0-0BF52DC4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9D0-423E-45BB-9AC1-5D963F6B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A50D-35A8-46B1-AAE2-B1B4BA11475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635C-D690-4DC8-9081-0E36828ED5D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tic Cro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21333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7467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21337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327672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7010280" y="609120"/>
            <a:ext cx="1447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33520" y="609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4191120" y="1828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male bl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09480" y="3962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39625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white 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35053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029200" y="2590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2286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2209680" y="4724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609480" y="1676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33526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34290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48769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629400" y="335268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75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75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1640" y="22856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838080" y="1447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762120" y="4572000"/>
            <a:ext cx="3352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4724280" y="5715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 flipH="1" flipV="1">
            <a:off x="3657600" y="4114440"/>
            <a:ext cx="8380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member think how lucky you are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Picture 4" descr="creature"/>
          <p:cNvPicPr/>
          <p:nvPr/>
        </p:nvPicPr>
        <p:blipFill>
          <a:blip r:embed="rId1"/>
          <a:stretch/>
        </p:blipFill>
        <p:spPr>
          <a:xfrm>
            <a:off x="2971800" y="1905120"/>
            <a:ext cx="342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52320" y="1828800"/>
            <a:ext cx="266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191120" y="4191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control of character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eye"/>
          <p:cNvPicPr/>
          <p:nvPr/>
        </p:nvPicPr>
        <p:blipFill>
          <a:blip r:embed="rId1"/>
          <a:stretch/>
        </p:blipFill>
        <p:spPr>
          <a:xfrm>
            <a:off x="3657600" y="3200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otype and phenotyp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ominance and recessive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er gene is </a:t>
            </a:r>
            <a:r>
              <a:rPr b="1" lang="en-GB" sz="3200" spc="-1" strike="noStrike">
                <a:solidFill>
                  <a:srgbClr val="ff0033"/>
                </a:solidFill>
                <a:latin typeface="Times New Roman"/>
              </a:rPr>
              <a:t>DOMINA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is represented by a capital letter      e.g.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asked gene is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RESSESIV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hown as lower case of the same letter      e.g.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14400" y="2057400"/>
            <a:ext cx="7315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 of alleles-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red flow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yellow fl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l genes occur in pairs – so 2 alleles affect a characteristic – possible combinations a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90720" y="4952880"/>
            <a:ext cx="701028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h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ED             RED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7" descr="A2PLNT26"/>
          <p:cNvPicPr/>
          <p:nvPr/>
        </p:nvPicPr>
        <p:blipFill>
          <a:blip r:embed="rId1"/>
          <a:stretch/>
        </p:blipFill>
        <p:spPr>
          <a:xfrm>
            <a:off x="7162920" y="1523880"/>
            <a:ext cx="152388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4267080" y="5486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16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2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4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25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29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30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31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388620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4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35"/>
          <p:cNvSpPr/>
          <p:nvPr/>
        </p:nvSpPr>
        <p:spPr>
          <a:xfrm>
            <a:off x="2133720" y="54864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2057400" y="5562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ff0033"/>
                </a:solidFill>
                <a:latin typeface="Times New Roman"/>
              </a:rPr>
              <a:t>red              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289548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7:00:18Z</dcterms:created>
  <dc:creator>Rik G</dc:creator>
  <dc:description/>
  <dc:language>en-US</dc:language>
  <cp:lastModifiedBy>RomaK</cp:lastModifiedBy>
  <dcterms:modified xsi:type="dcterms:W3CDTF">2015-09-04T11:32:07Z</dcterms:modified>
  <cp:revision>25</cp:revision>
  <dc:subject/>
  <dc:title>Genetic Crosses</dc:title>
</cp:coreProperties>
</file>