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gif" ContentType="image/gif"/>
  <Override PartName="/ppt/media/camera.wav" ContentType="audio/x-wav"/>
  <Override PartName="/ppt/media/type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38D8-564B-4193-9A4F-976B3DF5BBE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tic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possible outcomes of genes the new generation will h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yellow               yellow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50%         yellow 5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nnett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method of showing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 genotypes are inse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 genotypes are inserted    B=black       b=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    male bl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 white 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the cro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white and 2 black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:50 chance with thes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le is re-mated with a white female, the offspring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black   and  7 wh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re the genotypes of the original pa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s have 2 coat colours – black B, white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   BB   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uld b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 BB    Male B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ink how lucky you a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mi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Phenotype Parent  Gamete Offsp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t  recessive alle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control of characte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aracteristics are controlled by a minimum of 2 gene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genes give the characteristic a different of presenting itsel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genes that control the same feature are called ALLE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YE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and 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 – is how the gene (or pair) shows itself, how it appea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inance and recessive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er gene is DOMINANT and is represented by a capital letter      e.g.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ked gene is RESSESIVE shown as lower case of the same letter      e.g.   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 of alleles-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red flowe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   RED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 of alleles-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red flow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yellow fl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genes occur in pairs – so 2 alleles affect a characteristic – possible combinations are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   RED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 diagram – Flower col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l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m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                    r                      R                      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spring g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eno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          yellow          red              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red    :   1 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EE94-DF46-49E6-8936-0DB7ECBDE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BC56-547A-4C05-A805-31820EC4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2ADE-B0C6-4F91-8680-01C4D91E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AE8C-ACEE-435A-B28F-64485E06E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23B8F-54CC-4336-BBAC-AD28C87C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15B41-6FF3-4ACB-B2D1-0B9ED435E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AB50B-EF5D-4218-8CCF-7F9D0025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EB672-5762-49E6-BEB1-237A7CC8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C72C9-A52B-45EF-B988-5FB18FFF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EC7B-2F4B-4C6A-AE82-11534C14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9A7F-8720-49E5-8359-570DC38E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A3B4-4DB1-4B94-8407-F8199E14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2763-D6BD-4E8D-99C5-808B1CA7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78F4-09AD-40B6-9649-4E59094CE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3E974-BF11-4B8E-85FB-5E9C7DD3E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00109-A134-4E58-AE0C-6D93E2637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2BA6-1E21-451D-AF5C-B29648658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0C2A-4E4A-45A8-986B-2BAF5E25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EE24-7948-4487-AC56-9AEA910C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186F-02CF-4ABF-8DB9-0B0E2D55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A82-2C17-46DA-87F9-3C7B00EE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F4B3-544E-4B38-AED3-C1AFBB32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A86-AAF0-4B26-BFEC-6A63DCAE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6E92-0340-46EC-B78A-F5FE34DC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4B87-24CC-4177-834B-F4E1BB77567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8C729-E4AE-498A-B356-19673AFC6C4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whoosh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whoosh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whoosh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tic Cro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2133360"/>
            <a:ext cx="64008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w possible outcomes of genes the new generation will ha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us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e diagra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unnett Squa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Text Box 20"/>
          <p:cNvSpPr/>
          <p:nvPr/>
        </p:nvSpPr>
        <p:spPr>
          <a:xfrm>
            <a:off x="7467480" y="4724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8"/>
          <p:cNvSpPr/>
          <p:nvPr/>
        </p:nvSpPr>
        <p:spPr>
          <a:xfrm>
            <a:off x="213372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33"/>
                </a:solidFill>
                <a:latin typeface="Times New Roman"/>
              </a:rPr>
              <a:t>Red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yello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29"/>
          <p:cNvSpPr/>
          <p:nvPr/>
        </p:nvSpPr>
        <p:spPr>
          <a:xfrm>
            <a:off x="3276720" y="5943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 50%         yellow 50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unnett Squa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other method of showing cro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7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8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Line 9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Line 10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380880" y="1142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 genotypes are inser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1240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2666880" y="3276720"/>
            <a:ext cx="3353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2590920" y="5562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590920" y="441972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Line 8"/>
          <p:cNvSpPr/>
          <p:nvPr/>
        </p:nvSpPr>
        <p:spPr>
          <a:xfrm>
            <a:off x="4495680" y="2971800"/>
            <a:ext cx="0" cy="2590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Line 9"/>
          <p:cNvSpPr/>
          <p:nvPr/>
        </p:nvSpPr>
        <p:spPr>
          <a:xfrm>
            <a:off x="6019920" y="2895480"/>
            <a:ext cx="0" cy="2667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7010280" y="609120"/>
            <a:ext cx="1447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33520" y="60948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 genotypes are inserted    B=black       b=wh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4191120" y="1828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male bl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609480" y="3962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4"/>
          <p:cNvSpPr/>
          <p:nvPr/>
        </p:nvSpPr>
        <p:spPr>
          <a:xfrm>
            <a:off x="838080" y="39625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b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white 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3505320" y="2590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50292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2286000" y="36576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Text Box 18"/>
          <p:cNvSpPr/>
          <p:nvPr/>
        </p:nvSpPr>
        <p:spPr>
          <a:xfrm>
            <a:off x="2209680" y="47242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19"/>
          <p:cNvSpPr/>
          <p:nvPr/>
        </p:nvSpPr>
        <p:spPr>
          <a:xfrm>
            <a:off x="6094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hat are the cros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Text Box 20"/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21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3"/>
          <p:cNvSpPr/>
          <p:nvPr/>
        </p:nvSpPr>
        <p:spPr>
          <a:xfrm>
            <a:off x="34290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24"/>
          <p:cNvSpPr/>
          <p:nvPr/>
        </p:nvSpPr>
        <p:spPr>
          <a:xfrm>
            <a:off x="487692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Text Box 26"/>
          <p:cNvSpPr/>
          <p:nvPr/>
        </p:nvSpPr>
        <p:spPr>
          <a:xfrm>
            <a:off x="6629400" y="335268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 white and 2 black offspr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0:50 chance with these par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3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75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75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3962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2 black rats are mated, they have 13 offspring. All of which are black, what are the genotypes of the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1640" y="22856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ale is re-mated with a white female, the offspring a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6 black   and  7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were the genotypes of the original par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838080" y="1447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ats have 2 coat colours – black B, white 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762120" y="4572000"/>
            <a:ext cx="33526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Both    BB   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B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ne could b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4724280" y="5715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emale BB    Male Bb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Line 11"/>
          <p:cNvSpPr/>
          <p:nvPr/>
        </p:nvSpPr>
        <p:spPr>
          <a:xfrm flipH="1" flipV="1">
            <a:off x="3657600" y="4114440"/>
            <a:ext cx="8380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5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8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3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3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emember think how lucky you a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235" name="Picture 4" descr="creature"/>
          <p:cNvPicPr/>
          <p:nvPr/>
        </p:nvPicPr>
        <p:blipFill>
          <a:blip r:embed="rId1"/>
          <a:stretch/>
        </p:blipFill>
        <p:spPr>
          <a:xfrm>
            <a:off x="2971800" y="1905120"/>
            <a:ext cx="34290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52320" y="1828800"/>
            <a:ext cx="266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enotype Phenotype Parent  Gamete Offspr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ominant  recessive alle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191120" y="419112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control of character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characteristics are controlled by a minimum of 2 genes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se genes give the characteristic a different of presenting itsel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genes that control the same feature are called ALLE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YE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ssible alleles – blue , brown, green, hazel etc    (each colour needs its own gen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possible to have pairs of different alleles, alleles are usually given a l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eye"/>
          <p:cNvPicPr/>
          <p:nvPr/>
        </p:nvPicPr>
        <p:blipFill>
          <a:blip r:embed="rId1"/>
          <a:stretch/>
        </p:blipFill>
        <p:spPr>
          <a:xfrm>
            <a:off x="3657600" y="32004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otype and phenotyp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enotype is the letter or term used to describe the allele of an individual gene or  pair of ge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henotype – is how the gene (or pair) shows itself, how it appea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Dominance and recessivenes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me alleles for a feature are able to mask the influence of other (weaker) gene when they are pai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nger gene is </a:t>
            </a:r>
            <a:r>
              <a:rPr b="1" lang="en-GB" sz="3200" spc="-1" strike="noStrike">
                <a:solidFill>
                  <a:srgbClr val="ff0033"/>
                </a:solidFill>
                <a:latin typeface="Times New Roman"/>
              </a:rPr>
              <a:t>DOMINAN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and is represented by a capital letter      e.g.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asked gene is 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RESSESIV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hown as lower case of the same letter      e.g.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14400" y="2057400"/>
            <a:ext cx="731520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 of alleles-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red flowe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40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= yellow flow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ll genes occur in pairs – so 2 alleles affect a characteristic – possible combinations ar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990720" y="4952880"/>
            <a:ext cx="7010280" cy="17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g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fff00"/>
                </a:solidFill>
                <a:latin typeface="Comic Sans MS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henotype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RED             RED  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  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7" descr="A2PLNT26"/>
          <p:cNvPicPr/>
          <p:nvPr/>
        </p:nvPicPr>
        <p:blipFill>
          <a:blip r:embed="rId1"/>
          <a:stretch/>
        </p:blipFill>
        <p:spPr>
          <a:xfrm>
            <a:off x="7162920" y="1523880"/>
            <a:ext cx="1523880" cy="14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0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Line 12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5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Line 19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20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21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22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Line 23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Line 24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25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26"/>
          <p:cNvSpPr/>
          <p:nvPr/>
        </p:nvSpPr>
        <p:spPr>
          <a:xfrm>
            <a:off x="3809880" y="4800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28"/>
          <p:cNvSpPr/>
          <p:nvPr/>
        </p:nvSpPr>
        <p:spPr>
          <a:xfrm>
            <a:off x="4267080" y="54864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ll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Gene diagram – Flower colou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95480" y="144792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le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ema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297180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705720" y="1981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457200" y="19810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457200" y="1447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457200" y="28954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ame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828800" y="28954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                     r                      R                       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Line 16"/>
          <p:cNvSpPr/>
          <p:nvPr/>
        </p:nvSpPr>
        <p:spPr>
          <a:xfrm flipH="1">
            <a:off x="2438280" y="2514600"/>
            <a:ext cx="60984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Line 17"/>
          <p:cNvSpPr/>
          <p:nvPr/>
        </p:nvSpPr>
        <p:spPr>
          <a:xfrm>
            <a:off x="3505320" y="2438280"/>
            <a:ext cx="380880" cy="381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 flipH="1">
            <a:off x="6095520" y="2362320"/>
            <a:ext cx="6858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Line 19"/>
          <p:cNvSpPr/>
          <p:nvPr/>
        </p:nvSpPr>
        <p:spPr>
          <a:xfrm>
            <a:off x="7238880" y="2438280"/>
            <a:ext cx="53352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457200" y="4572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ffspring g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2286000" y="3505320"/>
            <a:ext cx="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22"/>
          <p:cNvSpPr/>
          <p:nvPr/>
        </p:nvSpPr>
        <p:spPr>
          <a:xfrm flipH="1">
            <a:off x="2590920" y="3276720"/>
            <a:ext cx="32004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2133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Line 24"/>
          <p:cNvSpPr/>
          <p:nvPr/>
        </p:nvSpPr>
        <p:spPr>
          <a:xfrm>
            <a:off x="2514600" y="3505320"/>
            <a:ext cx="4952880" cy="1218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Line 25"/>
          <p:cNvSpPr/>
          <p:nvPr/>
        </p:nvSpPr>
        <p:spPr>
          <a:xfrm>
            <a:off x="784872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7467480" y="4648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4114800" y="3352680"/>
            <a:ext cx="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29"/>
          <p:cNvSpPr/>
          <p:nvPr/>
        </p:nvSpPr>
        <p:spPr>
          <a:xfrm>
            <a:off x="5867280" y="3429000"/>
            <a:ext cx="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30"/>
          <p:cNvSpPr/>
          <p:nvPr/>
        </p:nvSpPr>
        <p:spPr>
          <a:xfrm flipH="1">
            <a:off x="4191120" y="3200400"/>
            <a:ext cx="3581280" cy="1447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31"/>
          <p:cNvSpPr/>
          <p:nvPr/>
        </p:nvSpPr>
        <p:spPr>
          <a:xfrm>
            <a:off x="4191120" y="3352680"/>
            <a:ext cx="144756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Text Box 32"/>
          <p:cNvSpPr/>
          <p:nvPr/>
        </p:nvSpPr>
        <p:spPr>
          <a:xfrm>
            <a:off x="556272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3886200" y="4724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457200" y="56386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heno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133720" y="548640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36"/>
          <p:cNvSpPr/>
          <p:nvPr/>
        </p:nvSpPr>
        <p:spPr>
          <a:xfrm>
            <a:off x="2057400" y="556272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Red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yellow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ff0033"/>
                </a:solidFill>
                <a:latin typeface="Times New Roman"/>
              </a:rPr>
              <a:t>red              r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37"/>
          <p:cNvSpPr/>
          <p:nvPr/>
        </p:nvSpPr>
        <p:spPr>
          <a:xfrm>
            <a:off x="2895480" y="6095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 red    :   1 yel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2T17:00:18Z</dcterms:created>
  <dc:creator>Rik G</dc:creator>
  <dc:description/>
  <dc:language>en-US</dc:language>
  <cp:lastModifiedBy>RomaK</cp:lastModifiedBy>
  <dcterms:modified xsi:type="dcterms:W3CDTF">2015-09-04T11:32:07Z</dcterms:modified>
  <cp:revision>25</cp:revision>
  <dc:subject/>
  <dc:title>Genetic Crosses</dc:title>
</cp:coreProperties>
</file>