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media/image2.png" ContentType="image/png"/>
  <Override PartName="/ppt/media/image1.gif" ContentType="image/gif"/>
  <Override PartName="/ppt/media/camera.wav" ContentType="audio/x-wav"/>
  <Override PartName="/ppt/media/type.wav" ContentType="audio/x-wav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F2A27-D7CA-420B-9ABC-DCF11CD0B98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tic Cros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how possible outcomes of genes the new generation will ha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e us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 diagram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nnett Squa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Cr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possible outcomes of genes the new generation will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diagra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nett 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ene diagram – Flower colo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Male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ar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                     r                      r                        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Offspring g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ed         yellow               yellow             r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ed 50%         yellow 50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diagram – Flower col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                    r                      r                       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        yellow               yellow             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50%         yellow 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nnett Squ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other method of showing cros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nett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method of showing cr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mete genotypes are inser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ent genotypes are inserted    B=black       b=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b     male bl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b white fema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are the cros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 white and 2 black offsp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0:50 chance with these par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 genotypes are inser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 genotypes are inserted    B=black       b=wh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     male bl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 white fe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cr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white and 2 black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:50 chance with these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 black rats are mated, they have 13 offspring. All of which are black, what are the genotypes of the par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ale is re-mated with a white female, the offspring ar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 black   and  7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were the genotypes of the original par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ts have 2 coat colours – black B, white b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oth    BB    B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e could be B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emale BB    Male B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black rats are mated, they have 13 offspring. All of which are black, what are the genotypes of the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le is re-mated with a white female, the offspring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black   and  7 wh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ere the genotypes of the original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s have 2 coat colours – black B, white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   BB    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ould be 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 BB    Male 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member think how lucky you are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ink how lucky you a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rminolo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otype Phenotype Parent  Gamete Offsp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minant  recessive alle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mi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 Phenotype Parent  Gamete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inant  recessive alle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 control of characterist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characteristics are controlled by a minimum of 2 genes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se genes give the characteristic a different of presenting itself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fferent genes that control the same feature are called ALL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control of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characteristics are controlled by a minimum of 2 gen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genes give the characteristic a different of presenting itsel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genes that control the same feature are called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YE COLO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ssible alleles – blue , brown, green, hazel etc    (each colour needs its own gen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is possible to have pairs of different alleles, alleles are usually given a let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 COL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alleles – blue , brown, green, hazel etc    (each colour needs its own ge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possible to have pairs of different alleles, alleles are usually given a le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otype and ph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otype is the letter or term used to describe the allele of an individual gene or  pair of ge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enotype – is how the gene (or pair) shows itself, how it appea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 and ph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 is the letter or term used to describe the allele of an individual gene or  pair of 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 – is how the gene (or pair) shows itself, how it appe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minance and recessivene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me alleles for a feature are able to mask the influence of other (weaker) gene when they are pair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onger gene is DOMINANT and is represented by a capital letter      e.g. 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asked gene is RESSESIVE shown as lower case of the same letter      e.g.   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inance and recessive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lleles for a feature are able to mask the influence of other (weaker) gene when they are pai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er gene is DOMINANT and is represented by a capital letter      e.g.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sked gene is RESSESIVE shown as lower case of the same letter      e.g.  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ene diagram – Flower colo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enotype of alleles-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 = red flower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 = yellow flow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All genes occur in pairs – so 2 alleles affect a characteristic – possible combinations are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enotype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ED             RED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 YELL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diagram – Flower col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 of alleles-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= red flow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= yellow fl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genes occur in pairs – so 2 alleles affect a characteristic – possible combinations ar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            RED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YE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ene diagram – Flower colo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Male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ar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                     R                      r                        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Offspring g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All r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diagram – Flower col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                    R                      r                       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ene diagram – Flower colo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Male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ar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                     r                      R                       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Offspring g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ed          yellow          red              r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3 red    :   1 yell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diagram – Flower col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                    r                      R                      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         yellow          red              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red    :   1 ye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01A8-1EFC-4B20-B088-0D6D7316B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C1A6-D86A-44C3-A214-A861633AB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6B06-9829-4418-B480-C7FDC1302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2C41-8E39-4DA0-9753-2986DAF02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97243-166A-472A-96B5-2B547182E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F3FDF-8209-48A9-8770-F9319CCA2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CEA0D-5879-47C8-8C5F-B52079966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5A242-B430-4BA6-9E10-D916F067F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18740-BE36-4C10-B79E-A827380B0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95997-61B6-4FE4-AF86-E54C5122A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4E7DA-6898-47C0-8B9C-138D8A66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8DDE-B424-402D-9BFB-FCA7A60BE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DF788-F7D3-434F-8D00-B08FA3E9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3BE6C-F24C-4899-9321-3E38F42D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9F29E-27AB-4BF8-BD75-EEE786B1A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87920-30F8-4A60-844E-076ADE0AC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F8739-DE92-4D5F-BED9-B2BD38A70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4EF6-68D0-4C09-B4F9-8115F1BFC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6D38-1D18-433D-82D3-F4A974EEF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6D11-73D4-4E9E-9CDF-B56E1D0EF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A374-35C3-4561-88F3-3326226C2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B804-9801-4842-9084-E63AA775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AE9C-115D-4236-86A3-1953D58C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F7A3-2BA3-4C79-9DAA-CA35F71A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1027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1028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C0491-A399-4FF3-BC45-23E31317AE7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85A76-2D10-441E-8811-E4BE70A8F19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whoosh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whoosh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whoosh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whoosh.wav"/><Relationship Id="rId17" Type="http://schemas.openxmlformats.org/officeDocument/2006/relationships/audio" Target="../media/camera.wav"/><Relationship Id="rId18" Type="http://schemas.openxmlformats.org/officeDocument/2006/relationships/audio" Target="../media/camera.wav"/><Relationship Id="rId19" Type="http://schemas.openxmlformats.org/officeDocument/2006/relationships/audio" Target="../media/whoosh.wav"/><Relationship Id="rId20" Type="http://schemas.openxmlformats.org/officeDocument/2006/relationships/audio" Target="../media/whoosh.wav"/><Relationship Id="rId21" Type="http://schemas.openxmlformats.org/officeDocument/2006/relationships/audio" Target="../media/whoosh.wav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whoosh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whoosh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whoosh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whoosh.wav"/><Relationship Id="rId17" Type="http://schemas.openxmlformats.org/officeDocument/2006/relationships/audio" Target="../media/camera.wav"/><Relationship Id="rId18" Type="http://schemas.openxmlformats.org/officeDocument/2006/relationships/audio" Target="../media/camera.wav"/><Relationship Id="rId19" Type="http://schemas.openxmlformats.org/officeDocument/2006/relationships/audio" Target="../media/whoosh.wav"/><Relationship Id="rId20" Type="http://schemas.openxmlformats.org/officeDocument/2006/relationships/audio" Target="../media/whoosh.wav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whoosh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whoosh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whoosh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whoosh.wav"/><Relationship Id="rId17" Type="http://schemas.openxmlformats.org/officeDocument/2006/relationships/audio" Target="../media/camera.wav"/><Relationship Id="rId18" Type="http://schemas.openxmlformats.org/officeDocument/2006/relationships/audio" Target="../media/camera.wav"/><Relationship Id="rId19" Type="http://schemas.openxmlformats.org/officeDocument/2006/relationships/audio" Target="../media/whoosh.wav"/><Relationship Id="rId20" Type="http://schemas.openxmlformats.org/officeDocument/2006/relationships/audio" Target="../media/whoosh.wav"/><Relationship Id="rId21" Type="http://schemas.openxmlformats.org/officeDocument/2006/relationships/audio" Target="../media/whoosh.wav"/><Relationship Id="rId22" Type="http://schemas.openxmlformats.org/officeDocument/2006/relationships/audio" Target="../media/whoosh.wav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Genetic Cros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47920" y="2133360"/>
            <a:ext cx="6400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how possible outcomes of genes the new generation will ha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us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Gene diagram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unnett Squa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Gene diagram – Flower colou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2895480" y="14479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le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em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97180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670572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457200" y="19810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457200" y="1447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457200" y="2895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ame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1828800" y="28954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                     r                      r                        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Line 10"/>
          <p:cNvSpPr/>
          <p:nvPr/>
        </p:nvSpPr>
        <p:spPr>
          <a:xfrm flipH="1">
            <a:off x="2438280" y="2514600"/>
            <a:ext cx="60984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Line 11"/>
          <p:cNvSpPr/>
          <p:nvPr/>
        </p:nvSpPr>
        <p:spPr>
          <a:xfrm>
            <a:off x="3505320" y="2438280"/>
            <a:ext cx="38088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Line 12"/>
          <p:cNvSpPr/>
          <p:nvPr/>
        </p:nvSpPr>
        <p:spPr>
          <a:xfrm flipH="1">
            <a:off x="6095520" y="236232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Line 13"/>
          <p:cNvSpPr/>
          <p:nvPr/>
        </p:nvSpPr>
        <p:spPr>
          <a:xfrm>
            <a:off x="723888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14"/>
          <p:cNvSpPr/>
          <p:nvPr/>
        </p:nvSpPr>
        <p:spPr>
          <a:xfrm>
            <a:off x="457200" y="4572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fspring geno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Line 15"/>
          <p:cNvSpPr/>
          <p:nvPr/>
        </p:nvSpPr>
        <p:spPr>
          <a:xfrm>
            <a:off x="2286000" y="350532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Line 16"/>
          <p:cNvSpPr/>
          <p:nvPr/>
        </p:nvSpPr>
        <p:spPr>
          <a:xfrm flipH="1">
            <a:off x="2590920" y="3276720"/>
            <a:ext cx="320040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17"/>
          <p:cNvSpPr/>
          <p:nvPr/>
        </p:nvSpPr>
        <p:spPr>
          <a:xfrm>
            <a:off x="2133720" y="4800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Line 18"/>
          <p:cNvSpPr/>
          <p:nvPr/>
        </p:nvSpPr>
        <p:spPr>
          <a:xfrm>
            <a:off x="2514600" y="3505320"/>
            <a:ext cx="4952880" cy="1218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Line 19"/>
          <p:cNvSpPr/>
          <p:nvPr/>
        </p:nvSpPr>
        <p:spPr>
          <a:xfrm>
            <a:off x="7848720" y="335268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20"/>
          <p:cNvSpPr/>
          <p:nvPr/>
        </p:nvSpPr>
        <p:spPr>
          <a:xfrm>
            <a:off x="7467480" y="4724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Line 21"/>
          <p:cNvSpPr/>
          <p:nvPr/>
        </p:nvSpPr>
        <p:spPr>
          <a:xfrm>
            <a:off x="4114800" y="335268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22"/>
          <p:cNvSpPr/>
          <p:nvPr/>
        </p:nvSpPr>
        <p:spPr>
          <a:xfrm>
            <a:off x="5867280" y="342900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23"/>
          <p:cNvSpPr/>
          <p:nvPr/>
        </p:nvSpPr>
        <p:spPr>
          <a:xfrm flipH="1">
            <a:off x="4191120" y="3200400"/>
            <a:ext cx="3581280" cy="144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Line 24"/>
          <p:cNvSpPr/>
          <p:nvPr/>
        </p:nvSpPr>
        <p:spPr>
          <a:xfrm>
            <a:off x="4191120" y="3352680"/>
            <a:ext cx="144756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25"/>
          <p:cNvSpPr/>
          <p:nvPr/>
        </p:nvSpPr>
        <p:spPr>
          <a:xfrm>
            <a:off x="5562720" y="4724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26"/>
          <p:cNvSpPr/>
          <p:nvPr/>
        </p:nvSpPr>
        <p:spPr>
          <a:xfrm>
            <a:off x="3809880" y="4800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27"/>
          <p:cNvSpPr/>
          <p:nvPr/>
        </p:nvSpPr>
        <p:spPr>
          <a:xfrm>
            <a:off x="457200" y="5638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28"/>
          <p:cNvSpPr/>
          <p:nvPr/>
        </p:nvSpPr>
        <p:spPr>
          <a:xfrm>
            <a:off x="213372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33"/>
                </a:solidFill>
                <a:latin typeface="Times New Roman"/>
              </a:rPr>
              <a:t>Red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yellow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yellow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29"/>
          <p:cNvSpPr/>
          <p:nvPr/>
        </p:nvSpPr>
        <p:spPr>
          <a:xfrm>
            <a:off x="3276720" y="59436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d 50%         yellow 5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Punnett Squar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nother method of showing cro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Line 5"/>
          <p:cNvSpPr/>
          <p:nvPr/>
        </p:nvSpPr>
        <p:spPr>
          <a:xfrm>
            <a:off x="3124080" y="2971800"/>
            <a:ext cx="0" cy="2590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Line 6"/>
          <p:cNvSpPr/>
          <p:nvPr/>
        </p:nvSpPr>
        <p:spPr>
          <a:xfrm>
            <a:off x="2666880" y="3276720"/>
            <a:ext cx="3353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Line 7"/>
          <p:cNvSpPr/>
          <p:nvPr/>
        </p:nvSpPr>
        <p:spPr>
          <a:xfrm>
            <a:off x="2590920" y="556272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Line 8"/>
          <p:cNvSpPr/>
          <p:nvPr/>
        </p:nvSpPr>
        <p:spPr>
          <a:xfrm>
            <a:off x="2590920" y="441972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Line 9"/>
          <p:cNvSpPr/>
          <p:nvPr/>
        </p:nvSpPr>
        <p:spPr>
          <a:xfrm>
            <a:off x="4495680" y="2971800"/>
            <a:ext cx="0" cy="2590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Line 10"/>
          <p:cNvSpPr/>
          <p:nvPr/>
        </p:nvSpPr>
        <p:spPr>
          <a:xfrm>
            <a:off x="6019920" y="2895480"/>
            <a:ext cx="0" cy="2667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amete genotypes are inser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Line 4"/>
          <p:cNvSpPr/>
          <p:nvPr/>
        </p:nvSpPr>
        <p:spPr>
          <a:xfrm>
            <a:off x="3124080" y="2971800"/>
            <a:ext cx="0" cy="2590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Line 5"/>
          <p:cNvSpPr/>
          <p:nvPr/>
        </p:nvSpPr>
        <p:spPr>
          <a:xfrm>
            <a:off x="2666880" y="3276720"/>
            <a:ext cx="3353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Line 6"/>
          <p:cNvSpPr/>
          <p:nvPr/>
        </p:nvSpPr>
        <p:spPr>
          <a:xfrm>
            <a:off x="2590920" y="556272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2590920" y="441972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Line 8"/>
          <p:cNvSpPr/>
          <p:nvPr/>
        </p:nvSpPr>
        <p:spPr>
          <a:xfrm>
            <a:off x="4495680" y="2971800"/>
            <a:ext cx="0" cy="2590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Line 9"/>
          <p:cNvSpPr/>
          <p:nvPr/>
        </p:nvSpPr>
        <p:spPr>
          <a:xfrm>
            <a:off x="6019920" y="2895480"/>
            <a:ext cx="0" cy="2667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7010280" y="609120"/>
            <a:ext cx="1447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533520" y="6094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arent genotypes are inserted    B=black       b=wh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12"/>
          <p:cNvSpPr/>
          <p:nvPr/>
        </p:nvSpPr>
        <p:spPr>
          <a:xfrm>
            <a:off x="4191120" y="18288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b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male bl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609480" y="3962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Text Box 14"/>
          <p:cNvSpPr/>
          <p:nvPr/>
        </p:nvSpPr>
        <p:spPr>
          <a:xfrm>
            <a:off x="838080" y="3962520"/>
            <a:ext cx="114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b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white fem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 Box 15"/>
          <p:cNvSpPr/>
          <p:nvPr/>
        </p:nvSpPr>
        <p:spPr>
          <a:xfrm>
            <a:off x="3505320" y="2590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xt Box 16"/>
          <p:cNvSpPr/>
          <p:nvPr/>
        </p:nvSpPr>
        <p:spPr>
          <a:xfrm>
            <a:off x="5029200" y="2590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17"/>
          <p:cNvSpPr/>
          <p:nvPr/>
        </p:nvSpPr>
        <p:spPr>
          <a:xfrm>
            <a:off x="2286000" y="36576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 Box 18"/>
          <p:cNvSpPr/>
          <p:nvPr/>
        </p:nvSpPr>
        <p:spPr>
          <a:xfrm>
            <a:off x="2209680" y="47242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ext Box 19"/>
          <p:cNvSpPr/>
          <p:nvPr/>
        </p:nvSpPr>
        <p:spPr>
          <a:xfrm>
            <a:off x="609480" y="16765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at are the cro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Text Box 20"/>
          <p:cNvSpPr/>
          <p:nvPr/>
        </p:nvSpPr>
        <p:spPr>
          <a:xfrm>
            <a:off x="3352680" y="3505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 Box 21"/>
          <p:cNvSpPr/>
          <p:nvPr/>
        </p:nvSpPr>
        <p:spPr>
          <a:xfrm>
            <a:off x="487692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Text Box 23"/>
          <p:cNvSpPr/>
          <p:nvPr/>
        </p:nvSpPr>
        <p:spPr>
          <a:xfrm>
            <a:off x="342900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xt Box 24"/>
          <p:cNvSpPr/>
          <p:nvPr/>
        </p:nvSpPr>
        <p:spPr>
          <a:xfrm>
            <a:off x="4876920" y="4800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Text Box 26"/>
          <p:cNvSpPr/>
          <p:nvPr/>
        </p:nvSpPr>
        <p:spPr>
          <a:xfrm>
            <a:off x="6629400" y="335268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2 white and 2 black offsp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50:50 chance with these par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3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3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75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75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39625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2 black rats are mated, they have 13 offspring. All of which are black, what are the genotypes of the par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1640" y="2285640"/>
            <a:ext cx="38098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male is re-mated with a white female, the offspring ar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6 black   and  7 wh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at were the genotypes of the original par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838080" y="14479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ats have 2 coat colours – black B, white 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762120" y="4572000"/>
            <a:ext cx="33526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oth    BB    B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B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ne could be B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4724280" y="5715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emale BB    Male B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Line 11"/>
          <p:cNvSpPr/>
          <p:nvPr/>
        </p:nvSpPr>
        <p:spPr>
          <a:xfrm flipH="1" flipV="1">
            <a:off x="3657600" y="4114440"/>
            <a:ext cx="83808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5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8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3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8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3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3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Remember think how lucky you are!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35" name="Picture 4" descr="creature"/>
          <p:cNvPicPr/>
          <p:nvPr/>
        </p:nvPicPr>
        <p:blipFill>
          <a:blip r:embed="rId1"/>
          <a:stretch/>
        </p:blipFill>
        <p:spPr>
          <a:xfrm>
            <a:off x="2971800" y="1905120"/>
            <a:ext cx="34290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Terminolog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352320" y="1828800"/>
            <a:ext cx="2667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enotype Phenotype Parent  Gamete Offsp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ominant  recessive alle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4191120" y="419112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Gene control of characteristic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ll characteristics are controlled by a minimum of 2 genes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se genes give the characteristic a different of presenting itself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ifferent genes that control the same feature are called ALLE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EYE COLOU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ossible alleles – blue , brown, green, hazel etc    (each colour needs its own gen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t is possible to have pairs of different alleles, alleles are usually given a let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5" descr="eye"/>
          <p:cNvPicPr/>
          <p:nvPr/>
        </p:nvPicPr>
        <p:blipFill>
          <a:blip r:embed="rId1"/>
          <a:stretch/>
        </p:blipFill>
        <p:spPr>
          <a:xfrm>
            <a:off x="3657600" y="32004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Genotype and phenotyp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Genotype is the letter or term used to describe the allele of an individual gene or  pair of ge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henotype – is how the gene (or pair) shows itself, how it appea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Dominance and recessivenes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ome alleles for a feature are able to mask the influence of other (weaker) gene when they are pai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ronger gene is </a:t>
            </a:r>
            <a:r>
              <a:rPr b="1" lang="en-GB" sz="3200" spc="-1" strike="noStrike">
                <a:solidFill>
                  <a:srgbClr val="ff0033"/>
                </a:solidFill>
                <a:latin typeface="Times New Roman"/>
              </a:rPr>
              <a:t>DOMINAN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and is represented by a capital letter      e.g.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masked gene is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RESSESIV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shown as lower case of the same letter      e.g.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Gene diagram – Flower colou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914400" y="2057400"/>
            <a:ext cx="73152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Genotype of alleles-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= red flower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= yellow flow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ll genes occur in pairs – so 2 alleles affect a characteristic – possible combinations ar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990720" y="4952880"/>
            <a:ext cx="7010280" cy="17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genotype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RR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r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henotype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RED             RED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 YEL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7" descr="A2PLNT26"/>
          <p:cNvPicPr/>
          <p:nvPr/>
        </p:nvPicPr>
        <p:blipFill>
          <a:blip r:embed="rId1"/>
          <a:stretch/>
        </p:blipFill>
        <p:spPr>
          <a:xfrm>
            <a:off x="7162920" y="1523880"/>
            <a:ext cx="1523880" cy="14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Gene diagram – Flower colou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2895480" y="14479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le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em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297180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670572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457200" y="19810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457200" y="1447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457200" y="2895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ame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1828800" y="28954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                     R                      r                        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Line 10"/>
          <p:cNvSpPr/>
          <p:nvPr/>
        </p:nvSpPr>
        <p:spPr>
          <a:xfrm flipH="1">
            <a:off x="2438280" y="2514600"/>
            <a:ext cx="60984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Line 11"/>
          <p:cNvSpPr/>
          <p:nvPr/>
        </p:nvSpPr>
        <p:spPr>
          <a:xfrm>
            <a:off x="3505320" y="2438280"/>
            <a:ext cx="38088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Line 12"/>
          <p:cNvSpPr/>
          <p:nvPr/>
        </p:nvSpPr>
        <p:spPr>
          <a:xfrm flipH="1">
            <a:off x="6095520" y="236232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Line 13"/>
          <p:cNvSpPr/>
          <p:nvPr/>
        </p:nvSpPr>
        <p:spPr>
          <a:xfrm>
            <a:off x="723888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457200" y="4572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fspring geno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Line 15"/>
          <p:cNvSpPr/>
          <p:nvPr/>
        </p:nvSpPr>
        <p:spPr>
          <a:xfrm>
            <a:off x="2286000" y="350532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16"/>
          <p:cNvSpPr/>
          <p:nvPr/>
        </p:nvSpPr>
        <p:spPr>
          <a:xfrm flipH="1">
            <a:off x="2590920" y="3276720"/>
            <a:ext cx="320040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2133720" y="4800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18"/>
          <p:cNvSpPr/>
          <p:nvPr/>
        </p:nvSpPr>
        <p:spPr>
          <a:xfrm>
            <a:off x="2514600" y="3505320"/>
            <a:ext cx="4952880" cy="1218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Line 19"/>
          <p:cNvSpPr/>
          <p:nvPr/>
        </p:nvSpPr>
        <p:spPr>
          <a:xfrm>
            <a:off x="7848720" y="335268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20"/>
          <p:cNvSpPr/>
          <p:nvPr/>
        </p:nvSpPr>
        <p:spPr>
          <a:xfrm>
            <a:off x="7467480" y="4648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Line 21"/>
          <p:cNvSpPr/>
          <p:nvPr/>
        </p:nvSpPr>
        <p:spPr>
          <a:xfrm>
            <a:off x="4114800" y="335268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Line 22"/>
          <p:cNvSpPr/>
          <p:nvPr/>
        </p:nvSpPr>
        <p:spPr>
          <a:xfrm>
            <a:off x="5867280" y="342900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Line 23"/>
          <p:cNvSpPr/>
          <p:nvPr/>
        </p:nvSpPr>
        <p:spPr>
          <a:xfrm flipH="1">
            <a:off x="4191120" y="3200400"/>
            <a:ext cx="3581280" cy="144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Line 24"/>
          <p:cNvSpPr/>
          <p:nvPr/>
        </p:nvSpPr>
        <p:spPr>
          <a:xfrm>
            <a:off x="4191120" y="3352680"/>
            <a:ext cx="144756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25"/>
          <p:cNvSpPr/>
          <p:nvPr/>
        </p:nvSpPr>
        <p:spPr>
          <a:xfrm>
            <a:off x="5562720" y="4724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26"/>
          <p:cNvSpPr/>
          <p:nvPr/>
        </p:nvSpPr>
        <p:spPr>
          <a:xfrm>
            <a:off x="3809880" y="4800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27"/>
          <p:cNvSpPr/>
          <p:nvPr/>
        </p:nvSpPr>
        <p:spPr>
          <a:xfrm>
            <a:off x="457200" y="5638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28"/>
          <p:cNvSpPr/>
          <p:nvPr/>
        </p:nvSpPr>
        <p:spPr>
          <a:xfrm>
            <a:off x="4267080" y="54864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ll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Gene diagram – Flower colou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2895480" y="14479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le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em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97180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670572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457200" y="19810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457200" y="1447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457200" y="2895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ame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1828800" y="28954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                     r                      R                       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Line 16"/>
          <p:cNvSpPr/>
          <p:nvPr/>
        </p:nvSpPr>
        <p:spPr>
          <a:xfrm flipH="1">
            <a:off x="2438280" y="2514600"/>
            <a:ext cx="60984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Line 17"/>
          <p:cNvSpPr/>
          <p:nvPr/>
        </p:nvSpPr>
        <p:spPr>
          <a:xfrm>
            <a:off x="3505320" y="2438280"/>
            <a:ext cx="38088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Line 18"/>
          <p:cNvSpPr/>
          <p:nvPr/>
        </p:nvSpPr>
        <p:spPr>
          <a:xfrm flipH="1">
            <a:off x="6095520" y="236232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Line 19"/>
          <p:cNvSpPr/>
          <p:nvPr/>
        </p:nvSpPr>
        <p:spPr>
          <a:xfrm>
            <a:off x="723888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20"/>
          <p:cNvSpPr/>
          <p:nvPr/>
        </p:nvSpPr>
        <p:spPr>
          <a:xfrm>
            <a:off x="457200" y="4572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fspring geno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Line 21"/>
          <p:cNvSpPr/>
          <p:nvPr/>
        </p:nvSpPr>
        <p:spPr>
          <a:xfrm>
            <a:off x="2286000" y="350532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Line 22"/>
          <p:cNvSpPr/>
          <p:nvPr/>
        </p:nvSpPr>
        <p:spPr>
          <a:xfrm flipH="1">
            <a:off x="2590920" y="3276720"/>
            <a:ext cx="320040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23"/>
          <p:cNvSpPr/>
          <p:nvPr/>
        </p:nvSpPr>
        <p:spPr>
          <a:xfrm>
            <a:off x="2133720" y="4800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Line 24"/>
          <p:cNvSpPr/>
          <p:nvPr/>
        </p:nvSpPr>
        <p:spPr>
          <a:xfrm>
            <a:off x="2514600" y="3505320"/>
            <a:ext cx="4952880" cy="1218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Line 25"/>
          <p:cNvSpPr/>
          <p:nvPr/>
        </p:nvSpPr>
        <p:spPr>
          <a:xfrm>
            <a:off x="7848720" y="335268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27"/>
          <p:cNvSpPr/>
          <p:nvPr/>
        </p:nvSpPr>
        <p:spPr>
          <a:xfrm>
            <a:off x="7467480" y="4648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Line 28"/>
          <p:cNvSpPr/>
          <p:nvPr/>
        </p:nvSpPr>
        <p:spPr>
          <a:xfrm>
            <a:off x="4114800" y="335268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Line 29"/>
          <p:cNvSpPr/>
          <p:nvPr/>
        </p:nvSpPr>
        <p:spPr>
          <a:xfrm>
            <a:off x="5867280" y="342900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Line 30"/>
          <p:cNvSpPr/>
          <p:nvPr/>
        </p:nvSpPr>
        <p:spPr>
          <a:xfrm flipH="1">
            <a:off x="4191120" y="3200400"/>
            <a:ext cx="3581280" cy="144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Line 31"/>
          <p:cNvSpPr/>
          <p:nvPr/>
        </p:nvSpPr>
        <p:spPr>
          <a:xfrm>
            <a:off x="4191120" y="3352680"/>
            <a:ext cx="144756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32"/>
          <p:cNvSpPr/>
          <p:nvPr/>
        </p:nvSpPr>
        <p:spPr>
          <a:xfrm>
            <a:off x="5562720" y="4724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33"/>
          <p:cNvSpPr/>
          <p:nvPr/>
        </p:nvSpPr>
        <p:spPr>
          <a:xfrm>
            <a:off x="3886200" y="4724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34"/>
          <p:cNvSpPr/>
          <p:nvPr/>
        </p:nvSpPr>
        <p:spPr>
          <a:xfrm>
            <a:off x="457200" y="5638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35"/>
          <p:cNvSpPr/>
          <p:nvPr/>
        </p:nvSpPr>
        <p:spPr>
          <a:xfrm>
            <a:off x="2133720" y="5486400"/>
            <a:ext cx="601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36"/>
          <p:cNvSpPr/>
          <p:nvPr/>
        </p:nvSpPr>
        <p:spPr>
          <a:xfrm>
            <a:off x="2057400" y="556272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Red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yellow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GB" sz="2800" spc="-1" strike="noStrike">
                <a:solidFill>
                  <a:srgbClr val="ff0033"/>
                </a:solidFill>
                <a:latin typeface="Times New Roman"/>
              </a:rPr>
              <a:t>red              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37"/>
          <p:cNvSpPr/>
          <p:nvPr/>
        </p:nvSpPr>
        <p:spPr>
          <a:xfrm>
            <a:off x="2895480" y="6095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3 red    :   1 yel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2T17:00:18Z</dcterms:created>
  <dc:creator>Rik G</dc:creator>
  <dc:description/>
  <dc:language>en-US</dc:language>
  <cp:lastModifiedBy>RomaK</cp:lastModifiedBy>
  <dcterms:modified xsi:type="dcterms:W3CDTF">2015-09-04T11:32:07Z</dcterms:modified>
  <cp:revision>25</cp:revision>
  <dc:subject/>
  <dc:title>Genetic Crosses</dc:title>
</cp:coreProperties>
</file>