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6BCB-8D93-449D-AB73-C2899563BD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54D-2541-4B14-84A1-ABE09F05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EE7-C89E-4385-9B69-195DB55B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2B1-1E04-4DFE-B0A2-79539F14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024-7B38-4E33-9DBB-3C4ACA89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3E7-1274-40E4-A31C-46BF6E36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D338-212B-45F7-A86E-7F2C26F5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092-0452-494F-8F88-814CBE7A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419-E877-4DAD-92F2-C264D9A2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C62-5741-4AA7-BDA5-08B4D667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95D-6751-488D-AB10-665D9025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F5F-D7E5-4543-952E-46A5D134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738-0D96-47BF-9668-B3BB6E7A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F7FB-41AD-448F-8BED-D032A7CC1A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nciples of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plica pla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4" descr="Image251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3672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4: Multiplication of the host cells by clon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cale fermenters by clo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genetically identical because of asexual rep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5: Extraction of desired gene produc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8376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tic engineering, also known a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combinant DNA technolo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means altering the genes in a living organism to produc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Genetically Modified Organism (GMO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ith a new genotyp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ous kinds of genetic modification are possible: inserting a foreign gene from one species into another, forming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genic organis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; altering an existing gene so that its product is changed; or changing gene expression so that it is translated more often or not at al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sic steps in genetic engineer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ate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sert it in a host using a ve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duce as many copies of the host as possi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e and purify the product of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ep 1: Isolating the ge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Image24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63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1: Alternative method (using reverse transcriptase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verse transcript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RNA converted into c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mentary strand produced using DNA polymer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dvantage – more mRNA in cell than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2: Inserting gene into vect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345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c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– molecule of DNA which is used to carry a foreign gene into a  host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plasmid-text"/>
          <p:cNvPicPr/>
          <p:nvPr/>
        </p:nvPicPr>
        <p:blipFill>
          <a:blip r:embed="rId1"/>
          <a:stretch/>
        </p:blipFill>
        <p:spPr>
          <a:xfrm>
            <a:off x="4788000" y="1052640"/>
            <a:ext cx="3571920" cy="5391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pbr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Image24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7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3: inserting vector into ho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e workshe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4" descr="Image250"/>
          <p:cNvPicPr/>
          <p:nvPr/>
        </p:nvPicPr>
        <p:blipFill>
          <a:blip r:embed="rId1"/>
          <a:stretch/>
        </p:blipFill>
        <p:spPr>
          <a:xfrm>
            <a:off x="468360" y="2421000"/>
            <a:ext cx="8207280" cy="3960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0:58:35Z</dcterms:created>
  <dc:creator>Matis</dc:creator>
  <dc:description/>
  <dc:language>en-US</dc:language>
  <cp:lastModifiedBy>LEGION2</cp:lastModifiedBy>
  <dcterms:modified xsi:type="dcterms:W3CDTF">2016-01-12T10:47:48Z</dcterms:modified>
  <cp:revision>9</cp:revision>
  <dc:subject/>
  <dc:title>Principles of genetic engineering</dc:title>
</cp:coreProperties>
</file>