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4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2D55-9305-4FDE-B174-B671C2AD2B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s can alter the DNA code of living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genic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s can alter the DNA code of living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genic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DNA in a Goa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oat contains a human gene that codes for a blood clotting agent.  The blood clotting agent can be harvested in the goat’s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G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DNA in a Goa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oat contains a human gene that codes for a blood clotting agent.  The blood clotting agent can be harvested in the goat’s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G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red DNA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d to an egg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red DNA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d to an egg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 Ha H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 Ha H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e Scene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e Scene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 allows scientists to make many copies of  a piece of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the DNA so it “unzip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Add the complementary nitrogenous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Allow DNA to cool so the complementary strands can “zip”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 allows scientists to make many copies of  a piece of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the DNA so it “unzip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Add the complementary nitrogenous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Allow DNA to cool so the complementary strands can “zip”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chnology allows scientists to identify someone’s DN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chnology allows scientists to identify someone’s DN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volved in 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 “Cut” DNA sample with restriction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Run the DNA fragments through a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Bands will form in the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Everyone’s DNA bands are unique and can be used to identify a per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 DNA bands are like “genetic fingerprint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volved in 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 “Cut” DNA sample with restriction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Run the DNA fragments through a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Bands will form in the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Everyone’s DNA bands are unique and can be used to identify a per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 DNA bands are like “genetic fingerprint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ed only those plants or animals with desirable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have been using selective breeding for 1000’s of years with farm crops and domesticated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ed only those plants or animals with desirable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have been using selective breeding for 1000’s of years with farm crops and domesticated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combine the DNA of one organism with the DNA of another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 technology was first used in the 1970’s with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combine the DNA of one organism with the DNA of another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 technology was first used in the 1970’s with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 bacterial DNA (plas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Bacterial DNA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DNA from another organism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cut pieces of DNA together with another enzyme and insert them into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 the recombinant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eign genes will be expressed in the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 bacterial DNA (plas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Bacterial DNA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DNA from another organism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cut pieces of DNA together with another enzyme and insert them into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 the recombinant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eign genes will be expressed in the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make human insulin or human growth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be engineered to “eat” oil sp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make human insulin or human growth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be engineered to “eat” oil sp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of plants and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n also be altere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-resistant and insect-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Hardier fru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70-75% of food in supermarket is genetically mod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of plants and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n also be altere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-resistant and insect-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Hardier fru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70-75% of food in supermarket is genetically mod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Genetic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reate recombinant   bacteria with desired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Allow the bacteria to “infect" the plant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Desired gene is inserted into plant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Genetic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reate recombinant   bacteria with desired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Allow the bacteria to “infect" the plant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Desired gene is inserted into plant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about eating genetically modified foo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about eating genetically modified foo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modified organisms are called transgenic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e – used to study human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s – more resistant to inf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s – increase milk supply and leaner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Goats, sheep and pigs – produce human proteins in their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modified organisms are called transgenic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e – used to study human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s – more resistant to inf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s – increase milk supply and leaner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Goats, sheep and pigs – produce human proteins in their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A465-8EE5-445B-9EEC-1E69A204E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6CD2-C142-44BB-A8D6-414448E3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7602-1BE2-4881-964E-F65AF71C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8135-C9BB-48DE-97C4-9B43EC18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BA96-DB0D-4AC4-8661-679B906C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B3E5-292E-41A9-B4D5-0590ECB6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4726-80FE-4F85-A9FA-580A6D2E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2E82-B06F-4C51-A6B1-F269529A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444A-3FCE-4EE5-9DF3-70017961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59BE-DB82-4327-AAE1-67046755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9F70-55AC-4D52-AA74-A3751BE8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33B2-9B49-4F8B-B070-92F19E63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4E70-18AC-4B2E-A34A-0F2AF97F2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umanasinc.com/webcontent/animations/content/pcr.html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dnalc.org/ddnalc/resources/electrophoresis.htm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 Engineers can alter the DNA code of living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genic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dna_rgb"/>
          <p:cNvPicPr/>
          <p:nvPr/>
        </p:nvPicPr>
        <p:blipFill>
          <a:blip r:embed="rId1"/>
          <a:stretch/>
        </p:blipFill>
        <p:spPr>
          <a:xfrm>
            <a:off x="838080" y="3886200"/>
            <a:ext cx="2743200" cy="21938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447920" y="5562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DNA in a Goat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5105520" y="4876920"/>
            <a:ext cx="342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oat contains a human gene that codes for a blood clotting agent.  The blood clotting agent can be harvested in the goat’s mil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6462360" y="468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intro"/>
          <p:cNvPicPr/>
          <p:nvPr/>
        </p:nvPicPr>
        <p:blipFill>
          <a:blip r:embed="rId1"/>
          <a:stretch/>
        </p:blipFill>
        <p:spPr>
          <a:xfrm>
            <a:off x="304920" y="1676520"/>
            <a:ext cx="4038480" cy="3589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_41371368_atryn_goat_bbc_203"/>
          <p:cNvPicPr/>
          <p:nvPr/>
        </p:nvPicPr>
        <p:blipFill>
          <a:blip r:embed="rId2"/>
          <a:stretch/>
        </p:blipFill>
        <p:spPr>
          <a:xfrm>
            <a:off x="5257800" y="2057400"/>
            <a:ext cx="3048120" cy="2282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5"/>
          <p:cNvSpPr/>
          <p:nvPr/>
        </p:nvSpPr>
        <p:spPr>
          <a:xfrm>
            <a:off x="1143000" y="304920"/>
            <a:ext cx="6781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2280600" y="407880"/>
            <a:ext cx="418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genic Go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transgencalf"/>
          <p:cNvPicPr/>
          <p:nvPr/>
        </p:nvPicPr>
        <p:blipFill>
          <a:blip r:embed="rId1"/>
          <a:stretch/>
        </p:blipFill>
        <p:spPr>
          <a:xfrm>
            <a:off x="685800" y="1371600"/>
            <a:ext cx="3859200" cy="49989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6537240" y="1109520"/>
            <a:ext cx="184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5334120" y="2286000"/>
            <a:ext cx="31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red DNA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ed to an egg c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to Create 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genic Ani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3a2c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a Ha H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shr0200l"/>
          <p:cNvPicPr/>
          <p:nvPr/>
        </p:nvPicPr>
        <p:blipFill>
          <a:blip r:embed="rId1"/>
          <a:stretch/>
        </p:blipFill>
        <p:spPr>
          <a:xfrm>
            <a:off x="3048120" y="1981080"/>
            <a:ext cx="3076560" cy="381024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tic Engineering an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rime Scene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lemontree"/>
          <p:cNvPicPr/>
          <p:nvPr/>
        </p:nvPicPr>
        <p:blipFill>
          <a:blip r:embed="rId1"/>
          <a:stretch/>
        </p:blipFill>
        <p:spPr>
          <a:xfrm>
            <a:off x="1066680" y="1905120"/>
            <a:ext cx="6743880" cy="47624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R allows scientists to make many copies of  a piece of D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the DNA so it “unzip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Add the complementary nitrogenous 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Allow DNA to cool so the complementary strands can “zip”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biol_03_img03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600200"/>
            <a:ext cx="2400480" cy="499104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l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echnology allows scientists to identify someone’s DN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gel_plate_600"/>
          <p:cNvPicPr/>
          <p:nvPr/>
        </p:nvPicPr>
        <p:blipFill>
          <a:blip r:embed="rId1"/>
          <a:stretch/>
        </p:blipFill>
        <p:spPr>
          <a:xfrm>
            <a:off x="4952880" y="2209680"/>
            <a:ext cx="3086280" cy="41148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0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5f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eps Involved in Gel Electrophor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 “Cut” DNA sample with restriction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Run the DNA fragments through a g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Bands will form in the g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Everyone’s DNA bands are unique and can be used to identify a per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 DNA bands are like “genetic fingerprint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I11-50-gelectrophoresi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1981080"/>
            <a:ext cx="4572000" cy="31086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efa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ed only those plants or animals with desirable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have been using selective breeding for 1000’s of years with farm crops and domesticated an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bio_dogs"/>
          <p:cNvPicPr/>
          <p:nvPr/>
        </p:nvPicPr>
        <p:blipFill>
          <a:blip r:embed="rId1"/>
          <a:stretch/>
        </p:blipFill>
        <p:spPr>
          <a:xfrm>
            <a:off x="5334120" y="1447920"/>
            <a:ext cx="3047760" cy="1638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daffadil2_s"/>
          <p:cNvPicPr/>
          <p:nvPr/>
        </p:nvPicPr>
        <p:blipFill>
          <a:blip r:embed="rId2"/>
          <a:stretch/>
        </p:blipFill>
        <p:spPr>
          <a:xfrm>
            <a:off x="6553080" y="3200400"/>
            <a:ext cx="2057400" cy="141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CaulliDM_468x518"/>
          <p:cNvPicPr/>
          <p:nvPr/>
        </p:nvPicPr>
        <p:blipFill>
          <a:blip r:embed="rId3"/>
          <a:stretch/>
        </p:blipFill>
        <p:spPr>
          <a:xfrm>
            <a:off x="6629400" y="4876920"/>
            <a:ext cx="1677960" cy="1857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300px-Jersey_cattle_in_Jersey"/>
          <p:cNvPicPr/>
          <p:nvPr/>
        </p:nvPicPr>
        <p:blipFill>
          <a:blip r:embed="rId4"/>
          <a:stretch/>
        </p:blipFill>
        <p:spPr>
          <a:xfrm>
            <a:off x="4876920" y="3352680"/>
            <a:ext cx="1428480" cy="19051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75e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ility to combine the DNA of one organism with the DNA of another organ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binant DNA technology was first used in the 1970’s with bac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12"/>
          <p:cNvPicPr/>
          <p:nvPr/>
        </p:nvPicPr>
        <p:blipFill>
          <a:blip r:embed="rId1"/>
          <a:stretch/>
        </p:blipFill>
        <p:spPr>
          <a:xfrm>
            <a:off x="4952880" y="160020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ombinant Bac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bacterial DNA (plasmi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 the Bacterial DNA with “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estriction enzy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 the DNA from another organism with “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estriction enzyme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 the cut pieces of DNA together with another enzyme and insert them into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e the recombinant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eign genes will be expressed in the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DNAtwo"/>
          <p:cNvPicPr/>
          <p:nvPr/>
        </p:nvPicPr>
        <p:blipFill>
          <a:blip r:embed="rId1"/>
          <a:stretch/>
        </p:blipFill>
        <p:spPr>
          <a:xfrm>
            <a:off x="152280" y="2057400"/>
            <a:ext cx="4286520" cy="37432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dfb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nefits of Recombinant Bac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can make human insulin or human growth horm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can be engineered to “eat” oil sp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346917"/>
          <p:cNvPicPr/>
          <p:nvPr/>
        </p:nvPicPr>
        <p:blipFill>
          <a:blip r:embed="rId1"/>
          <a:stretch/>
        </p:blipFill>
        <p:spPr>
          <a:xfrm>
            <a:off x="3200400" y="4267080"/>
            <a:ext cx="4114800" cy="20574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DNA of plants and animal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an also be altered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disease-resistant and insect-resistant c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2.   Hardier fru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3.   70-75% of food in supermarket is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genetically mod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food-genetically_modified_organisms_01"/>
          <p:cNvPicPr/>
          <p:nvPr/>
        </p:nvPicPr>
        <p:blipFill>
          <a:blip r:embed="rId1"/>
          <a:stretch/>
        </p:blipFill>
        <p:spPr>
          <a:xfrm>
            <a:off x="4724280" y="1828800"/>
            <a:ext cx="1492200" cy="1905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_128926_gm_food_300_(08-07-98)_grab"/>
          <p:cNvPicPr/>
          <p:nvPr/>
        </p:nvPicPr>
        <p:blipFill>
          <a:blip r:embed="rId2"/>
          <a:stretch/>
        </p:blipFill>
        <p:spPr>
          <a:xfrm>
            <a:off x="4648320" y="4572000"/>
            <a:ext cx="2857320" cy="1714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persp18_22"/>
          <p:cNvPicPr/>
          <p:nvPr/>
        </p:nvPicPr>
        <p:blipFill>
          <a:blip r:embed="rId3"/>
          <a:stretch/>
        </p:blipFill>
        <p:spPr>
          <a:xfrm>
            <a:off x="6400800" y="2514600"/>
            <a:ext cx="2381400" cy="19051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to Create a Genetically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ified Pl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0060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Create recombinant   bacteria with desired g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llow the bacteria to “infect" the plant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esired gene is inserted into plant chromos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transgeniccrop"/>
          <p:cNvPicPr/>
          <p:nvPr/>
        </p:nvPicPr>
        <p:blipFill>
          <a:blip r:embed="rId1"/>
          <a:stretch/>
        </p:blipFill>
        <p:spPr>
          <a:xfrm>
            <a:off x="609480" y="2286000"/>
            <a:ext cx="3762360" cy="256212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3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a3ffa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 you think about eating genetically modified foo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nrg0301_217a_i1"/>
          <p:cNvPicPr/>
          <p:nvPr/>
        </p:nvPicPr>
        <p:blipFill>
          <a:blip r:embed="rId1"/>
          <a:stretch/>
        </p:blipFill>
        <p:spPr>
          <a:xfrm>
            <a:off x="5486400" y="2971800"/>
            <a:ext cx="2857680" cy="3048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shr0795l"/>
          <p:cNvPicPr/>
          <p:nvPr/>
        </p:nvPicPr>
        <p:blipFill>
          <a:blip r:embed="rId2"/>
          <a:stretch/>
        </p:blipFill>
        <p:spPr>
          <a:xfrm>
            <a:off x="685800" y="2209680"/>
            <a:ext cx="3448080" cy="38102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dadad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tically modified organisms are called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ransgenic organism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GENIC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e – used to study human immun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ckens – more resistant to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ws – increase milk supply and leaner m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Goats, sheep and pigs – produce human proteins in their mi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chicken160107"/>
          <p:cNvPicPr/>
          <p:nvPr/>
        </p:nvPicPr>
        <p:blipFill>
          <a:blip r:embed="rId1"/>
          <a:stretch/>
        </p:blipFill>
        <p:spPr>
          <a:xfrm>
            <a:off x="4724280" y="2133720"/>
            <a:ext cx="1905120" cy="2609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transgenic_mice"/>
          <p:cNvPicPr/>
          <p:nvPr/>
        </p:nvPicPr>
        <p:blipFill>
          <a:blip r:embed="rId2"/>
          <a:stretch/>
        </p:blipFill>
        <p:spPr>
          <a:xfrm>
            <a:off x="6858000" y="3505320"/>
            <a:ext cx="1809720" cy="18763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22:09:59Z</dcterms:created>
  <dc:creator>Tim Lally</dc:creator>
  <dc:description/>
  <dc:language>en-US</dc:language>
  <cp:lastModifiedBy>LEGION2</cp:lastModifiedBy>
  <dcterms:modified xsi:type="dcterms:W3CDTF">2016-01-12T10:50:21Z</dcterms:modified>
  <cp:revision>104</cp:revision>
  <dc:subject/>
  <dc:title>Genetic Engineering</dc:title>
</cp:coreProperties>
</file>