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1.png" ContentType="image/png"/>
  <Override PartName="/ppt/media/image17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4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199F4-3DDD-49BE-A89C-3647D2B0F6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Bacterial DNA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the DNA from another organism with “restriction enzymes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-resistant and insect-resistant cr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 Hardier frui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 70-75% of food in supermarket is genetically modifi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ally modified organisms are called transgenic org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GENIC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FC6E-61CF-4A82-8FE4-817C6B66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EACD-B40D-403F-B9D4-C620EF5D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9EFD-29F6-4BF0-B44D-B552AE66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1B1C-71D1-41C7-A8F0-48B73C5C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F361-C4B7-41C1-82D0-4CB0D2E1C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1180-70CA-4F7E-908F-EC33D01C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501D-C33C-4740-BF54-6E573ACB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E4C7-6DAA-4450-BDCC-683283CA2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D79F-1125-454F-9B81-BFADD196C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35BF-135B-4333-98F2-00DD32BF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A493-3A2C-4793-B0DD-AA7CF459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AE01-0A70-44AE-9BD3-7A51A7AB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B441-51F6-4257-8C2A-D512D4995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umanasinc.com/webcontent/animations/content/pcr.html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dnalc.org/ddnalc/resources/electrophoresi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netic Enginee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tic Engineers can alter the DNA code of living organis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l Electrophor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genic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dna_rgb"/>
          <p:cNvPicPr/>
          <p:nvPr/>
        </p:nvPicPr>
        <p:blipFill>
          <a:blip r:embed="rId1"/>
          <a:stretch/>
        </p:blipFill>
        <p:spPr>
          <a:xfrm>
            <a:off x="838080" y="3886200"/>
            <a:ext cx="2743200" cy="21938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447920" y="55627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man DNA in a Goat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5105520" y="4876920"/>
            <a:ext cx="3429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oat contains a human gene that codes for a blood clotting agent.  The blood clotting agent can be harvested in the goat’s mil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6462360" y="46846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3" descr="intro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3589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_41371368_atryn_goat_bbc_203"/>
          <p:cNvPicPr/>
          <p:nvPr/>
        </p:nvPicPr>
        <p:blipFill>
          <a:blip r:embed="rId2"/>
          <a:stretch/>
        </p:blipFill>
        <p:spPr>
          <a:xfrm>
            <a:off x="5257800" y="2057400"/>
            <a:ext cx="3048120" cy="2282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5"/>
          <p:cNvSpPr/>
          <p:nvPr/>
        </p:nvSpPr>
        <p:spPr>
          <a:xfrm>
            <a:off x="1143000" y="304920"/>
            <a:ext cx="6781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2280600" y="407880"/>
            <a:ext cx="418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Go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transgencalf"/>
          <p:cNvPicPr/>
          <p:nvPr/>
        </p:nvPicPr>
        <p:blipFill>
          <a:blip r:embed="rId1"/>
          <a:stretch/>
        </p:blipFill>
        <p:spPr>
          <a:xfrm>
            <a:off x="685800" y="1371600"/>
            <a:ext cx="3859200" cy="49989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6537240" y="1109520"/>
            <a:ext cx="184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5334120" y="2286000"/>
            <a:ext cx="3124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sired DNA i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ed to an egg ce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to Create a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ransgenic Anim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ff"/>
            </a:gs>
            <a:gs pos="100000">
              <a:srgbClr val="3a2c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a Ha H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shr0200l"/>
          <p:cNvPicPr/>
          <p:nvPr/>
        </p:nvPicPr>
        <p:blipFill>
          <a:blip r:embed="rId1"/>
          <a:stretch/>
        </p:blipFill>
        <p:spPr>
          <a:xfrm>
            <a:off x="3048120" y="1981080"/>
            <a:ext cx="3076560" cy="381024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8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tic Engineering and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rime Scene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8" descr="lemontree"/>
          <p:cNvPicPr/>
          <p:nvPr/>
        </p:nvPicPr>
        <p:blipFill>
          <a:blip r:embed="rId1"/>
          <a:stretch/>
        </p:blipFill>
        <p:spPr>
          <a:xfrm>
            <a:off x="1066680" y="1905120"/>
            <a:ext cx="6743880" cy="476244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9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erase Chain Reactio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C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R allows scientists to make many copies of  a piece of D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he DNA so it “unzip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Add the complementary nitrogenous 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 Allow DNA to cool so the complementary strands can “zip”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7" descr="biol_03_img03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1600200"/>
            <a:ext cx="2400480" cy="499104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0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el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technology allows scientists to identify someone’s DN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gel_plate_600"/>
          <p:cNvPicPr/>
          <p:nvPr/>
        </p:nvPicPr>
        <p:blipFill>
          <a:blip r:embed="rId1"/>
          <a:stretch/>
        </p:blipFill>
        <p:spPr>
          <a:xfrm>
            <a:off x="4952880" y="22096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9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5f2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eps Involved in Gel Electrophor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 “Cut” DNA sample with restriction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 Run the DNA fragments through a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  Bands will form in the g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Everyone’s DNA bands are unique and can be used to identify a per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 DNA bands are like “genetic fingerprint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9" descr="I11-50-gelectrophoresi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43400" y="1981080"/>
            <a:ext cx="4572000" cy="31086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0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efa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lective Breed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 only those plants or animals with desirable tra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have been using selective breeding for 1000’s of years with farm crops and domesticated anim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bio_dogs"/>
          <p:cNvPicPr/>
          <p:nvPr/>
        </p:nvPicPr>
        <p:blipFill>
          <a:blip r:embed="rId1"/>
          <a:stretch/>
        </p:blipFill>
        <p:spPr>
          <a:xfrm>
            <a:off x="5334120" y="1447920"/>
            <a:ext cx="3047760" cy="163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daffadil2_s"/>
          <p:cNvPicPr/>
          <p:nvPr/>
        </p:nvPicPr>
        <p:blipFill>
          <a:blip r:embed="rId2"/>
          <a:stretch/>
        </p:blipFill>
        <p:spPr>
          <a:xfrm>
            <a:off x="6553080" y="3200400"/>
            <a:ext cx="2057400" cy="1413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aulliDM_468x518"/>
          <p:cNvPicPr/>
          <p:nvPr/>
        </p:nvPicPr>
        <p:blipFill>
          <a:blip r:embed="rId3"/>
          <a:stretch/>
        </p:blipFill>
        <p:spPr>
          <a:xfrm>
            <a:off x="6629400" y="4876920"/>
            <a:ext cx="1677960" cy="1857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3" descr="300px-Jersey_cattle_in_Jersey"/>
          <p:cNvPicPr/>
          <p:nvPr/>
        </p:nvPicPr>
        <p:blipFill>
          <a:blip r:embed="rId4"/>
          <a:stretch/>
        </p:blipFill>
        <p:spPr>
          <a:xfrm>
            <a:off x="4876920" y="3352680"/>
            <a:ext cx="1428480" cy="190512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475e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D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bility to combine the DNA of one organism with the DNA of another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binant DNA technology was first used in the 1970’s with bac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2"/>
          <p:cNvPicPr/>
          <p:nvPr/>
        </p:nvPicPr>
        <p:blipFill>
          <a:blip r:embed="rId1"/>
          <a:stretch/>
        </p:blipFill>
        <p:spPr>
          <a:xfrm>
            <a:off x="4952880" y="1600200"/>
            <a:ext cx="2857680" cy="380988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8320" y="1371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bacterial DNA (plasmi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Bacterial DNA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t the DNA from another organism with “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restriction enzym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 the cut pieces of DNA together with another enzyme and insert them into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roduce the recombinant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reign genes will be expressed in the bacte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1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DNAtwo"/>
          <p:cNvPicPr/>
          <p:nvPr/>
        </p:nvPicPr>
        <p:blipFill>
          <a:blip r:embed="rId1"/>
          <a:stretch/>
        </p:blipFill>
        <p:spPr>
          <a:xfrm>
            <a:off x="152280" y="2057400"/>
            <a:ext cx="4286520" cy="374328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0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ffdfbe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nefits of Recombinant Bac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make human insulin or human growth horm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can be engineered to “eat” oil sp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346917"/>
          <p:cNvPicPr/>
          <p:nvPr/>
        </p:nvPicPr>
        <p:blipFill>
          <a:blip r:embed="rId1"/>
          <a:stretch/>
        </p:blipFill>
        <p:spPr>
          <a:xfrm>
            <a:off x="3200400" y="4267080"/>
            <a:ext cx="4114800" cy="20574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NA of plants and animals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can also be altered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Arial"/>
              </a:rPr>
              <a:t>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disease-resistant and insect-resistant c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2.   Hardier fru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3.   70-75% of food in supermarket is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genetically mod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food-genetically_modified_organisms_01"/>
          <p:cNvPicPr/>
          <p:nvPr/>
        </p:nvPicPr>
        <p:blipFill>
          <a:blip r:embed="rId1"/>
          <a:stretch/>
        </p:blipFill>
        <p:spPr>
          <a:xfrm>
            <a:off x="4724280" y="1828800"/>
            <a:ext cx="1492200" cy="1905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_128926_gm_food_300_(08-07-98)_grab"/>
          <p:cNvPicPr/>
          <p:nvPr/>
        </p:nvPicPr>
        <p:blipFill>
          <a:blip r:embed="rId2"/>
          <a:stretch/>
        </p:blipFill>
        <p:spPr>
          <a:xfrm>
            <a:off x="4648320" y="4572000"/>
            <a:ext cx="2857320" cy="1714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persp18_22"/>
          <p:cNvPicPr/>
          <p:nvPr/>
        </p:nvPicPr>
        <p:blipFill>
          <a:blip r:embed="rId3"/>
          <a:stretch/>
        </p:blipFill>
        <p:spPr>
          <a:xfrm>
            <a:off x="6400800" y="2514600"/>
            <a:ext cx="2381400" cy="19051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 to Create a Genetically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odified Pl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00600" y="1981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Create recombinant   bacteria with desired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llow the bacteria to “infect" the plant ce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esired gene is inserted into plant chromos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transgeniccrop"/>
          <p:cNvPicPr/>
          <p:nvPr/>
        </p:nvPicPr>
        <p:blipFill>
          <a:blip r:embed="rId1"/>
          <a:stretch/>
        </p:blipFill>
        <p:spPr>
          <a:xfrm>
            <a:off x="609480" y="2286000"/>
            <a:ext cx="3762360" cy="2562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3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a3ffa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do you think about eating genetically modified foo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nrg0301_217a_i1"/>
          <p:cNvPicPr/>
          <p:nvPr/>
        </p:nvPicPr>
        <p:blipFill>
          <a:blip r:embed="rId1"/>
          <a:stretch/>
        </p:blipFill>
        <p:spPr>
          <a:xfrm>
            <a:off x="5486400" y="2971800"/>
            <a:ext cx="2857680" cy="3048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shr0795l"/>
          <p:cNvPicPr/>
          <p:nvPr/>
        </p:nvPicPr>
        <p:blipFill>
          <a:blip r:embed="rId2"/>
          <a:stretch/>
        </p:blipFill>
        <p:spPr>
          <a:xfrm>
            <a:off x="685800" y="2209680"/>
            <a:ext cx="3448080" cy="381024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dddd"/>
            </a:gs>
            <a:gs pos="100000">
              <a:srgbClr val="dada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netically modified organisms are called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transgenic organism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GENIC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e – used to study human 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ckens – more resistant to inf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ws – increase milk supply and leaner me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 Goats, sheep and pigs – produce human proteins in their mi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chicken160107"/>
          <p:cNvPicPr/>
          <p:nvPr/>
        </p:nvPicPr>
        <p:blipFill>
          <a:blip r:embed="rId1"/>
          <a:stretch/>
        </p:blipFill>
        <p:spPr>
          <a:xfrm>
            <a:off x="4724280" y="2133720"/>
            <a:ext cx="1905120" cy="2609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transgenic_mice"/>
          <p:cNvPicPr/>
          <p:nvPr/>
        </p:nvPicPr>
        <p:blipFill>
          <a:blip r:embed="rId2"/>
          <a:stretch/>
        </p:blipFill>
        <p:spPr>
          <a:xfrm>
            <a:off x="6858000" y="3505320"/>
            <a:ext cx="1809720" cy="187632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22:09:59Z</dcterms:created>
  <dc:creator>Tim Lally</dc:creator>
  <dc:description/>
  <dc:language>en-US</dc:language>
  <cp:lastModifiedBy>LEGION2</cp:lastModifiedBy>
  <dcterms:modified xsi:type="dcterms:W3CDTF">2016-01-12T10:50:21Z</dcterms:modified>
  <cp:revision>104</cp:revision>
  <dc:subject/>
  <dc:title>Genetic Engineering</dc:title>
</cp:coreProperties>
</file>