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F720-A552-434D-9BE6-DE152E358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&amp; 2,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&amp; 2 – The alkali metals and the 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 the alkali metals are the alkaline earth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ne earth metals are reactive, but not as reactive as the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CF8-6708-4ED9-BDB7-679D089A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2CE-F857-4658-AAC1-15643DF4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D63-9282-48FF-B4BC-8F8A83EC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94C-D190-4763-90FE-16666A47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749-574F-40B8-A5A8-6CC8EE97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24B-90CF-4824-8174-E113DCBC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F5E-120B-421A-949F-4764968F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FBB-A870-48C9-8B0C-8957FB2A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F5C-CAAA-4890-9B56-3AD0FE46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EA9C-8FFF-4F63-B3E9-9B0E96CE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B7D-1EEA-4C46-8876-B8E7E26B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46A5-2CD1-4891-ADBD-B83D1F56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D7AF-46C1-40F1-9FA4-32B1E2203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oups 1 &amp; 2,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&amp; 2 – The alkali metals and the alkaline earth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2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61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533520" y="2174760"/>
            <a:ext cx="8381880" cy="2445480"/>
            <a:chOff x="533520" y="2174760"/>
            <a:chExt cx="8381880" cy="2445480"/>
          </a:xfrm>
        </p:grpSpPr>
        <p:sp>
          <p:nvSpPr>
            <p:cNvPr id="70" name="Text Box 5"/>
            <p:cNvSpPr/>
            <p:nvPr/>
          </p:nvSpPr>
          <p:spPr>
            <a:xfrm>
              <a:off x="882720" y="2576520"/>
              <a:ext cx="4222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nd has a higher melting point than the alkali metal in the same peri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533520" y="2174760"/>
              <a:ext cx="83818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ach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ne earth metal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is denser and hard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7"/>
          <p:cNvSpPr/>
          <p:nvPr/>
        </p:nvSpPr>
        <p:spPr>
          <a:xfrm>
            <a:off x="1570680" y="685800"/>
            <a:ext cx="4522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ne Earth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 to the alkali metals are the alkaline earth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33520" y="4537080"/>
            <a:ext cx="5105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kaline earth metals are reactive, but not as reactive as the alkali 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2"/>
          <p:cNvPicPr/>
          <p:nvPr/>
        </p:nvPicPr>
        <p:blipFill>
          <a:blip r:embed="rId1"/>
          <a:stretch/>
        </p:blipFill>
        <p:spPr>
          <a:xfrm>
            <a:off x="5511960" y="2666880"/>
            <a:ext cx="27939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78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4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30Z</dcterms:modified>
  <cp:revision>7</cp:revision>
  <dc:subject/>
  <dc:title>Group 1, the Alkali Metals</dc:title>
</cp:coreProperties>
</file>