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9872-68AB-4DC5-BC40-FA9F6AAAD4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9B8-78A1-4192-A192-3D2F1DB2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2BF-1BF3-4A34-B72F-A8A0DBD1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659-F956-425E-BEEE-EA83F1F0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87E-88D3-4177-97CE-F4DB4131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47B-D357-4432-BCD1-5FF5F145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0C2-CF4E-48F1-8FE2-191904E1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5E2-F138-4AEB-A2E0-FED64B81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C53-C719-48BC-8C52-9E041268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C9A-0D34-4D6C-A34C-534E8F43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337-AAAF-4D24-B192-AD79168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8EA-85E6-417E-A7CD-CBE9FC63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026-53B4-41D2-8D87-CF9F7AE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F69-A446-4C9B-A78E-826031EBF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s 1 &amp; 2,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&amp; 2 –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61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533520" y="2174760"/>
            <a:ext cx="8381880" cy="2445480"/>
            <a:chOff x="533520" y="2174760"/>
            <a:chExt cx="8381880" cy="2445480"/>
          </a:xfrm>
        </p:grpSpPr>
        <p:sp>
          <p:nvSpPr>
            <p:cNvPr id="70" name="Text Box 5"/>
            <p:cNvSpPr/>
            <p:nvPr/>
          </p:nvSpPr>
          <p:spPr>
            <a:xfrm>
              <a:off x="882720" y="2576520"/>
              <a:ext cx="422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nd has a higher melting point than the alkali metal in the same peri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533520" y="2174760"/>
              <a:ext cx="8381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ach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ne earth metal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s denser and hard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1570680" y="685800"/>
            <a:ext cx="452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ne Ear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to the alkali metals are the alkaline ear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3520" y="45370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earth metals are reactive, but not as reactive as the alkali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2"/>
          <p:cNvPicPr/>
          <p:nvPr/>
        </p:nvPicPr>
        <p:blipFill>
          <a:blip r:embed="rId1"/>
          <a:stretch/>
        </p:blipFill>
        <p:spPr>
          <a:xfrm>
            <a:off x="5511960" y="2666880"/>
            <a:ext cx="2793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4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30Z</dcterms:modified>
  <cp:revision>7</cp:revision>
  <dc:subject/>
  <dc:title>Group 1, the Alkali Metals</dc:title>
</cp:coreProperties>
</file>