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33FA-17B9-4BD6-94B9-CD42726534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udy of genes and the inheritance of tra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y of genes and the inheritance of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when genes make a mistake mixing and produce new or different traits in the offspr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genes make a mistake mixing and produce new or different traits in the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bination of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TT, Tt, or 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We flipped coins to determine the genotype of our critters and pupp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TT, Tt, or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e flipped coins to determine the genotype of our critters and pupp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 – is considered a dominant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 – is considered a recessive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T – is domin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t or tT – is domin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t - is recess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– is considered a dominant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– is considered a recessive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 – is 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 or tT – is 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 - is 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nnett Squ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mom and dad’s genotypes to determine the possible traits of their offspr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nett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mom and dad’s genotypes to determine the possible traits of their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the traits determined by reading the genotyp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 : FF = black fu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ck fur is the phenotype or tra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he traits determined by reading the gen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: FF = black f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fur is the phenotype or tr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are features you exhibit physical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 your looks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Eye color -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eatures you exhibit physical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your look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Eye color -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ifferent versions of a characteris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blue, green, and brown e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t versions of a character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blue, green, and brown e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herit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when traits are passed down from parent to chi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raits are passed down from parent to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ts of information passed down from parent to chi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of chemicals called DN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s of information passed down from parent to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chemicals called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 Dise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be passed on through genes from a parent to the chi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 : Marfan Syndr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ndividual is tall, has long arms and leg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- JO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passed on through genes from a parent to the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: Marfan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dividual is tall, has long arms and le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- JO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xual – Sperm fertilizes an egg to produce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– occurs when 1 organism copies itself to produce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– Sperm fertilizes an egg to produc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– occurs when 1 organism copies itself to produc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when a sperm unites with an eg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a sperm unites with an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fspring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name for the children of a male and female 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name for the children of a male and fe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BB1A-D2FB-4E43-83BE-6B817A1F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C341-5E17-453B-AD97-4277CF5D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7FA3-22FB-4FF9-869A-AFE60940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55F6-FCB6-4377-AAA5-5E451FD8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6821-0D02-49D2-B937-1E2AD0D3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59FC-54E7-42F7-B4C2-75093BD0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8F9F-F8C3-4C25-85B9-0DB9F6E9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D78E-C776-469C-95B0-058A128D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B244-89BE-48BF-9B56-675622A7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3BA2-DCD1-4B4C-BB08-C3093F2C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6227-7E19-49C0-8472-CC5BF438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AD7C-CDD4-4ED8-AA3B-CA3D26F8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03C0-84C4-4AFC-8430-7250C6BE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26CC-6823-488D-A8EE-744AB817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EF04-1AF0-4BD8-8709-452016B3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5FAF-F31A-489D-A6E5-B58CB79D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39DD-5A16-484D-B009-DE439D0A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94A9-257F-46CC-AAB4-EFD58C4E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2C89-327D-4645-BD8F-86E0FF01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BB45-5F98-42E1-AF68-796907EC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581C-DA2C-4519-9FC7-F74AA331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01DD-712C-484A-954B-55D1D3C3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1C84-594B-430D-BEA5-5DF7DDA8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73E0-B2E2-4123-8B3C-33C68BD7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8B94-C41B-4127-B925-A8FA76F29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F681-9678-4177-8D69-A7C5F09425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Genetic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tudy of genes and the inheritance of tra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ut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genes make a mistake mixing and produce new or different traits in the offspr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9" descr="is?986923577224"/>
          <p:cNvPicPr/>
          <p:nvPr/>
        </p:nvPicPr>
        <p:blipFill>
          <a:blip r:embed="rId1"/>
          <a:stretch/>
        </p:blipFill>
        <p:spPr>
          <a:xfrm>
            <a:off x="685800" y="1752480"/>
            <a:ext cx="3581280" cy="36576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otyp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mbination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xample:  TT, Tt, or 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MPj03095240000[1]"/>
          <p:cNvPicPr/>
          <p:nvPr/>
        </p:nvPicPr>
        <p:blipFill>
          <a:blip r:embed="rId1"/>
          <a:stretch/>
        </p:blipFill>
        <p:spPr>
          <a:xfrm>
            <a:off x="685800" y="1600200"/>
            <a:ext cx="3314880" cy="2198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1066680" y="434340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We flipped coins to determine the genotype of our critters and pupp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lle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– is considered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mina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– is considered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cess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648320" y="1828800"/>
            <a:ext cx="3733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T – is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min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t or tT – is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min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t - is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ss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unnett Squar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s mom and dad’s genotypes to determine the possible traits of their offspr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105520" y="2666880"/>
          <a:ext cx="3581280" cy="3463920"/>
        </p:xfrm>
        <a:graphic>
          <a:graphicData uri="http://schemas.openxmlformats.org/drawingml/2006/table">
            <a:tbl>
              <a:tblPr/>
              <a:tblGrid>
                <a:gridCol w="1790640"/>
                <a:gridCol w="1790640"/>
              </a:tblGrid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henotyp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the traits determined by reading the genotyp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 FF = black fu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lack fu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enotyp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tra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8" descr="cochese"/>
          <p:cNvPicPr/>
          <p:nvPr/>
        </p:nvPicPr>
        <p:blipFill>
          <a:blip r:embed="rId1"/>
          <a:stretch/>
        </p:blipFill>
        <p:spPr>
          <a:xfrm>
            <a:off x="4876920" y="1447920"/>
            <a:ext cx="3733560" cy="464796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aracteristic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are features you exhibit physical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 your look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Eye color - g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7" descr="MCj04038930000[1]"/>
          <p:cNvPicPr/>
          <p:nvPr/>
        </p:nvPicPr>
        <p:blipFill>
          <a:blip r:embed="rId1"/>
          <a:stretch/>
        </p:blipFill>
        <p:spPr>
          <a:xfrm>
            <a:off x="5289480" y="2438280"/>
            <a:ext cx="2787840" cy="27432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13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rait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fferent versions of a characteris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blue, green, and brown e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6" descr="MCDD00650_0000[1]"/>
          <p:cNvPicPr/>
          <p:nvPr/>
        </p:nvPicPr>
        <p:blipFill>
          <a:blip r:embed="rId1"/>
          <a:stretch/>
        </p:blipFill>
        <p:spPr>
          <a:xfrm>
            <a:off x="6629400" y="4114800"/>
            <a:ext cx="1468440" cy="1592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MCj04038930000[1]"/>
          <p:cNvPicPr/>
          <p:nvPr/>
        </p:nvPicPr>
        <p:blipFill>
          <a:blip r:embed="rId2"/>
          <a:stretch/>
        </p:blipFill>
        <p:spPr>
          <a:xfrm>
            <a:off x="4038480" y="4267080"/>
            <a:ext cx="1398600" cy="1447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MCj04039970000[1]"/>
          <p:cNvPicPr/>
          <p:nvPr/>
        </p:nvPicPr>
        <p:blipFill>
          <a:blip r:embed="rId3"/>
          <a:stretch/>
        </p:blipFill>
        <p:spPr>
          <a:xfrm>
            <a:off x="1219320" y="4191120"/>
            <a:ext cx="1523880" cy="1519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19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heritan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traits are passed down from parent to chi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MPj03999280000[1]"/>
          <p:cNvPicPr/>
          <p:nvPr/>
        </p:nvPicPr>
        <p:blipFill>
          <a:blip r:embed="rId1"/>
          <a:stretch/>
        </p:blipFill>
        <p:spPr>
          <a:xfrm>
            <a:off x="304920" y="2392200"/>
            <a:ext cx="4495680" cy="3475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ts of information passed down from parent to chi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chemicals called D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7" descr="MCj03519580000[1]"/>
          <p:cNvPicPr/>
          <p:nvPr/>
        </p:nvPicPr>
        <p:blipFill>
          <a:blip r:embed="rId1"/>
          <a:stretch/>
        </p:blipFill>
        <p:spPr>
          <a:xfrm>
            <a:off x="1371600" y="2209680"/>
            <a:ext cx="1870200" cy="37339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etic Diseas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85840" y="159984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passed on through genes from a parent to the chi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xample 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arfan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Individual is tall, has long arms and leg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member - JO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6" descr="MCj04114640000[1]"/>
          <p:cNvPicPr/>
          <p:nvPr/>
        </p:nvPicPr>
        <p:blipFill>
          <a:blip r:embed="rId1"/>
          <a:stretch/>
        </p:blipFill>
        <p:spPr>
          <a:xfrm>
            <a:off x="944640" y="1981080"/>
            <a:ext cx="195084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produc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xu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Sperm fertilizes an egg to produce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sexual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1 organism copies itself to produce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7" descr="MCj02811420000[1]"/>
          <p:cNvPicPr/>
          <p:nvPr/>
        </p:nvPicPr>
        <p:blipFill>
          <a:blip r:embed="rId1"/>
          <a:stretch/>
        </p:blipFill>
        <p:spPr>
          <a:xfrm>
            <a:off x="1278000" y="1371600"/>
            <a:ext cx="2836800" cy="2417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MPj01826480000[1]"/>
          <p:cNvPicPr/>
          <p:nvPr/>
        </p:nvPicPr>
        <p:blipFill>
          <a:blip r:embed="rId2"/>
          <a:stretch/>
        </p:blipFill>
        <p:spPr>
          <a:xfrm>
            <a:off x="1066680" y="4089240"/>
            <a:ext cx="3175200" cy="213840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ertiliz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a sperm unites with an eg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9" descr="is?376913075754"/>
          <p:cNvPicPr/>
          <p:nvPr/>
        </p:nvPicPr>
        <p:blipFill>
          <a:blip r:embed="rId1"/>
          <a:stretch/>
        </p:blipFill>
        <p:spPr>
          <a:xfrm>
            <a:off x="4114800" y="1905120"/>
            <a:ext cx="3809880" cy="35812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ffspring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name for 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ildr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a male and female pa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9" descr="MPj04008320000[1]"/>
          <p:cNvPicPr/>
          <p:nvPr/>
        </p:nvPicPr>
        <p:blipFill>
          <a:blip r:embed="rId1"/>
          <a:stretch/>
        </p:blipFill>
        <p:spPr>
          <a:xfrm>
            <a:off x="4343400" y="1905120"/>
            <a:ext cx="4267080" cy="3809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3:12:41Z</dcterms:created>
  <dc:creator>PALO</dc:creator>
  <dc:description/>
  <dc:language>en-US</dc:language>
  <cp:lastModifiedBy>LEGION2</cp:lastModifiedBy>
  <dcterms:modified xsi:type="dcterms:W3CDTF">2016-01-12T11:07:44Z</dcterms:modified>
  <cp:revision>25</cp:revision>
  <dc:subject/>
  <dc:title>Gene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