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B1DF-AD9E-4590-9CDB-E353CAAD13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7C0-35E6-4AFB-ACFC-950FD849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AE6-EB05-4AE3-B575-4379F469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0E4-C843-473E-ABEF-D244C568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75B-6F1B-4657-9339-C68B0AD4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9A07-1B5F-4B23-9287-E318D5AF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4A0B-DD3F-40C9-9CDF-E5FD67E0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43B8-8DB1-4D33-8058-2EB5C6B0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610A-4D19-4DF7-BFF4-FAEF453E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6CC7-059D-479E-A75C-F2E97BEE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3A5C-2F63-436A-A64B-83832C59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CB57-34B8-4AD1-B687-0FE439B1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46D-1814-4897-B707-F8F05A59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8D39-0571-44D9-A10C-4866286D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A39E-782C-4796-A741-7E57991A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F4E9-B927-4BC2-88E0-FD438B94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0FA7-F198-4739-8FE8-3719D54C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69B4-4B81-44A1-AD68-D07DD4DA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046D-0419-4D33-95AA-54DB1247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E6FC3-4C93-4E10-AED1-5D06EB7B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089BD-4E33-47E2-8883-6C62FCCD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59261-7616-44B4-9BDE-BE793336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1313-0E44-4695-8395-55EFBAD5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12F-2706-4F4D-9EC0-B993D9B0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C89D-FDB9-45F1-A377-ACE64371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8A53-395E-471B-A021-F5D0CFA3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F762-607F-490A-B562-21CC2AFA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E1F66-1562-40D1-A69B-C24F4255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5FEE3-E403-4CBE-854C-C6452C06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176C-1CEE-4F1A-ABBA-54CE4583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5602D-730F-42EA-8315-850DE94D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1602E-7069-415E-BF0B-8EA73D65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A0F7D-2821-4BB8-93D5-3C902313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9AAF8-BAED-4ACE-8951-939316F3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7EA-F200-4624-9511-252F5415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D71E8-AD7B-4A4C-871A-97BE0959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6F587-0EA2-4910-B4E4-385F050D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4F9C2-6CC2-4CE5-9A19-1A3E1F67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8B038-10C2-4492-8B5A-42780307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BD855-7392-4677-B728-D5083164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545B9-3ED0-4864-B34D-938604FF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453D-A245-4453-9D7E-7ECD9F72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3A672-FF5E-4F81-8562-25C7BD42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7D552-5176-4D77-B044-E424A9A9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C0CE1-8A94-4F60-80C9-983928F2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BFF-FA21-4033-B507-5C48E55E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4313B-5B92-4914-B000-FA8375F8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396F4-F4D3-4E59-BC1E-799BAEB8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2EF8F-7D00-4B84-8BED-FBCE082C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4F4B-557F-40FF-AF31-29CC1EB3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82DF6-8D2D-48A8-96F9-F8C73A08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0672E-0A52-4F71-B7FA-167B60C8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8B79F-C4FF-401E-9606-63FDFD78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8CE25-4556-445E-95B6-C5AB925E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C4C8F-D0A4-40C0-91E8-163F8E80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8DCE8-3012-4969-80C4-2F67016E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F29-8910-4CAC-AE7D-173C5788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CD9AA-AFE4-474C-A713-8CB461EB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BA218-B20E-4DC3-BDD8-E96E9F14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7F7D4-EDFE-4880-9CBC-D22B99DD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5DF19-72AD-49F7-B2FC-69FDC810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47918-BF0A-4F0B-8BC9-5D724120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B4F02-EF9D-4A86-A21D-15F2A368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38223-CEC3-4320-9C42-FFD0E4A0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9D519-EE49-4BA7-BF2D-A10C1EC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1DEDF-43B3-4880-B719-3C6C0379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EC282-DFF2-4915-89FC-55C77784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2DA-33C9-4162-BDBF-7DE79300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10C5-C8D8-4B15-B9E5-EA5EF09C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C91CA-DB67-4B13-A4B9-B6929ACB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14BF6-9C49-42E7-A2D6-40B1453F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BF168-B67B-4867-8C5E-BAB9E6D5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01277-D360-4EC4-853B-49C60776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F638C-9A58-4113-A042-3DD08445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3886E-47EB-454C-BF51-CEE29027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BD5DA-1778-4C7A-9BB3-0732695A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C9F10-E302-4514-9A4C-C813445E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74A62-137C-4087-A513-2EB0B6C4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E18-44E9-4DE9-AC09-7C870957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98B44-FD7D-4B80-8FFA-687C63B4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2E8BB-1831-4A09-8201-78A4217A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A9B84-A9CF-4AE9-B130-AF9AB0B5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2EAF3-F303-45F5-B37E-9CBA3C98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3EE76-ABEF-43F9-A912-0568E143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36FE9-A7BC-41B8-AF5B-C9540753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886D5-D7F7-4614-A329-44EF5768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E1968-B81B-4523-B307-A746E206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9FF43-8DEE-46FE-983A-C99667FB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55105-2AF7-43E0-90C2-394FB269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8EF-AE09-4589-B5EF-81D8B66F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B9C8B-DFBF-47D9-8DBD-04563B28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7B096-7857-45F0-8116-30C29C0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A0764-BD2B-43CE-A06C-3E0DC878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8A2AC-2B00-41C6-A54C-64819E87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FDC23-E243-4F1C-A4A0-99B93291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7F200-0E9E-4C48-BE91-4B3624CB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5D94A-CB98-457E-B38A-448F4FD2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4CAC-C7B8-471A-A932-14F10AB8E206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BC92-5AA6-41F9-8D94-9F05ACF4B31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4D22-00E2-47CE-8B45-5D0A8C1FB569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E7C6-9372-4C9F-83BB-87909E3F2F7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2E01-1885-4CFC-BA5E-91D4BB2E6ED4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A476-6815-4BED-B64C-BDE08971A35A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C9C3-8481-4885-99BD-133832E25422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7470-F737-4B96-B8CE-353CDCAE054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9253-C7D2-4BAF-9510-A6E39EE92783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9C8D-74B2-4F4F-8E81-102C331464C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1FD2-3152-47B5-9C35-C56EF4339BF5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CEB7-72B9-46F7-B690-B38779FCF79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31FD-DA97-41CB-9E33-1DF46A54445B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899D-A22C-4B37-811C-E68E175D603F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215D-B8AB-42E6-B0BD-0300213B6828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7088-1319-472E-B18A-DD007107961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 and Phenotyp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hat is the differenc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view Wor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haracteris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re the category of a trait –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, height, likes/dislike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rai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the physical, social, and emotional qualities of an organ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blue eyes, tall, hates carrot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Dominant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ajority of an organism shows the trait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most pea plants show as tal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ecessive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inority of an organism shows the tra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few pea plants show as short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ll the possible choices for a characteris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 – blue, brown, gray, gree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How the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genes code for a specific trai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dominan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a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capital letter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Tall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recessive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the same letter but lower case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short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Genotypes always have two letters –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one for dad and one for mom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Types of 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dominant – the genes only have the dominant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Dominant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recessive – the genes only have the recessive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Recessive short –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ybri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ter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– the genes are mixed code for that trai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hybrid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Ph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outward appearanc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f the trait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look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ct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feel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ricks to remembering the difference between Genotype and Phenotype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Genotype – deals with GENE CODE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Phenotype – deals with looks you can take a PHOTO with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7:19:27Z</dcterms:created>
  <dc:creator>CCSD</dc:creator>
  <dc:description/>
  <dc:language>en-US</dc:language>
  <cp:lastModifiedBy>LEGION2</cp:lastModifiedBy>
  <dcterms:modified xsi:type="dcterms:W3CDTF">2016-01-12T11:10:10Z</dcterms:modified>
  <cp:revision>12</cp:revision>
  <dc:subject/>
  <dc:title>Genotype and Phenotype</dc:title>
</cp:coreProperties>
</file>