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19F9-C1FE-4491-9372-6119E839F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gor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risten Enri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sandra Roj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iam Zun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lissa Medr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laws of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is studies, Mendel derived certain basic laws of heredit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ary factors do not combine, but are passed intac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the parental generation transmits only half of its hereditary factors to each offspring (with certain factors "dominant" over others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ffspring of the same parents receive different sets of hereditar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= Yellow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= Green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2 Generation, 3:1 rat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work became the foundation for modern gene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act of genetic theory is no longer questioned in anyone's m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seases are known to be inher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edigrees are typically traced to determine the probability of passing along an hereditary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re now designed in laboratories to exhibit desired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actical results of Mendel's research has not only changed the way we perceive the world, but also the way we live in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seven years to prove laws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sic Law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dity Factors do not com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mber of a parental generation transfers only one half of its heredity factors to each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’s works became the foundation of modern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crossed mice and pea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d traits were inherited in certain numerical rat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up with idea of dominance and segregation of genes and set out to test it in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of nature encouraged his interest in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terested in meteorology and theories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205.180.85.40/w/pc.cgi?mid=10866&amp;sid=72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cessexcellence.org/AB/BC/Gregor_Mendel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netspace.org/MendelWeb/MWpaptoc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1 Key Ideas: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brary.villanova.edu/html2/lib/mendel/mendexhib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Modern Genet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person to trace the characteristics of successive generations of a living th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a world-renowned scientist of his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her, he was an Augustinian monk who taught natural science to high school stud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hild of Anton and Rosine Men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farmers in Bru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uldn’t afford for him to attend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Mendel then attended the Augustinian Monastery and became a mo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Mendel Studi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experimental garden (35x7 meters) in the grounds of the Augustinian Monastery in Old Brno.Its appearance before 1922. 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nastery Garden with the greenhouse whi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gor J. Mendel, O.S.A., had built in 1870. Its appearance before 1902.Courtesy of Villanova University Archi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endel Got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attraction to research was based on his love of 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not only interested in plants, but also in meteorology and theories of ev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 often wondered how plants obtained atypical characteristic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the idea: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walk around the monastery, he found an atypical variety of an ornamental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ok it and planted it next to the typical var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rew their progeny side by side to see if there would be any approximation of the traits passed on to the next gen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periment was "designed to support or to illustrate Lamarck's views concerning the influence of environment upon plants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found that the plants' respective offspring retained the essential traits of the parents, and therefore were not influenced by the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del's research reflected his personalit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aw that the traits were inherited in certain numerical rat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came up with the idea of dominance and segregation of genes and set out to test it in p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ok seven years to cross and score the plants to the thousand to prove the laws of inheritanc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ctures of atypical pla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4DD-DE4B-4083-A84B-760870F5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5F3-88CC-46FD-A410-B1BCBD46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54675-E5D7-43DF-BD7F-35CAC810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AD769-74B2-4CA9-9DD2-A18795F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FE48F-089F-4846-91EF-12ACD21D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6698E-E068-436A-927B-E1780AEF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548C1-86CF-415F-B15B-96580A3D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D43AB-CCD6-4D1F-A29B-AC23030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F6B48-E576-4579-A9AF-BF6E283C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DFDDA-ECD9-49A4-A0A1-DB6ED1BA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C4052-2BB4-40C6-8B08-A847928C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1A0FB-E74F-4CFA-AC15-1D79639A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8B4-4C3D-4931-A28D-A81D3B43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03A5B-0AD1-488B-A732-C407CBCA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5A6EE-482D-4EB3-8527-825C71EF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CA099-4C0F-490A-8A0F-25557CC1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38D36-86AB-4482-B8F1-F798319C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C06FD-6AA5-4ABA-A728-23E50BE0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56840-342B-4085-BE84-751C3837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59C33-F8EE-4B2A-B4E5-90C11B73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87ED0-3D75-4811-B176-A130EBF8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214B4-6793-4E40-816E-181896F3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E7A78-B592-45D1-9E52-BAAFC8C9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4FC-BF4F-44C3-81A0-AA7DABA9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F4362-9A72-4D35-A72C-685093C3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38BA8-E01A-484E-BD3E-9ABCAA64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F56B4-6A0D-474A-B3E6-2304ECEA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DAA18-590C-4668-8BE9-2742BF7D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B66E3-17AB-4306-B4A4-9D9F6904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0F3E8-9F49-4383-8F58-C1CD24CD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12E7-74D6-42DC-B506-7C66B844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86724-C55E-4670-8571-1048531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EBCF0-DCD5-434E-A324-84BAF41A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1E9F8-67D3-474A-8D19-0DD87EF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2F37-34F4-4149-801B-0A94855F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98562-C272-43B7-998B-BF98469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FE6B4-F785-4169-849A-C02BA975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6E503-1CEA-47F6-9E12-772CE87A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2AFE3-52A0-4F67-AE0B-5689BE0D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F6754-4F49-4705-A5FE-94C36875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46C4E-D22C-4E15-B7ED-EA3B5476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A5843-B071-4043-97EF-8DE92F16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CA9EA-9B3A-4498-80B0-9D047115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8BFF0-2C17-4302-BC12-D022AB1B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A3338-077B-4A24-BC65-026C8245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765B-B741-4664-8A67-1F2132F6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F6108-D8F3-463C-B529-E1A210C4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BCAB0-3A82-4DC6-9D79-F15EF862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38A52-20F7-4DA9-89A5-824AFD68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D1F3A-85A8-4F32-8107-591817D0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5E5CA-73F0-47D0-A31A-3E0DD67B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B46C5C-45B6-4C73-9511-AB0FB9A6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397D5-1C61-4DA0-939A-06B98378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F6FB3-89FE-455B-9328-12A19C77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CC7FB-365D-4E7F-BCF1-9DB37FEA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CF031-403D-4ABB-B518-C1D2DB66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AAAF-5B13-41FE-8C12-ECBF0284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F1B3D-DF6C-45C5-8D81-DB7216BD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87A35-8616-4B2D-8687-C801B76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B569F-3631-4A31-8E91-AD43A39E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CC542-F596-41F3-A845-7493DC66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2D159-501D-455F-A33A-416DE113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D2C81-2229-43A5-BD19-90CBE400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057E8-A839-4257-B849-DF1E1E4D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B014-7F57-4299-8C31-776A8CCF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B253-D574-4CA1-9ADD-99B1FC1E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9B8F-F339-44B8-863E-B1039486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1821-C069-4D24-9978-13310799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F63-262F-4ABF-9C11-21CC7D26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FA0-09AC-4354-8A64-126A144F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14B9-BCFD-4FE1-A601-FAA26E17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D9E8-3440-4D51-8694-E138F042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319E-CF69-48A1-B0E2-2C2751C7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1F7F-4CB5-46E0-AEE5-01E01FD1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3C6C-F0D0-4581-88F8-193BD2D3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6362D-2E6F-47CD-A80F-A492A084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3B0DC-3C22-42EB-9E37-450F35E0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E211-F9A1-497F-B7CD-571D154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8B17-22D7-424A-AB92-3AB9B7E8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04D-0C59-46C8-8A58-0A898725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D8295-C33D-4F68-81E4-D7682F54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54C3-4BC5-4049-BD0A-F1397E67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33E7-0093-4186-89DE-E90E164F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7895-23F8-4A6B-BFA5-C1EACB33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2429-B768-4494-B13B-2925F8AC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3EBC-01F4-42C5-B382-848520E6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CABB-069C-4CE9-AB14-E853CF5E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B54F4-C9C4-419D-81A5-9A054009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F2EC5-59AF-409D-87B0-0D30FFEC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E2B36-8E53-49DB-B53D-87FEF884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3CD-14AD-402F-A254-506DB91A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DD760-0FDD-4715-8C56-A1C43D38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61BCB-DC3E-4224-ABDA-F077C7FE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5B27-1C1C-4204-9ED2-A1ED95DA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72D8-79BA-4604-B9D7-C554005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A7CAA-95B9-47B9-882E-24DBB19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645A4-9023-478B-A128-A3D33296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8557E-98D4-47EA-AF88-379DA8B0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168FA-5525-4B46-B990-BE25892C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C684-6E76-49DB-8A32-CB58D1FD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E39D9-CD76-4543-BC58-3D150DCE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213-D5BF-4694-A76F-A408F057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134F0-F659-4FA8-83BC-0DE257A0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6D79B-0E4F-45E0-8949-773DF25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9BBA4-19BD-4F26-804A-0FCF6D7B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22B5-64EE-4191-9731-C2C2FD32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D2527-4B6E-49BF-8CD6-A3320158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3497E-70A5-4063-95B8-20788552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50F84-7627-4310-BBDE-BD1E9358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5AB92-6E65-41CB-8830-8D45D2FC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8EBF1-9B76-44AC-8AAF-DC92AEB7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80F97-2B54-4E86-9230-4394BBC0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FA8-4147-4A1A-B6AA-A9C27F58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DB28D-4AAA-4E59-BD61-CB805284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329DD-7DBF-4386-8232-FDDC7773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5F0D-C4D9-4C1D-BDBE-FF431B8D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834F9-D5C7-4050-8A4B-B0A4BB81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C4178-FCCC-464E-86B1-220166AF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EBFF9-EAB9-465D-98CE-474CDB6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72800-C0E0-4C9C-A260-1B0D9819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DD7C4-3BE7-491B-922A-192B2D72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D1A8-4CC8-435E-ABCD-76489F34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35D72-0C67-4045-AD01-8698B29B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FDE5-1D6C-4193-8ADA-E2059041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B4AF-97A9-4AD6-B90E-EA4DBD5F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E58C2-B7DE-4F34-AB2D-3A91EF2A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83801-83FF-44F9-970A-21565FFC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5D5C8-C1DD-4339-A298-0D82FD26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8E2C0-101A-4E8B-A453-43E6D684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F6A0F-F7B2-404E-8A46-B704F582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AF472-9A58-40A4-8751-DE75EA11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94517-5A76-4F45-B993-2E74D651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EE084-A182-4958-B046-B1837E47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7F918-D547-49BC-A8C0-0443C892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820-5A0F-4AA3-B717-59CF3BAD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C50DB-AE79-4667-9E5A-0363A984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2A157-A292-481D-B7FE-D054A4F1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26FA-F1F9-4172-9696-4F2A89AC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260D1-7E23-422C-9DEB-3CB2DDE2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6BC26-0060-4EA2-B804-CFA38CEB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D262-447B-4195-A698-78E315D6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DC9AA-C8B4-4296-900D-A741F698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7C631-C099-4CB4-93CC-A55E112D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4683F-A6D5-4D99-9CC3-78A37C19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75525-7E56-43BE-B825-BF3B7711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D61-0282-4E92-B755-45A1F10B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CBAB4-5ABC-44FF-B11D-F8BC288A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19C1C-9614-4C81-BC48-06C09395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C414D-CF91-491A-B1C5-470BC462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B8973-D8B0-41DD-8834-606D3003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4E274D-FE51-451D-95D9-2C843777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0377D-EE29-4211-A745-1E0C0B55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07A6A-4970-4790-9EE4-AF928D36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BE2F8-D37D-45BE-BECC-81473322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A4603-41F2-42AE-8977-89884608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83FD1-7D04-4DD4-8859-E91EA410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3EC-6B21-4834-93E8-5D2A4045DB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0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02FC-CA7B-4A66-BED1-CE883FC235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5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FAE8-7D80-435F-9D86-7A9BB18501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9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E067-B9F6-44BE-BFA3-1F3456031B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54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C0FE-4D54-40E9-970B-07DECB8276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0106-10A9-4639-9F68-CD0812E6ED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9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9EE7-DBAB-468E-BEA3-587D1DBC3A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3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F66B-C7E1-42FF-BA03-5D05FF1FC1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8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B6C-70BB-4984-8620-E5AD930CA1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E796-654B-40F6-8213-6711560872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7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4069-2503-4F0B-B6B0-C7FC6F98CD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1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C700-6FD9-4443-ACB5-C9F4C779CB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36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2C23-C56D-42E3-99CC-AE47CAFF34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egor Men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oup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risten Enriqu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sandra Roj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lliam Zunig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issa Medr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Місце для нижнього колонтитула 1"/>
          <p:cNvSpPr/>
          <p:nvPr/>
        </p:nvSpPr>
        <p:spPr>
          <a:xfrm>
            <a:off x="325116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endel’s laws of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rom his studies, Mendel derived certain basic laws of heredi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Hereditary factors do not combine, but are passed intact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ach member of the parental generation transmits only half of its hereditary factors to each offspring (with certain factors "dominant" over others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Different offspring of the same parents receive different sets of hereditary fac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3583080" y="3808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3962520" y="5335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5182560" y="380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5"/>
          <p:cNvSpPr/>
          <p:nvPr/>
        </p:nvSpPr>
        <p:spPr>
          <a:xfrm>
            <a:off x="4648320" y="609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6"/>
          <p:cNvSpPr/>
          <p:nvPr/>
        </p:nvSpPr>
        <p:spPr>
          <a:xfrm>
            <a:off x="3505320" y="13716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7"/>
          <p:cNvSpPr/>
          <p:nvPr/>
        </p:nvSpPr>
        <p:spPr>
          <a:xfrm>
            <a:off x="35053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8"/>
          <p:cNvSpPr/>
          <p:nvPr/>
        </p:nvSpPr>
        <p:spPr>
          <a:xfrm>
            <a:off x="541008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3277800" y="152388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571644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1"/>
          <p:cNvSpPr/>
          <p:nvPr/>
        </p:nvSpPr>
        <p:spPr>
          <a:xfrm>
            <a:off x="60199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2"/>
          <p:cNvSpPr/>
          <p:nvPr/>
        </p:nvSpPr>
        <p:spPr>
          <a:xfrm>
            <a:off x="41922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3"/>
          <p:cNvSpPr/>
          <p:nvPr/>
        </p:nvSpPr>
        <p:spPr>
          <a:xfrm>
            <a:off x="4419720" y="13716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106600" y="16002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6861600" y="45720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= Yellow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6554160" y="914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= Green alle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7"/>
          <p:cNvSpPr/>
          <p:nvPr/>
        </p:nvSpPr>
        <p:spPr>
          <a:xfrm>
            <a:off x="4419720" y="1905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8"/>
          <p:cNvSpPr/>
          <p:nvPr/>
        </p:nvSpPr>
        <p:spPr>
          <a:xfrm>
            <a:off x="3276720" y="228600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9"/>
          <p:cNvSpPr/>
          <p:nvPr/>
        </p:nvSpPr>
        <p:spPr>
          <a:xfrm>
            <a:off x="32767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20"/>
          <p:cNvSpPr/>
          <p:nvPr/>
        </p:nvSpPr>
        <p:spPr>
          <a:xfrm>
            <a:off x="54864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1"/>
          <p:cNvSpPr/>
          <p:nvPr/>
        </p:nvSpPr>
        <p:spPr>
          <a:xfrm>
            <a:off x="3048120" y="25909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22"/>
          <p:cNvSpPr/>
          <p:nvPr/>
        </p:nvSpPr>
        <p:spPr>
          <a:xfrm>
            <a:off x="5257800" y="259092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23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24"/>
          <p:cNvSpPr/>
          <p:nvPr/>
        </p:nvSpPr>
        <p:spPr>
          <a:xfrm>
            <a:off x="3886200" y="2286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37350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6"/>
          <p:cNvSpPr/>
          <p:nvPr/>
        </p:nvSpPr>
        <p:spPr>
          <a:xfrm>
            <a:off x="4420800" y="25909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916920" y="13716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28"/>
          <p:cNvSpPr/>
          <p:nvPr/>
        </p:nvSpPr>
        <p:spPr>
          <a:xfrm>
            <a:off x="916920" y="2209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29"/>
          <p:cNvSpPr/>
          <p:nvPr/>
        </p:nvSpPr>
        <p:spPr>
          <a:xfrm>
            <a:off x="3962520" y="2895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30"/>
          <p:cNvSpPr/>
          <p:nvPr/>
        </p:nvSpPr>
        <p:spPr>
          <a:xfrm>
            <a:off x="4724280" y="3048120"/>
            <a:ext cx="76212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31"/>
          <p:cNvSpPr/>
          <p:nvPr/>
        </p:nvSpPr>
        <p:spPr>
          <a:xfrm>
            <a:off x="5562720" y="2971800"/>
            <a:ext cx="1676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32"/>
          <p:cNvSpPr/>
          <p:nvPr/>
        </p:nvSpPr>
        <p:spPr>
          <a:xfrm flipH="1">
            <a:off x="1676160" y="2895480"/>
            <a:ext cx="15238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33"/>
          <p:cNvSpPr/>
          <p:nvPr/>
        </p:nvSpPr>
        <p:spPr>
          <a:xfrm>
            <a:off x="838080" y="41911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34"/>
          <p:cNvSpPr/>
          <p:nvPr/>
        </p:nvSpPr>
        <p:spPr>
          <a:xfrm>
            <a:off x="8380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35"/>
          <p:cNvSpPr/>
          <p:nvPr/>
        </p:nvSpPr>
        <p:spPr>
          <a:xfrm>
            <a:off x="2286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6112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37"/>
          <p:cNvSpPr/>
          <p:nvPr/>
        </p:nvSpPr>
        <p:spPr>
          <a:xfrm>
            <a:off x="12193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38"/>
          <p:cNvSpPr/>
          <p:nvPr/>
        </p:nvSpPr>
        <p:spPr>
          <a:xfrm>
            <a:off x="1752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39"/>
          <p:cNvSpPr/>
          <p:nvPr/>
        </p:nvSpPr>
        <p:spPr>
          <a:xfrm>
            <a:off x="60948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40"/>
          <p:cNvSpPr/>
          <p:nvPr/>
        </p:nvSpPr>
        <p:spPr>
          <a:xfrm>
            <a:off x="9921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41"/>
          <p:cNvSpPr/>
          <p:nvPr/>
        </p:nvSpPr>
        <p:spPr>
          <a:xfrm>
            <a:off x="205884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42"/>
          <p:cNvSpPr/>
          <p:nvPr/>
        </p:nvSpPr>
        <p:spPr>
          <a:xfrm>
            <a:off x="152568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43"/>
          <p:cNvSpPr/>
          <p:nvPr/>
        </p:nvSpPr>
        <p:spPr>
          <a:xfrm>
            <a:off x="3048120" y="419112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44"/>
          <p:cNvSpPr/>
          <p:nvPr/>
        </p:nvSpPr>
        <p:spPr>
          <a:xfrm>
            <a:off x="30481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45"/>
          <p:cNvSpPr/>
          <p:nvPr/>
        </p:nvSpPr>
        <p:spPr>
          <a:xfrm>
            <a:off x="457200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46"/>
          <p:cNvSpPr/>
          <p:nvPr/>
        </p:nvSpPr>
        <p:spPr>
          <a:xfrm>
            <a:off x="2820960" y="4419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47"/>
          <p:cNvSpPr/>
          <p:nvPr/>
        </p:nvSpPr>
        <p:spPr>
          <a:xfrm>
            <a:off x="3962520" y="441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48"/>
          <p:cNvSpPr/>
          <p:nvPr/>
        </p:nvSpPr>
        <p:spPr>
          <a:xfrm>
            <a:off x="4268160" y="43434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49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0"/>
          <p:cNvSpPr/>
          <p:nvPr/>
        </p:nvSpPr>
        <p:spPr>
          <a:xfrm>
            <a:off x="403848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51"/>
          <p:cNvSpPr/>
          <p:nvPr/>
        </p:nvSpPr>
        <p:spPr>
          <a:xfrm>
            <a:off x="33541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52"/>
          <p:cNvSpPr/>
          <p:nvPr/>
        </p:nvSpPr>
        <p:spPr>
          <a:xfrm>
            <a:off x="3811320" y="43434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53"/>
          <p:cNvSpPr/>
          <p:nvPr/>
        </p:nvSpPr>
        <p:spPr>
          <a:xfrm>
            <a:off x="4648320" y="48006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54"/>
          <p:cNvSpPr/>
          <p:nvPr/>
        </p:nvSpPr>
        <p:spPr>
          <a:xfrm>
            <a:off x="46483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55"/>
          <p:cNvSpPr/>
          <p:nvPr/>
        </p:nvSpPr>
        <p:spPr>
          <a:xfrm>
            <a:off x="6248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6"/>
          <p:cNvSpPr/>
          <p:nvPr/>
        </p:nvSpPr>
        <p:spPr>
          <a:xfrm>
            <a:off x="4421160" y="5105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7"/>
          <p:cNvSpPr/>
          <p:nvPr/>
        </p:nvSpPr>
        <p:spPr>
          <a:xfrm>
            <a:off x="6021000" y="51055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58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59"/>
          <p:cNvSpPr/>
          <p:nvPr/>
        </p:nvSpPr>
        <p:spPr>
          <a:xfrm>
            <a:off x="5715000" y="4800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60"/>
          <p:cNvSpPr/>
          <p:nvPr/>
        </p:nvSpPr>
        <p:spPr>
          <a:xfrm>
            <a:off x="487800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61"/>
          <p:cNvSpPr/>
          <p:nvPr/>
        </p:nvSpPr>
        <p:spPr>
          <a:xfrm>
            <a:off x="5411520" y="510552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62"/>
          <p:cNvSpPr/>
          <p:nvPr/>
        </p:nvSpPr>
        <p:spPr>
          <a:xfrm>
            <a:off x="6477120" y="42670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63"/>
          <p:cNvSpPr/>
          <p:nvPr/>
        </p:nvSpPr>
        <p:spPr>
          <a:xfrm>
            <a:off x="647712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64"/>
          <p:cNvSpPr/>
          <p:nvPr/>
        </p:nvSpPr>
        <p:spPr>
          <a:xfrm>
            <a:off x="80010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65"/>
          <p:cNvSpPr/>
          <p:nvPr/>
        </p:nvSpPr>
        <p:spPr>
          <a:xfrm>
            <a:off x="624960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66"/>
          <p:cNvSpPr/>
          <p:nvPr/>
        </p:nvSpPr>
        <p:spPr>
          <a:xfrm>
            <a:off x="76971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70102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68"/>
          <p:cNvSpPr/>
          <p:nvPr/>
        </p:nvSpPr>
        <p:spPr>
          <a:xfrm>
            <a:off x="746748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69"/>
          <p:cNvSpPr/>
          <p:nvPr/>
        </p:nvSpPr>
        <p:spPr>
          <a:xfrm>
            <a:off x="67827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0"/>
          <p:cNvSpPr/>
          <p:nvPr/>
        </p:nvSpPr>
        <p:spPr>
          <a:xfrm>
            <a:off x="7239960" y="441972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2"/>
          <p:cNvSpPr/>
          <p:nvPr/>
        </p:nvSpPr>
        <p:spPr>
          <a:xfrm>
            <a:off x="2438280" y="533520"/>
            <a:ext cx="990720" cy="99036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3429000" y="114300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5334120" y="609480"/>
            <a:ext cx="1066680" cy="9907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66294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6784920" y="121932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ent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 flipH="1">
            <a:off x="6477120" y="1371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4343400" y="1219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>
            <a:off x="2819520" y="2057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Line 11"/>
          <p:cNvSpPr/>
          <p:nvPr/>
        </p:nvSpPr>
        <p:spPr>
          <a:xfrm>
            <a:off x="5943600" y="20574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AutoShape 12"/>
          <p:cNvSpPr/>
          <p:nvPr/>
        </p:nvSpPr>
        <p:spPr>
          <a:xfrm>
            <a:off x="2590920" y="2438280"/>
            <a:ext cx="53316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5715000" y="24382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4"/>
          <p:cNvSpPr/>
          <p:nvPr/>
        </p:nvSpPr>
        <p:spPr>
          <a:xfrm>
            <a:off x="380988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Line 15"/>
          <p:cNvSpPr/>
          <p:nvPr/>
        </p:nvSpPr>
        <p:spPr>
          <a:xfrm>
            <a:off x="4800600" y="2057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AutoShape 16"/>
          <p:cNvSpPr/>
          <p:nvPr/>
        </p:nvSpPr>
        <p:spPr>
          <a:xfrm>
            <a:off x="3505320" y="2438280"/>
            <a:ext cx="60948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17"/>
          <p:cNvSpPr/>
          <p:nvPr/>
        </p:nvSpPr>
        <p:spPr>
          <a:xfrm>
            <a:off x="4495680" y="2438280"/>
            <a:ext cx="60984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8"/>
          <p:cNvSpPr/>
          <p:nvPr/>
        </p:nvSpPr>
        <p:spPr>
          <a:xfrm>
            <a:off x="6629760" y="2438280"/>
            <a:ext cx="22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1 Gen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Line 19"/>
          <p:cNvSpPr/>
          <p:nvPr/>
        </p:nvSpPr>
        <p:spPr>
          <a:xfrm flipH="1">
            <a:off x="6858000" y="2590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20"/>
          <p:cNvSpPr/>
          <p:nvPr/>
        </p:nvSpPr>
        <p:spPr>
          <a:xfrm>
            <a:off x="3809880" y="2971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21"/>
          <p:cNvSpPr/>
          <p:nvPr/>
        </p:nvSpPr>
        <p:spPr>
          <a:xfrm>
            <a:off x="2743200" y="35812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22"/>
          <p:cNvSpPr/>
          <p:nvPr/>
        </p:nvSpPr>
        <p:spPr>
          <a:xfrm>
            <a:off x="274320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487692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24"/>
          <p:cNvSpPr/>
          <p:nvPr/>
        </p:nvSpPr>
        <p:spPr>
          <a:xfrm>
            <a:off x="2514600" y="4038480"/>
            <a:ext cx="45720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25"/>
          <p:cNvSpPr/>
          <p:nvPr/>
        </p:nvSpPr>
        <p:spPr>
          <a:xfrm>
            <a:off x="4648320" y="4038480"/>
            <a:ext cx="533160" cy="53352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Line 26"/>
          <p:cNvSpPr/>
          <p:nvPr/>
        </p:nvSpPr>
        <p:spPr>
          <a:xfrm>
            <a:off x="34290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Line 27"/>
          <p:cNvSpPr/>
          <p:nvPr/>
        </p:nvSpPr>
        <p:spPr>
          <a:xfrm>
            <a:off x="4114800" y="35812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28"/>
          <p:cNvSpPr/>
          <p:nvPr/>
        </p:nvSpPr>
        <p:spPr>
          <a:xfrm>
            <a:off x="32004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29"/>
          <p:cNvSpPr/>
          <p:nvPr/>
        </p:nvSpPr>
        <p:spPr>
          <a:xfrm>
            <a:off x="3886200" y="4038480"/>
            <a:ext cx="533520" cy="53352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30"/>
          <p:cNvSpPr/>
          <p:nvPr/>
        </p:nvSpPr>
        <p:spPr>
          <a:xfrm>
            <a:off x="5486400" y="41148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2 Generation, 3:1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Line 31"/>
          <p:cNvSpPr/>
          <p:nvPr/>
        </p:nvSpPr>
        <p:spPr>
          <a:xfrm flipH="1">
            <a:off x="5866920" y="4267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ndel's work became the foundation for modern genetics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impact of genetic theory is no longer questioned in anyone's mind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Many diseases are known to be inheri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and pedigrees are typically traced to determine the probability of passing along an hereditary dise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Plants are now designed in laboratories to exhibit desired characteristic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The practical results of Mendel's research has not only changed the way we perceive the world, but also the way we live in it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ook seven years to prove laws of inheritan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-Basic Law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redity Factors do not combin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Each member of a parental generation transfers only one half of its heredity factors to each offspr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Mendel’s works became the foundation of modern gene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ater crossed mice and pea pla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Noticed traits were inherited in certain numerical rati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Came up with idea of dominance and segregation of genes and set out to test it in pe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Love of nature encouraged his interest in 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Also interested in meteorology and theories of evol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More Interesting Fact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73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205.180.85.40/w/pc.cgi?mid=10866&amp;sid=727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accessexcellence.org/AB/BC/Gregor_Mendel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ttp://www.netspace.org/MendelWeb/MWpaptoc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101 Key Ideas: Gene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askerville Old Face"/>
              </a:rPr>
              <a:t>http://www.library.villanova.edu/html2/lib/mendel/mendexhib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Father of Modern Genetic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Picture 9" descr="Mendel, Gregor Johann -- Media -- Encarta ® Online "/>
          <p:cNvPicPr/>
          <p:nvPr/>
        </p:nvPicPr>
        <p:blipFill>
          <a:blip r:embed="rId1"/>
          <a:stretch/>
        </p:blipFill>
        <p:spPr>
          <a:xfrm>
            <a:off x="2971800" y="1906560"/>
            <a:ext cx="2743200" cy="24368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3"/>
          <p:cNvSpPr/>
          <p:nvPr/>
        </p:nvSpPr>
        <p:spPr>
          <a:xfrm>
            <a:off x="361800" y="4494600"/>
            <a:ext cx="84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askerville Old Face"/>
              </a:rPr>
              <a:t>The first person to trace the characteristics of successive generations of a living th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4"/>
          <p:cNvSpPr/>
          <p:nvPr/>
        </p:nvSpPr>
        <p:spPr>
          <a:xfrm>
            <a:off x="380880" y="5095440"/>
            <a:ext cx="824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He was not a world-renowned scientist of his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75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ther, he was an Augustinian monk who taught natural science to high school student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612720" y="1971720"/>
            <a:ext cx="8074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Second child of Anton and Rosine Mend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were farmers in Brun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They couldn’t afford for him to attend colleg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Gregor Mendel then attended the Augustinian Monastery and became a mon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WordArt 3"/>
          <p:cNvSpPr txBox="1"/>
          <p:nvPr/>
        </p:nvSpPr>
        <p:spPr>
          <a:xfrm>
            <a:off x="609480" y="609480"/>
            <a:ext cx="7848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Baskerville Old Face"/>
              </a:rPr>
              <a:t>Famil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askerville Old Face"/>
              </a:rPr>
              <a:t>Where Mendel Studie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He was later sent to the University of Vienna to study. By both his professors at University and his colleagues at the monastery, Mendel was inspired to study variance in pla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5" name="Picture 5" descr="Olmutz Class"/>
          <p:cNvPicPr/>
          <p:nvPr/>
        </p:nvPicPr>
        <p:blipFill>
          <a:blip r:embed="rId1"/>
          <a:stretch/>
        </p:blipFill>
        <p:spPr>
          <a:xfrm>
            <a:off x="2286000" y="2971800"/>
            <a:ext cx="4952880" cy="2938320"/>
          </a:xfrm>
          <a:prstGeom prst="rect">
            <a:avLst/>
          </a:prstGeom>
          <a:ln w="0">
            <a:noFill/>
          </a:ln>
        </p:spPr>
      </p:pic>
      <p:sp>
        <p:nvSpPr>
          <p:cNvPr id="606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experimental garden"/>
          <p:cNvPicPr/>
          <p:nvPr/>
        </p:nvPicPr>
        <p:blipFill>
          <a:blip r:embed="rId1"/>
          <a:stretch/>
        </p:blipFill>
        <p:spPr>
          <a:xfrm>
            <a:off x="762120" y="533520"/>
            <a:ext cx="3292200" cy="44193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11"/>
          <p:cNvSpPr/>
          <p:nvPr/>
        </p:nvSpPr>
        <p:spPr>
          <a:xfrm>
            <a:off x="533520" y="5013360"/>
            <a:ext cx="3581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experimental garden (35x7 meters) in the grounds of the Augustinian Monastery in Old Brno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Its appearance before 1922. 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13" descr="mongarden"/>
          <p:cNvPicPr/>
          <p:nvPr/>
        </p:nvPicPr>
        <p:blipFill>
          <a:blip r:embed="rId2"/>
          <a:stretch/>
        </p:blipFill>
        <p:spPr>
          <a:xfrm>
            <a:off x="4648320" y="1447920"/>
            <a:ext cx="3714480" cy="239400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14"/>
          <p:cNvSpPr/>
          <p:nvPr/>
        </p:nvSpPr>
        <p:spPr>
          <a:xfrm>
            <a:off x="4648320" y="385524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The Monastery Garden with the greenhouse which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Baskerville Old Face"/>
              </a:rPr>
              <a:t>Gregor J. Mendel, O.S.A., had built in 1870.</a:t>
            </a:r>
            <a:r>
              <a:rPr b="0" lang="en-US" sz="1200" spc="-1" strike="noStrike">
                <a:solidFill>
                  <a:srgbClr val="ffffff"/>
                </a:solidFill>
                <a:latin typeface="Baskerville Old Face"/>
              </a:rPr>
              <a:t> Its appearance before 1902.</a:t>
            </a:r>
            <a:r>
              <a:rPr b="0" i="1" lang="en-US" sz="1200" spc="-1" strike="noStrike">
                <a:solidFill>
                  <a:srgbClr val="ffffff"/>
                </a:solidFill>
                <a:latin typeface="Baskerville Old Face"/>
              </a:rPr>
              <a:t>Courtesy of Villanova University Archiv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askerville Old Face"/>
              </a:rPr>
              <a:t>How Mendel Got Starte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's attraction to research was based on his love of natu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He was not only interested in plants, but also in meteorology and theories of evolu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Baskerville Old Face"/>
              </a:rPr>
              <a:t>Mendel often wondered how plants obtained atypical characteristic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askerville Old Face"/>
              </a:rPr>
              <a:t>The Birth of the idea: Hered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 a walk around the monastery, he found an atypical variety of an ornamental pl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ook it and planted it next to the typical varie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grew their progeny side by side to see if there would be any approximation of the traits passed on to the next gener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This experiment was "designed to support or to illustrate Lamarck's views concerning the influence of environment upon plants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found that the plants' respective offspring retained the essential traits of the parents, and therefore were not influenced by the enviro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ndel's research reflected his personalit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4000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nce he crossed peas and mice of different varieties "for the fun of the thing," and the phenomena of dominance and segregation "forced themselves upon notice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saw that the traits were inherited in certain numerical rat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89360" y="1828800"/>
            <a:ext cx="39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He then came up with the idea of dominance and segregation of genes and set out to test it in pe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t took seven years to cross and score the plants to the thousand to prove the laws of inheritance!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ctures of atypical plan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3" descr="Dianthus drawing"/>
          <p:cNvPicPr/>
          <p:nvPr/>
        </p:nvPicPr>
        <p:blipFill>
          <a:blip r:embed="rId1"/>
          <a:stretch/>
        </p:blipFill>
        <p:spPr>
          <a:xfrm>
            <a:off x="3035160" y="1905120"/>
            <a:ext cx="2741760" cy="381132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17:29:13Z</dcterms:created>
  <dc:creator>Cassandra Rojas</dc:creator>
  <dc:description/>
  <dc:language>en-US</dc:language>
  <cp:lastModifiedBy>LEGION2</cp:lastModifiedBy>
  <dcterms:modified xsi:type="dcterms:W3CDTF">2016-01-12T11:12:32Z</dcterms:modified>
  <cp:revision>21</cp:revision>
  <dc:subject/>
  <dc:title>Gregor Mendel</dc:title>
</cp:coreProperties>
</file>