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53CF-0707-4F89-80A7-BA5C19CA1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AE2-6222-4F2E-8040-1EBC3E07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64E-7762-442A-B0B1-9C0F0C98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D2A72-9814-41FA-9E8A-EAC7C03C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AD40C-1FF6-41D0-8FB9-8AEEAA4B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C81A2-ED7A-4D4F-8854-24F9AC28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59DD7-1D62-40E0-A5B9-C344FADB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6D9C4-1FEA-4766-977F-84981035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37C21-CC5A-4144-9718-DFFA2620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F620C-1388-4168-B767-5CF6EEB7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34535-ABB6-4F59-ADCC-B23A7BF9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117F3-51AE-48A5-899C-6B1BA7EE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401A0-4CEF-422E-85A5-761E403D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C11B-8012-487D-9FD2-09E0EAFD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B5827-0C31-4442-B552-B35A583A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5856B-014C-415D-8C5B-39F10D86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4DC8C-0726-4A78-A42B-945F9ACD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E3958-9FE8-4292-A4E6-BDEEC68F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FA9C7-E15F-4CEC-B086-EF6B1ED9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0CB44-FD16-4C58-B0EC-02AA9C50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6878C-BA74-45CB-9F6C-02F3112E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B7172-0383-486E-B35B-ED96E3F9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A330E-A625-4297-A469-4F7333C0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F4BF0-EB8C-45CA-8F0E-87C3FCCA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BF23-1F66-4999-A562-28AD6920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57109-CC56-48FE-A58D-2DC1F619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4E97B-15D0-4B1D-801C-341BF2D5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D84B3-E1FC-4648-9050-F3F86DCF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60B68-FDA7-47DE-AF28-A4B40EA1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CEA36-01B5-433C-84F6-E6CDE2EE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DAFA0-9531-4CB1-A698-2349F94A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76316-CCE4-4BA2-86FE-EDFFE0AF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C2120-85C0-4625-AD05-EA6F4881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E24D3-6D2D-4BCB-82AD-62149C85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35300-D49D-4E44-BDE5-255AD844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C5B0-BEFD-4E47-A726-42BA2700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45FA6-7F3D-46A7-8425-EAE83E12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428DF-A838-49F7-A0FA-45A6BD20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F1013-E493-43D2-BABA-45AA2CE4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BCC3D-3E99-495D-922E-0F816C22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2252A-D869-4008-AF64-9A49085B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9645F-CA84-4CBF-903D-B8FB9CA6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0B839-6E1E-48F8-A62D-69E064C8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328D8-0316-47A5-ADDB-E7596BA9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5C9A7-16AD-48BE-89EC-238EA250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9105D-F6B5-4829-9D4C-FDF4DD1A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C0A9-DC65-4243-A4BE-1481CD4D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4B5AB-D25C-42E0-BE73-8C6E8DA4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2CFD5-27BC-43F8-A4C9-8A35D9DD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91633-6A21-4D78-9D91-F5A1A0B0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71833-1914-4159-BEED-2F3779CB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23C7F-329B-4B75-9DA7-75DBC7C2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1DDDE-65B1-4626-BE18-F7CBA021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82968-3908-4B85-B21E-E82A107B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DB338-5E70-4800-B8A7-80FDCED4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F5E1DA-403C-4152-80AD-2DE932FE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3C044C-BA68-4C6E-9DD3-EB90255A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FC14-E075-44D2-B4D8-B7B4922E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769D0-0FBC-49CE-B009-F3DAD1F2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70E549-E874-41D8-89F6-929E596A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DFE13-2534-4CB7-AE84-3F4A72BB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429CA-5817-4C54-89DF-CE68008F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31DD3-D951-4D35-BFFA-4F217A9B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6B6E4-95E6-4181-90BC-32A7FB89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6DE33-8961-497E-A7BA-FA525B6E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C4A5-A41A-4B75-84C4-A6C94A4D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D8B8-7493-4A55-BB2E-5423F13D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8FDB-CAB7-4466-8977-EF073772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64FA-99B9-4959-B1D8-67B29EBD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6F8-8D65-4C7B-B869-75530A7D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A6D5-E108-4D3D-B484-6DBA9D49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9FEE-C848-49CA-B600-F906F5D3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073E-65B7-4CCA-86B4-D7CFB349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F456-BC10-44EC-B6A0-7B9D6933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5E64-3C63-4BD8-B241-814DA869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56E2E-1F25-485E-A412-69D970CE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1529D-5AB5-44FB-9E14-D626A652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0A007-12A1-4471-B067-EBEE799D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2DEDA-8100-4B5B-943B-6E738165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F1E0A-EC64-4412-8887-5AC1A84E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0AB-D1CD-4B85-B25E-59FA2E71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9160C-807E-46D5-B852-35397525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CD56-43A4-42A1-B367-87E958D7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902B4-F547-4D71-BDCA-3E0A79C7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D77C4-C118-47D6-87F2-C83458ED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48E6A-30F5-4E87-A089-A40939B5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61985-8E11-4EDC-A745-CD411630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A95A3-0551-41BC-A6B3-C009C1DB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83D99-B7B9-415B-8361-36164AA5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FF7C5-2A94-4F05-928E-F92D65DF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420C6-6735-4943-AD38-B61E5B72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B0E3-709F-48E1-BF1E-463CBA0D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74697-0699-4F86-8326-93E719D4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4FFEF-62CC-4688-9833-5DFDC3D0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2968A-2C12-49C9-8A65-42E206F1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3B706-B096-4176-8959-BE61C3AE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D68D1-DE01-47B8-AAB5-E7F1E6E6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7961F-DA57-4E11-831A-C5EE4553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43629-DD75-47FE-A83D-0920DABA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85991-C0C6-4C19-B5D7-5478C369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63771-77B9-49B0-9D77-E7C65E7D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7F15B-749A-43F4-A459-448CFF66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3BD4-70BC-4824-A805-CC10A16C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1A11B-FC4A-40EE-BEF8-A467D3C1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26272-79F6-462A-BA46-DC684810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D9083-B5B2-423C-8168-AB44D682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B47E3-F171-4478-BD99-20AC7906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215ED-6904-4C18-B30E-64A3ED0D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46CBE-3B95-4E5B-A15D-69A4B2EA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DD313-8971-47C1-9C30-A3B618FD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88A5F-AF3F-4129-B9C6-740C50A9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CBFDC-FDB7-418A-9E5E-E2AE885F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CDE25-576F-4AF8-9A70-DBA3CDB7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110-A006-4D0B-9EB8-C5A84198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4426A-1D6C-4AC4-9CD6-7FD1253A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0B8F3-8749-4F8D-84F8-132BA143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C7A91-C37C-4AB5-B53D-ACFE47F8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CEB48-914C-4551-A150-A449DC38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73176-FD13-4CE6-96B9-F8DD086F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9302D-7755-4354-BF47-BA115B19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737E3-6D02-4156-AB55-545A1C88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07FDD-A136-4130-B52B-254BCBEE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19E61-411E-4252-992D-85CA2FB5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5B9F4-67F1-4FFF-A6E7-D7CAC4B5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364-FBD2-421A-86A2-6F6492DE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A66FE-71CA-421F-96D3-43BF8351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22A27-C369-497A-91C9-C5EC1D59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EE7C4-910D-478A-B2D1-B3640379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C93B5-6C77-4ACE-8222-127C962A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00809-BFCE-43D5-9635-B0896530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B8DD9-B028-4712-9298-C43C4DA1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120E9-40D0-4082-A8DD-7A6EA5A6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53969-0678-4138-A28E-C818A3DB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3427E-0E95-4CE3-A899-EEADE69B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72B80-C1DC-4EAE-8D28-C9C488E3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693-922D-4BD6-94C8-778F785D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F597C-D00E-4DE7-86A3-E73799BE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EAC5B-72CD-473D-80F0-DDD22B60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CAAFC-78AF-4160-A925-CFA73733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DBC08-EC0B-4605-9E3A-9D08451A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F01E2-AC3C-4DEB-BED4-C3A3BFF8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2A378-40B4-4F58-B0A9-CE474619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F2163-4410-474F-A9D6-9A97B088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BE2A7-F1EF-4ECF-98F5-8C5343F3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1AF4E-0921-481F-A875-3DF311BC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4531F-E7CF-4201-9C3C-C445FED5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F54-9B5D-4112-94D4-2534E599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56E59-0BCD-44AB-ACB2-8E6D224D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331F6-33F9-4CFD-8BE7-C0C1FFDE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6D7C1-1A50-499F-8711-808AEF9B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27CF7-69BB-4DE0-A4DC-C56EE057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B6A77-8B22-4C52-8A36-2E21155F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E108A-3FFD-4DCA-B113-48C2E592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0DFBD-B421-4D20-9DB3-1986446E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D074A-9FE2-43A6-8986-147FF4F6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ACC7E-9A2E-4331-90F9-AD39B803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90D1E-6DE2-4284-990A-8C2A9E1E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7D4E-5882-42FD-84F9-D3E2A86506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0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5C71-CBB9-4353-8FBF-55B4FCAEE0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5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5101-8DC6-48C7-A243-3CF0FD7037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9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30E9-B3F4-4D37-A422-4CD7756E72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4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834B-6507-4927-B6E3-9BDBE8DD52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3409-CE5B-42A6-97CD-930C5F5CA8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F767-F5E5-401C-9641-BB3D0F9516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3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D09D-681F-4675-87F2-236295C695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8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9656-FFC6-4F96-B516-83B5DCA5D7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2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6CDA-C52F-4374-A4F2-6E5CA375D0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7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EE0A-EC26-4C5E-9CD8-AA754C13FD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1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43CE-AD16-4CBC-AFF7-9EC6BE288F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6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487C-1055-4B8B-8E4E-784FF4351B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Місце для нижнього колонтитула 1"/>
          <p:cNvSpPr/>
          <p:nvPr/>
        </p:nvSpPr>
        <p:spPr>
          <a:xfrm>
            <a:off x="325116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ndel’s laws of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rom his studies, Mendel derived certain basic laws of heredit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Hereditary factors do not combine, but are passed intact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ach member of the parental generation transmits only half of its hereditary factors to each offspring (with certain factors "dominant" over others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Different offspring of the same parents receive different sets of hereditary fac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3583080" y="380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3"/>
          <p:cNvSpPr/>
          <p:nvPr/>
        </p:nvSpPr>
        <p:spPr>
          <a:xfrm>
            <a:off x="3962520" y="533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5182560" y="3808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5"/>
          <p:cNvSpPr/>
          <p:nvPr/>
        </p:nvSpPr>
        <p:spPr>
          <a:xfrm>
            <a:off x="4648320" y="6094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6"/>
          <p:cNvSpPr/>
          <p:nvPr/>
        </p:nvSpPr>
        <p:spPr>
          <a:xfrm>
            <a:off x="350532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7"/>
          <p:cNvSpPr/>
          <p:nvPr/>
        </p:nvSpPr>
        <p:spPr>
          <a:xfrm>
            <a:off x="35053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8"/>
          <p:cNvSpPr/>
          <p:nvPr/>
        </p:nvSpPr>
        <p:spPr>
          <a:xfrm>
            <a:off x="541008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3277800" y="1523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571644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60199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41922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13"/>
          <p:cNvSpPr/>
          <p:nvPr/>
        </p:nvSpPr>
        <p:spPr>
          <a:xfrm>
            <a:off x="44197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51066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6861600" y="4572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6554160" y="9144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17"/>
          <p:cNvSpPr/>
          <p:nvPr/>
        </p:nvSpPr>
        <p:spPr>
          <a:xfrm>
            <a:off x="441972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18"/>
          <p:cNvSpPr/>
          <p:nvPr/>
        </p:nvSpPr>
        <p:spPr>
          <a:xfrm>
            <a:off x="3276720" y="22860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Line 19"/>
          <p:cNvSpPr/>
          <p:nvPr/>
        </p:nvSpPr>
        <p:spPr>
          <a:xfrm>
            <a:off x="32767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20"/>
          <p:cNvSpPr/>
          <p:nvPr/>
        </p:nvSpPr>
        <p:spPr>
          <a:xfrm>
            <a:off x="54864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21"/>
          <p:cNvSpPr/>
          <p:nvPr/>
        </p:nvSpPr>
        <p:spPr>
          <a:xfrm>
            <a:off x="3048120" y="25909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22"/>
          <p:cNvSpPr/>
          <p:nvPr/>
        </p:nvSpPr>
        <p:spPr>
          <a:xfrm>
            <a:off x="5257800" y="25909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23"/>
          <p:cNvSpPr/>
          <p:nvPr/>
        </p:nvSpPr>
        <p:spPr>
          <a:xfrm>
            <a:off x="46483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24"/>
          <p:cNvSpPr/>
          <p:nvPr/>
        </p:nvSpPr>
        <p:spPr>
          <a:xfrm>
            <a:off x="38862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37350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26"/>
          <p:cNvSpPr/>
          <p:nvPr/>
        </p:nvSpPr>
        <p:spPr>
          <a:xfrm>
            <a:off x="44208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916920" y="13716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916920" y="22096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29"/>
          <p:cNvSpPr/>
          <p:nvPr/>
        </p:nvSpPr>
        <p:spPr>
          <a:xfrm>
            <a:off x="3962520" y="28954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30"/>
          <p:cNvSpPr/>
          <p:nvPr/>
        </p:nvSpPr>
        <p:spPr>
          <a:xfrm>
            <a:off x="4724280" y="3048120"/>
            <a:ext cx="76212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31"/>
          <p:cNvSpPr/>
          <p:nvPr/>
        </p:nvSpPr>
        <p:spPr>
          <a:xfrm>
            <a:off x="5562720" y="2971800"/>
            <a:ext cx="16761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32"/>
          <p:cNvSpPr/>
          <p:nvPr/>
        </p:nvSpPr>
        <p:spPr>
          <a:xfrm flipH="1">
            <a:off x="1676160" y="2895480"/>
            <a:ext cx="15238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33"/>
          <p:cNvSpPr/>
          <p:nvPr/>
        </p:nvSpPr>
        <p:spPr>
          <a:xfrm>
            <a:off x="838080" y="41911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34"/>
          <p:cNvSpPr/>
          <p:nvPr/>
        </p:nvSpPr>
        <p:spPr>
          <a:xfrm>
            <a:off x="8380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35"/>
          <p:cNvSpPr/>
          <p:nvPr/>
        </p:nvSpPr>
        <p:spPr>
          <a:xfrm>
            <a:off x="2286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36"/>
          <p:cNvSpPr/>
          <p:nvPr/>
        </p:nvSpPr>
        <p:spPr>
          <a:xfrm>
            <a:off x="6112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37"/>
          <p:cNvSpPr/>
          <p:nvPr/>
        </p:nvSpPr>
        <p:spPr>
          <a:xfrm>
            <a:off x="12193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38"/>
          <p:cNvSpPr/>
          <p:nvPr/>
        </p:nvSpPr>
        <p:spPr>
          <a:xfrm>
            <a:off x="1752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39"/>
          <p:cNvSpPr/>
          <p:nvPr/>
        </p:nvSpPr>
        <p:spPr>
          <a:xfrm>
            <a:off x="60948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40"/>
          <p:cNvSpPr/>
          <p:nvPr/>
        </p:nvSpPr>
        <p:spPr>
          <a:xfrm>
            <a:off x="9921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41"/>
          <p:cNvSpPr/>
          <p:nvPr/>
        </p:nvSpPr>
        <p:spPr>
          <a:xfrm>
            <a:off x="205884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42"/>
          <p:cNvSpPr/>
          <p:nvPr/>
        </p:nvSpPr>
        <p:spPr>
          <a:xfrm>
            <a:off x="15256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43"/>
          <p:cNvSpPr/>
          <p:nvPr/>
        </p:nvSpPr>
        <p:spPr>
          <a:xfrm>
            <a:off x="3048120" y="4191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44"/>
          <p:cNvSpPr/>
          <p:nvPr/>
        </p:nvSpPr>
        <p:spPr>
          <a:xfrm>
            <a:off x="30481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45"/>
          <p:cNvSpPr/>
          <p:nvPr/>
        </p:nvSpPr>
        <p:spPr>
          <a:xfrm>
            <a:off x="4572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46"/>
          <p:cNvSpPr/>
          <p:nvPr/>
        </p:nvSpPr>
        <p:spPr>
          <a:xfrm>
            <a:off x="28209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47"/>
          <p:cNvSpPr/>
          <p:nvPr/>
        </p:nvSpPr>
        <p:spPr>
          <a:xfrm>
            <a:off x="3962520" y="441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48"/>
          <p:cNvSpPr/>
          <p:nvPr/>
        </p:nvSpPr>
        <p:spPr>
          <a:xfrm>
            <a:off x="4268160" y="43434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49"/>
          <p:cNvSpPr/>
          <p:nvPr/>
        </p:nvSpPr>
        <p:spPr>
          <a:xfrm>
            <a:off x="35812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50"/>
          <p:cNvSpPr/>
          <p:nvPr/>
        </p:nvSpPr>
        <p:spPr>
          <a:xfrm>
            <a:off x="4038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51"/>
          <p:cNvSpPr/>
          <p:nvPr/>
        </p:nvSpPr>
        <p:spPr>
          <a:xfrm>
            <a:off x="33541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52"/>
          <p:cNvSpPr/>
          <p:nvPr/>
        </p:nvSpPr>
        <p:spPr>
          <a:xfrm>
            <a:off x="38113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53"/>
          <p:cNvSpPr/>
          <p:nvPr/>
        </p:nvSpPr>
        <p:spPr>
          <a:xfrm>
            <a:off x="4648320" y="4800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54"/>
          <p:cNvSpPr/>
          <p:nvPr/>
        </p:nvSpPr>
        <p:spPr>
          <a:xfrm>
            <a:off x="46483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55"/>
          <p:cNvSpPr/>
          <p:nvPr/>
        </p:nvSpPr>
        <p:spPr>
          <a:xfrm>
            <a:off x="6248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56"/>
          <p:cNvSpPr/>
          <p:nvPr/>
        </p:nvSpPr>
        <p:spPr>
          <a:xfrm>
            <a:off x="4421160" y="5105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57"/>
          <p:cNvSpPr/>
          <p:nvPr/>
        </p:nvSpPr>
        <p:spPr>
          <a:xfrm>
            <a:off x="6021000" y="51055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58"/>
          <p:cNvSpPr/>
          <p:nvPr/>
        </p:nvSpPr>
        <p:spPr>
          <a:xfrm>
            <a:off x="5105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59"/>
          <p:cNvSpPr/>
          <p:nvPr/>
        </p:nvSpPr>
        <p:spPr>
          <a:xfrm>
            <a:off x="571500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60"/>
          <p:cNvSpPr/>
          <p:nvPr/>
        </p:nvSpPr>
        <p:spPr>
          <a:xfrm>
            <a:off x="487800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61"/>
          <p:cNvSpPr/>
          <p:nvPr/>
        </p:nvSpPr>
        <p:spPr>
          <a:xfrm>
            <a:off x="541152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62"/>
          <p:cNvSpPr/>
          <p:nvPr/>
        </p:nvSpPr>
        <p:spPr>
          <a:xfrm>
            <a:off x="6477120" y="42670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63"/>
          <p:cNvSpPr/>
          <p:nvPr/>
        </p:nvSpPr>
        <p:spPr>
          <a:xfrm>
            <a:off x="647712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64"/>
          <p:cNvSpPr/>
          <p:nvPr/>
        </p:nvSpPr>
        <p:spPr>
          <a:xfrm>
            <a:off x="800100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65"/>
          <p:cNvSpPr/>
          <p:nvPr/>
        </p:nvSpPr>
        <p:spPr>
          <a:xfrm>
            <a:off x="624960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66"/>
          <p:cNvSpPr/>
          <p:nvPr/>
        </p:nvSpPr>
        <p:spPr>
          <a:xfrm>
            <a:off x="76971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67"/>
          <p:cNvSpPr/>
          <p:nvPr/>
        </p:nvSpPr>
        <p:spPr>
          <a:xfrm>
            <a:off x="70102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68"/>
          <p:cNvSpPr/>
          <p:nvPr/>
        </p:nvSpPr>
        <p:spPr>
          <a:xfrm>
            <a:off x="74674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69"/>
          <p:cNvSpPr/>
          <p:nvPr/>
        </p:nvSpPr>
        <p:spPr>
          <a:xfrm>
            <a:off x="67827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70"/>
          <p:cNvSpPr/>
          <p:nvPr/>
        </p:nvSpPr>
        <p:spPr>
          <a:xfrm>
            <a:off x="72399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2"/>
          <p:cNvSpPr/>
          <p:nvPr/>
        </p:nvSpPr>
        <p:spPr>
          <a:xfrm>
            <a:off x="2438280" y="533520"/>
            <a:ext cx="990720" cy="990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Line 3"/>
          <p:cNvSpPr/>
          <p:nvPr/>
        </p:nvSpPr>
        <p:spPr>
          <a:xfrm>
            <a:off x="3429000" y="11430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AutoShape 4"/>
          <p:cNvSpPr/>
          <p:nvPr/>
        </p:nvSpPr>
        <p:spPr>
          <a:xfrm>
            <a:off x="5334120" y="609480"/>
            <a:ext cx="1066680" cy="9907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662940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6784920" y="12193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 flipH="1">
            <a:off x="6477120" y="1371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4343400" y="1219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9"/>
          <p:cNvSpPr/>
          <p:nvPr/>
        </p:nvSpPr>
        <p:spPr>
          <a:xfrm>
            <a:off x="2819520" y="20574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>
            <a:off x="28195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Line 11"/>
          <p:cNvSpPr/>
          <p:nvPr/>
        </p:nvSpPr>
        <p:spPr>
          <a:xfrm>
            <a:off x="594360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AutoShape 12"/>
          <p:cNvSpPr/>
          <p:nvPr/>
        </p:nvSpPr>
        <p:spPr>
          <a:xfrm>
            <a:off x="2590920" y="2438280"/>
            <a:ext cx="53316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13"/>
          <p:cNvSpPr/>
          <p:nvPr/>
        </p:nvSpPr>
        <p:spPr>
          <a:xfrm>
            <a:off x="5715000" y="24382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14"/>
          <p:cNvSpPr/>
          <p:nvPr/>
        </p:nvSpPr>
        <p:spPr>
          <a:xfrm>
            <a:off x="380988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15"/>
          <p:cNvSpPr/>
          <p:nvPr/>
        </p:nvSpPr>
        <p:spPr>
          <a:xfrm>
            <a:off x="480060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AutoShape 16"/>
          <p:cNvSpPr/>
          <p:nvPr/>
        </p:nvSpPr>
        <p:spPr>
          <a:xfrm>
            <a:off x="3505320" y="2438280"/>
            <a:ext cx="60948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17"/>
          <p:cNvSpPr/>
          <p:nvPr/>
        </p:nvSpPr>
        <p:spPr>
          <a:xfrm>
            <a:off x="4495680" y="2438280"/>
            <a:ext cx="60984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8"/>
          <p:cNvSpPr/>
          <p:nvPr/>
        </p:nvSpPr>
        <p:spPr>
          <a:xfrm>
            <a:off x="6629760" y="2438280"/>
            <a:ext cx="22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19"/>
          <p:cNvSpPr/>
          <p:nvPr/>
        </p:nvSpPr>
        <p:spPr>
          <a:xfrm flipH="1">
            <a:off x="6858000" y="2590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20"/>
          <p:cNvSpPr/>
          <p:nvPr/>
        </p:nvSpPr>
        <p:spPr>
          <a:xfrm>
            <a:off x="38098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Line 21"/>
          <p:cNvSpPr/>
          <p:nvPr/>
        </p:nvSpPr>
        <p:spPr>
          <a:xfrm>
            <a:off x="2743200" y="3581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22"/>
          <p:cNvSpPr/>
          <p:nvPr/>
        </p:nvSpPr>
        <p:spPr>
          <a:xfrm>
            <a:off x="274320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AutoShape 24"/>
          <p:cNvSpPr/>
          <p:nvPr/>
        </p:nvSpPr>
        <p:spPr>
          <a:xfrm>
            <a:off x="2514600" y="4038480"/>
            <a:ext cx="45720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AutoShape 25"/>
          <p:cNvSpPr/>
          <p:nvPr/>
        </p:nvSpPr>
        <p:spPr>
          <a:xfrm>
            <a:off x="4648320" y="4038480"/>
            <a:ext cx="533160" cy="5335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Line 26"/>
          <p:cNvSpPr/>
          <p:nvPr/>
        </p:nvSpPr>
        <p:spPr>
          <a:xfrm>
            <a:off x="34290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Line 27"/>
          <p:cNvSpPr/>
          <p:nvPr/>
        </p:nvSpPr>
        <p:spPr>
          <a:xfrm>
            <a:off x="41148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28"/>
          <p:cNvSpPr/>
          <p:nvPr/>
        </p:nvSpPr>
        <p:spPr>
          <a:xfrm>
            <a:off x="32004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29"/>
          <p:cNvSpPr/>
          <p:nvPr/>
        </p:nvSpPr>
        <p:spPr>
          <a:xfrm>
            <a:off x="38862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30"/>
          <p:cNvSpPr/>
          <p:nvPr/>
        </p:nvSpPr>
        <p:spPr>
          <a:xfrm>
            <a:off x="5486400" y="411480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Line 31"/>
          <p:cNvSpPr/>
          <p:nvPr/>
        </p:nvSpPr>
        <p:spPr>
          <a:xfrm flipH="1">
            <a:off x="5866920" y="4267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ndel's work became the foundation for modern genetic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impact of genetic theory is no longer questioned in anyone's min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Many diseases are known to be inheri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and pedigrees are typically traced to determine the probability of passing along an hereditary disea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Plants are now designed in laboratories to exhibit desired characteristic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practical results of Mendel's research has not only changed the way we perceive the world, but also the way we live in it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ook seven years to prove laws of inheritan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-Basic Law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redity Factors do not combi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Each member of a parental generation transfers only one half of its heredity factors to each offspr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Mendel’s works became the foundation of modern gene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ater crossed mice and pea pla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Noticed traits were inherited in certain numerical rat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Came up with idea of dominance and segregation of genes and set out to test it in pe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ove of nature encouraged his interest in 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Also interested in meteorology and theories of evol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More 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205.180.85.40/w/pc.cgi?mid=10866&amp;sid=72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accessexcellence.org/AB/BC/Gregor_Mendel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netspace.org/MendelWeb/MWpaptoc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101 Key Ideas: Gene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Baskerville Old Face"/>
              </a:rPr>
              <a:t>http://www.library.villanova.edu/html2/lib/mendel/mendexhib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Father of Modern Genetic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9" descr="Mendel, Gregor Johann -- Media -- Encarta ® Online "/>
          <p:cNvPicPr/>
          <p:nvPr/>
        </p:nvPicPr>
        <p:blipFill>
          <a:blip r:embed="rId1"/>
          <a:stretch/>
        </p:blipFill>
        <p:spPr>
          <a:xfrm>
            <a:off x="2971800" y="1906560"/>
            <a:ext cx="2743200" cy="24368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3"/>
          <p:cNvSpPr/>
          <p:nvPr/>
        </p:nvSpPr>
        <p:spPr>
          <a:xfrm>
            <a:off x="361800" y="4494600"/>
            <a:ext cx="84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skerville Old Face"/>
              </a:rPr>
              <a:t>The first person to trace the characteristics of successive generations of a living th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14"/>
          <p:cNvSpPr/>
          <p:nvPr/>
        </p:nvSpPr>
        <p:spPr>
          <a:xfrm>
            <a:off x="380880" y="5095440"/>
            <a:ext cx="824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He was not a world-renowned scientist of his 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ther, he was an Augustinian monk who taught natural science to high school student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612720" y="1971720"/>
            <a:ext cx="80740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Second child of Anton and Rosine Mend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were farmers in Brun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couldn’t afford for him to attend colle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Gregor Mendel then attended the Augustinian Monastery and became a mo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WordArt 3"/>
          <p:cNvSpPr txBox="1"/>
          <p:nvPr/>
        </p:nvSpPr>
        <p:spPr>
          <a:xfrm>
            <a:off x="609480" y="609480"/>
            <a:ext cx="7848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Famil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Where Mendel Studie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Picture 5" descr="Olmutz Class"/>
          <p:cNvPicPr/>
          <p:nvPr/>
        </p:nvPicPr>
        <p:blipFill>
          <a:blip r:embed="rId1"/>
          <a:stretch/>
        </p:blipFill>
        <p:spPr>
          <a:xfrm>
            <a:off x="2286000" y="2971800"/>
            <a:ext cx="4952880" cy="2938320"/>
          </a:xfrm>
          <a:prstGeom prst="rect">
            <a:avLst/>
          </a:prstGeom>
          <a:ln w="0">
            <a:noFill/>
          </a:ln>
        </p:spPr>
      </p:pic>
      <p:sp>
        <p:nvSpPr>
          <p:cNvPr id="606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5" descr="experimental garden"/>
          <p:cNvPicPr/>
          <p:nvPr/>
        </p:nvPicPr>
        <p:blipFill>
          <a:blip r:embed="rId1"/>
          <a:stretch/>
        </p:blipFill>
        <p:spPr>
          <a:xfrm>
            <a:off x="762120" y="533520"/>
            <a:ext cx="3292200" cy="441936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1"/>
          <p:cNvSpPr/>
          <p:nvPr/>
        </p:nvSpPr>
        <p:spPr>
          <a:xfrm>
            <a:off x="533520" y="5013360"/>
            <a:ext cx="3581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experimental garden (35x7 meters) in the grounds of the Augustinian Monastery in Old Brno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Its appearance before 1922. 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13" descr="mongarden"/>
          <p:cNvPicPr/>
          <p:nvPr/>
        </p:nvPicPr>
        <p:blipFill>
          <a:blip r:embed="rId2"/>
          <a:stretch/>
        </p:blipFill>
        <p:spPr>
          <a:xfrm>
            <a:off x="4648320" y="1447920"/>
            <a:ext cx="3714480" cy="239400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14"/>
          <p:cNvSpPr/>
          <p:nvPr/>
        </p:nvSpPr>
        <p:spPr>
          <a:xfrm>
            <a:off x="4648320" y="3855240"/>
            <a:ext cx="3886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The Monastery Garden with the greenhouse whic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had built in 1870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Its appearance before 1902.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How Mendel Got Start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's attraction to research was based on his love of natu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 was not only interested in plants, but also in meteorology and theories of evolu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 often wondered how plants obtained atypical characteristic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The Birth of the idea: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 a walk around the monastery, he found an atypical variety of an ornamental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ook it and planted it next to the typical var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grew their progeny side by side to see if there would be any approximation of the traits passed on to the next gener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This experiment was "designed to support or to illustrate Lamarck's views concerning the influence of environment upon plants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found that the plants' respective offspring retained the essential traits of the parents, and therefore were not influenced by the environ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ndel's research reflected his personal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000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saw that the traits were inherited in certain numerical rat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89360" y="1828800"/>
            <a:ext cx="399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hen came up with the idea of dominance and segregation of genes and set out to test it in pe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t took seven years to cross and score the plants to the thousand to prove the laws of inheritance!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ictures of atypical plan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Picture 3" descr="Dianthus drawing"/>
          <p:cNvPicPr/>
          <p:nvPr/>
        </p:nvPicPr>
        <p:blipFill>
          <a:blip r:embed="rId1"/>
          <a:stretch/>
        </p:blipFill>
        <p:spPr>
          <a:xfrm>
            <a:off x="3035160" y="1905120"/>
            <a:ext cx="2741760" cy="3811320"/>
          </a:xfrm>
          <a:prstGeom prst="rect">
            <a:avLst/>
          </a:prstGeom>
          <a:ln w="0">
            <a:noFill/>
          </a:ln>
        </p:spPr>
      </p:pic>
      <p:sp>
        <p:nvSpPr>
          <p:cNvPr id="62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3T17:29:13Z</dcterms:created>
  <dc:creator>Cassandra Rojas</dc:creator>
  <dc:description/>
  <dc:language>en-US</dc:language>
  <cp:lastModifiedBy>LEGION2</cp:lastModifiedBy>
  <dcterms:modified xsi:type="dcterms:W3CDTF">2016-01-12T11:12:32Z</dcterms:modified>
  <cp:revision>21</cp:revision>
  <dc:subject/>
  <dc:title>Gregor Mendel</dc:title>
</cp:coreProperties>
</file>