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AF09-E298-4C9B-AC8D-D920386895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639F3-8D04-42CB-91EC-47E43315F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EFEA3-19F1-4F85-BF92-3AAAFC721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08D3C-ACF6-43EE-B227-44E7DB430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C23CE-3F0F-4371-A759-8C535090D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CC132-F23D-4793-8D1E-41D233ABB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D4CC2-8763-4974-B6C8-BE85F5971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B0E84-3D64-440C-BA2D-EA6C875F5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0735A-4B3A-4617-AE4F-93D1F4689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F094A-7E17-43FE-8348-5D59625A6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51291-662E-4C50-A270-952C4D79E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BA8C5-2416-4B97-9D9B-74D672777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06419-21A1-4470-B36A-BF112B1FA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4A94-F06A-4F6B-8F75-E52755F540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Objectiv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 the regulation of protein synthesis in bacteria. (Reference should be made to the </a:t>
            </a:r>
            <a:r>
              <a:rPr b="0" i="1" lang="en-GB" sz="3200" spc="-1" strike="noStrike">
                <a:solidFill>
                  <a:srgbClr val="000000"/>
                </a:solidFill>
                <a:latin typeface="Arial"/>
              </a:rPr>
              <a:t>lac </a:t>
            </a:r>
            <a:r>
              <a:rPr b="0" lang="en-GB" sz="3200" spc="-1" strike="noStrike">
                <a:solidFill>
                  <a:srgbClr val="000000"/>
                </a:solidFill>
                <a:latin typeface="Arial"/>
              </a:rPr>
              <a:t>operon in </a:t>
            </a:r>
            <a:r>
              <a:rPr b="0" i="1" lang="en-GB" sz="3200" spc="-1" strike="noStrike">
                <a:solidFill>
                  <a:srgbClr val="000000"/>
                </a:solidFill>
                <a:latin typeface="Arial"/>
              </a:rPr>
              <a:t>Escherichia coli</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Lac Oper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ac Operon is an example of an operon that is able to regulate itself depending on the environmental conditions it is subjected t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codes for 3 genes: Beta-galactosidase, lactose permease and Thiogalactosidase transacetylase. These genes are involved in lactose metabolism.</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lactose is absent, the system is turned off; if lactose is present, the operon is switched on.</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457200" y="504720"/>
          <a:ext cx="8077320" cy="5740560"/>
        </p:xfrm>
        <a:graphic>
          <a:graphicData uri="http://schemas.openxmlformats.org/presentationml/2006/ole">
            <p:oleObj r:id="rId1" spid="">
              <p:embed/>
              <p:pic>
                <p:nvPicPr>
                  <p:cNvPr id="55" name="Object 2" descr=""/>
                  <p:cNvPicPr/>
                  <p:nvPr/>
                </p:nvPicPr>
                <p:blipFill>
                  <a:blip r:embed="rId2"/>
                  <a:stretch/>
                </p:blipFill>
                <p:spPr>
                  <a:xfrm>
                    <a:off x="457200" y="504720"/>
                    <a:ext cx="8077320" cy="5740560"/>
                  </a:xfrm>
                  <a:prstGeom prst="rect">
                    <a:avLst/>
                  </a:prstGeom>
                  <a:ln w="0">
                    <a:noFill/>
                  </a:ln>
                </p:spPr>
              </p:pic>
            </p:oleObj>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Object 2"/>
          <p:cNvGraphicFramePr/>
          <p:nvPr/>
        </p:nvGraphicFramePr>
        <p:xfrm>
          <a:off x="0" y="1212840"/>
          <a:ext cx="9144000" cy="4432320"/>
        </p:xfrm>
        <a:graphic>
          <a:graphicData uri="http://schemas.openxmlformats.org/presentationml/2006/ole">
            <p:oleObj r:id="rId1" spid="">
              <p:embed/>
              <p:pic>
                <p:nvPicPr>
                  <p:cNvPr id="58" name="Object 2" descr=""/>
                  <p:cNvPicPr/>
                  <p:nvPr/>
                </p:nvPicPr>
                <p:blipFill>
                  <a:blip r:embed="rId2"/>
                  <a:stretch/>
                </p:blipFill>
                <p:spPr>
                  <a:xfrm>
                    <a:off x="0" y="1212840"/>
                    <a:ext cx="9144000" cy="4432320"/>
                  </a:xfrm>
                  <a:prstGeom prst="rect">
                    <a:avLst/>
                  </a:prstGeom>
                  <a:ln w="0">
                    <a:noFill/>
                  </a:ln>
                </p:spPr>
              </p:pic>
            </p:oleObj>
          </a:graphicData>
        </a:graphic>
      </p:graphicFrame>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609480" y="1397160"/>
          <a:ext cx="8153640" cy="5719680"/>
        </p:xfrm>
        <a:graphic>
          <a:graphicData uri="http://schemas.openxmlformats.org/drawingml/2006/table">
            <a:tbl>
              <a:tblPr/>
              <a:tblGrid>
                <a:gridCol w="3276720"/>
                <a:gridCol w="4876920"/>
              </a:tblGrid>
              <a:tr h="6778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le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Purpo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erator (La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epresso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moter (Lac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NA Polymera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sor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 encoding the lac repressor protein. Binds to DNA at the operator &amp; blocks binding of RNA Pol at the promo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production of the repressor prote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grid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0"/>
          <a:ext cx="9144000" cy="6783480"/>
        </p:xfrm>
        <a:graphic>
          <a:graphicData uri="http://schemas.openxmlformats.org/drawingml/2006/table">
            <a:tbl>
              <a:tblPr/>
              <a:tblGrid>
                <a:gridCol w="3048120"/>
                <a:gridCol w="6095880"/>
              </a:tblGrid>
              <a:tr h="69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nzy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Func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2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galactosid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hydrolyzes the bond between the two sugars, glucose and galactose. It is coded for by the gene Lac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1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tose Perme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spans the cell membrane and brings lactose into the cell from the outside environment. The membrane is otherwise essentially impermeable to lactose. It is coded for by the gene Lac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ogalactosidase transacetyl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nction of this enzyme is not known. It is coded for by the gene LacA</a:t>
                      </a:r>
                      <a:r>
                        <a:rPr b="0" lang="en-GB"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7:38:27Z</dcterms:created>
  <dc:creator>SGlinski</dc:creator>
  <dc:description/>
  <dc:language>en-US</dc:language>
  <cp:lastModifiedBy>LEGION2</cp:lastModifiedBy>
  <dcterms:modified xsi:type="dcterms:W3CDTF">2016-01-12T11:20:37Z</dcterms:modified>
  <cp:revision>10</cp:revision>
  <dc:subject/>
  <dc:title>Objectives</dc:title>
</cp:coreProperties>
</file>