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B21C8-2757-4697-B8BB-3F87AED815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 division – ‘reduction division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duction of sex cells – 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iosis err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division – ‘reduction division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sex cells –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we need meios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is necessary to halve the number of chromosomes going into the sex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halve the chromosomes in gamet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fertilisation the male and female sex cells will provide ½ of the chromosomes each – so the offspring has genes from both pa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we need meios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is necessary to halve the number of chromosomes going into the sex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halve the chromosomes in gamet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fertilisation the male and female sex cells will provide ½ of the chromosomes each – so the offspring has genes from both pa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cell – chromosome p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cop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division - pairs spl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division – produces 4 gamete cells with ½ the original no. of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cell – chromosome p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cop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division - pairs spl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division – produces 4 gamete cells with ½ the original no. of 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iosis – mouse testes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 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st  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nd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– mouse testes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 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iosis – division 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romosome pai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– division er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 pai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error - fertil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the gamete with the chromosome pair be fertilised then the offspring will not be ‘normal’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humans this often occurs with the 21st pair – producing a child with Downs Syndr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error - ferti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the gamete with the chromosome pair be fertilised then the offspring will not be ‘normal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humans this often occurs with the 21st pair – producing a child with Downs Synd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 trisomy – Downs Syndr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see the extra 21st chromosom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is person male or fema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 trisomy – Downs Synd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see the extra 21st chromoso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is person male or fema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5C21-3138-488E-A28B-8BC8E75C5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7911-CE6B-4CD8-A633-60D17480D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2136-9586-4FFD-8DC1-33C436543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BBE5-6BEF-4DBF-81E1-E9B6CC5AF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7D07-2BF8-4D4B-BE66-D7DBC4200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9E32-6CB7-49D6-9A82-8F6C938F8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C95D-C587-40F1-8C41-587EB2D3F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9E48-B4D2-48B8-9CBA-705707497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C419-4754-4F00-8837-C7B93BC4C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7F88-20D1-411A-813E-A11C1AD1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C3EA-CEFF-4B64-8D02-F451A1635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6CDE-8E6D-4F72-B04A-8323E185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93DA7-7E5C-4AE1-9B20-3F880503BE3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Meiosi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2565360"/>
            <a:ext cx="64008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Cell division – ‘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duction division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duction of sex cells – game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eiosis err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hy do we need meios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eiosis is necessary to halve the number of chromosomes going into the sex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y halve the chromosomes in gamet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t fertilisation the male and female sex cells will provide ½ of the chromosomes each – so the offspring has genes from both par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345456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ei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4" descr="meiosis simple"/>
          <p:cNvPicPr/>
          <p:nvPr/>
        </p:nvPicPr>
        <p:blipFill>
          <a:blip r:embed="rId1"/>
          <a:stretch/>
        </p:blipFill>
        <p:spPr>
          <a:xfrm>
            <a:off x="611280" y="1484280"/>
            <a:ext cx="4263840" cy="4967280"/>
          </a:xfrm>
          <a:prstGeom prst="rect">
            <a:avLst/>
          </a:prstGeom>
          <a:ln w="0">
            <a:noFill/>
          </a:ln>
        </p:spPr>
      </p:pic>
      <p:sp>
        <p:nvSpPr>
          <p:cNvPr id="59" name="Line 8"/>
          <p:cNvSpPr/>
          <p:nvPr/>
        </p:nvSpPr>
        <p:spPr>
          <a:xfrm flipH="1">
            <a:off x="3779640" y="191628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9"/>
          <p:cNvSpPr/>
          <p:nvPr/>
        </p:nvSpPr>
        <p:spPr>
          <a:xfrm flipH="1">
            <a:off x="3924360" y="32846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10"/>
          <p:cNvSpPr/>
          <p:nvPr/>
        </p:nvSpPr>
        <p:spPr>
          <a:xfrm flipH="1">
            <a:off x="4284720" y="4292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11"/>
          <p:cNvSpPr/>
          <p:nvPr/>
        </p:nvSpPr>
        <p:spPr>
          <a:xfrm flipH="1">
            <a:off x="5148000" y="6021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5435640" y="1628640"/>
            <a:ext cx="31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rent cell – chromosome p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3"/>
          <p:cNvSpPr/>
          <p:nvPr/>
        </p:nvSpPr>
        <p:spPr>
          <a:xfrm>
            <a:off x="5435640" y="2708280"/>
            <a:ext cx="215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romosomes cop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5364000" y="393372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division - pairs spl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5"/>
          <p:cNvSpPr/>
          <p:nvPr/>
        </p:nvSpPr>
        <p:spPr>
          <a:xfrm>
            <a:off x="5651640" y="4724280"/>
            <a:ext cx="302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division – produces 4 gamete cells with ½ the original no. of chromos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727236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eiosis – mouse testes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4" descr="meiosis 9 stages pics"/>
          <p:cNvPicPr/>
          <p:nvPr/>
        </p:nvPicPr>
        <p:blipFill>
          <a:blip r:embed="rId1"/>
          <a:stretch/>
        </p:blipFill>
        <p:spPr>
          <a:xfrm>
            <a:off x="826920" y="1125360"/>
            <a:ext cx="7199640" cy="54198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8"/>
          <p:cNvSpPr/>
          <p:nvPr/>
        </p:nvSpPr>
        <p:spPr>
          <a:xfrm>
            <a:off x="1042920" y="1341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5940360" y="5661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 game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5724360" y="177336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1042920" y="508464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eiosis – division err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4" descr="meiosis error 2 triploid"/>
          <p:cNvPicPr/>
          <p:nvPr/>
        </p:nvPicPr>
        <p:blipFill>
          <a:blip r:embed="rId1"/>
          <a:stretch/>
        </p:blipFill>
        <p:spPr>
          <a:xfrm>
            <a:off x="1290600" y="1773360"/>
            <a:ext cx="3135240" cy="4103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meiosis error 21 triploid"/>
          <p:cNvPicPr/>
          <p:nvPr/>
        </p:nvPicPr>
        <p:blipFill>
          <a:blip r:embed="rId2"/>
          <a:stretch/>
        </p:blipFill>
        <p:spPr>
          <a:xfrm>
            <a:off x="5224320" y="1844640"/>
            <a:ext cx="3092760" cy="4176720"/>
          </a:xfrm>
          <a:prstGeom prst="rect">
            <a:avLst/>
          </a:prstGeom>
          <a:ln w="0">
            <a:noFill/>
          </a:ln>
        </p:spPr>
      </p:pic>
      <p:sp>
        <p:nvSpPr>
          <p:cNvPr id="78" name="Line 10"/>
          <p:cNvSpPr/>
          <p:nvPr/>
        </p:nvSpPr>
        <p:spPr>
          <a:xfrm flipV="1">
            <a:off x="5724360" y="6021360"/>
            <a:ext cx="287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11"/>
          <p:cNvSpPr/>
          <p:nvPr/>
        </p:nvSpPr>
        <p:spPr>
          <a:xfrm flipH="1" flipV="1">
            <a:off x="3348000" y="5949720"/>
            <a:ext cx="2160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3348000" y="616572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romosome pai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eiosis error - fertilis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4" descr="meiosis error 21tri fertilise"/>
          <p:cNvPicPr/>
          <p:nvPr/>
        </p:nvPicPr>
        <p:blipFill>
          <a:blip r:embed="rId1"/>
          <a:stretch/>
        </p:blipFill>
        <p:spPr>
          <a:xfrm>
            <a:off x="4140360" y="1844640"/>
            <a:ext cx="4249440" cy="45370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7"/>
          <p:cNvSpPr/>
          <p:nvPr/>
        </p:nvSpPr>
        <p:spPr>
          <a:xfrm>
            <a:off x="755640" y="1916280"/>
            <a:ext cx="331164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hould the gamete with the chromosome pair be fertilised then the offspring will not be ‘normal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humans this often occurs with the 2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pair – producing a child with Downs Syndr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1 trisomy – Downs Syndro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4" descr="trisomy-21"/>
          <p:cNvPicPr/>
          <p:nvPr/>
        </p:nvPicPr>
        <p:blipFill>
          <a:blip r:embed="rId1"/>
          <a:stretch/>
        </p:blipFill>
        <p:spPr>
          <a:xfrm>
            <a:off x="826920" y="1557360"/>
            <a:ext cx="4857840" cy="4896000"/>
          </a:xfrm>
          <a:prstGeom prst="rect">
            <a:avLst/>
          </a:prstGeom>
          <a:ln w="0">
            <a:noFill/>
          </a:ln>
        </p:spPr>
      </p:pic>
      <p:sp>
        <p:nvSpPr>
          <p:cNvPr id="88" name="Oval 7"/>
          <p:cNvSpPr/>
          <p:nvPr/>
        </p:nvSpPr>
        <p:spPr>
          <a:xfrm>
            <a:off x="2556000" y="5589720"/>
            <a:ext cx="1584360" cy="934920"/>
          </a:xfrm>
          <a:prstGeom prst="ellipse">
            <a:avLst/>
          </a:prstGeom>
          <a:noFill/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5796000" y="2781360"/>
            <a:ext cx="230328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n you see the extra 21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chromosom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 this person male or fema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Oval 9"/>
          <p:cNvSpPr/>
          <p:nvPr/>
        </p:nvSpPr>
        <p:spPr>
          <a:xfrm>
            <a:off x="4356000" y="4941720"/>
            <a:ext cx="1008000" cy="936720"/>
          </a:xfrm>
          <a:prstGeom prst="ellipse">
            <a:avLst/>
          </a:prstGeom>
          <a:noFill/>
          <a:ln w="442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4:25:12Z</dcterms:created>
  <dc:creator>rik</dc:creator>
  <dc:description/>
  <dc:language>en-US</dc:language>
  <cp:lastModifiedBy>LEGION2</cp:lastModifiedBy>
  <dcterms:modified xsi:type="dcterms:W3CDTF">2016-01-12T11:23:58Z</dcterms:modified>
  <cp:revision>14</cp:revision>
  <dc:subject/>
  <dc:title>Meiosis</dc:title>
</cp:coreProperties>
</file>