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1EB0E-8A07-450F-95EB-949EBDB984F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eio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ell division – ‘reduction division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duction of sex cells – game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eiosis err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i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division – ‘reduction division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tion of sex cells – game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iosis 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do we need meiosi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iosis is necessary to halve the number of chromosomes going into the sex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halve the chromosomes in gamet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fertilisation the male and female sex cells will provide ½ of the chromosomes each – so the offspring has genes from both par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do we need meiosi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iosis is necessary to halve the number of chromosomes going into the sex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halve the chromosomes in gamet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fertilisation the male and female sex cells will provide ½ of the chromosomes each – so the offspring has genes from both par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io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cell – chromosome pa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omosomes cop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st division - pairs spl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nd division – produces 4 gamete cells with ½ the original no. of chromoso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i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cell – chromosome p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omosomes copi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st division - pairs spl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nd division – produces 4 gamete cells with ½ the original no. of chromos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eiosis – mouse testes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ent c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4 game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st   div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nd div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iosis – mouse testes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game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st   divi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nd divi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eiosis – division 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romosome pai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iosis – division err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omosome pai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iosis error - fertilis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uld the gamete with the chromosome pair be fertilised then the offspring will not be ‘normal’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humans this often occurs with the 21st pair – producing a child with Downs Syndr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iosis error - ferti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uld the gamete with the chromosome pair be fertilised then the offspring will not be ‘normal’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humans this often occurs with the 21st pair – producing a child with Downs Syndr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1 trisomy – Downs Syndr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you see the extra 21st chromosom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is person male or femal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1 trisomy – Downs Syndr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you see the extra 21st chromosom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is person male or femal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5F9CA-ACA5-44EB-94A3-236BD1313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3F710-44D9-4EFD-84EC-BCC31E259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D7A5D-60EC-4AE8-B572-1024190BF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F9628-566E-4BA6-BAA9-85422036C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0EAD7-8277-4390-BB5E-FB4EF89A3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D1EAA-F13F-4C51-89BF-F190D0E2D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F9595-1150-4D0A-96BC-18662041D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94C31-EAD0-47D1-BF38-7211B86A7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D06A2-3814-47D9-AA4E-EAD45ABE0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0B4AD-C36F-4169-AF98-D941DD616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BF62C-8BFA-4A00-B9E9-128EC4A89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FEE99-24FE-4735-B73B-E9CBD06AE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D92B2-3372-4999-B70E-B3EA4B70BA1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620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Times New Roman"/>
              </a:rPr>
              <a:t>Meiosi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03280" y="2565360"/>
            <a:ext cx="640080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Cell division – ‘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duction division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roduction of sex cells – game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eiosis err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Why do we need meiosi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436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eiosis is necessary to halve the number of chromosomes going into the sex cel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hy halve the chromosomes in gamet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t fertilisation the male and female sex cells will provide ½ of the chromosomes each – so the offspring has genes from both par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3454560" cy="80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eio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4" descr="meiosis simple"/>
          <p:cNvPicPr/>
          <p:nvPr/>
        </p:nvPicPr>
        <p:blipFill>
          <a:blip r:embed="rId1"/>
          <a:stretch/>
        </p:blipFill>
        <p:spPr>
          <a:xfrm>
            <a:off x="611280" y="1484280"/>
            <a:ext cx="4263840" cy="4967280"/>
          </a:xfrm>
          <a:prstGeom prst="rect">
            <a:avLst/>
          </a:prstGeom>
          <a:ln w="0">
            <a:noFill/>
          </a:ln>
        </p:spPr>
      </p:pic>
      <p:sp>
        <p:nvSpPr>
          <p:cNvPr id="59" name="Line 8"/>
          <p:cNvSpPr/>
          <p:nvPr/>
        </p:nvSpPr>
        <p:spPr>
          <a:xfrm flipH="1">
            <a:off x="3779640" y="191628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Line 9"/>
          <p:cNvSpPr/>
          <p:nvPr/>
        </p:nvSpPr>
        <p:spPr>
          <a:xfrm flipH="1">
            <a:off x="3924360" y="328464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Line 10"/>
          <p:cNvSpPr/>
          <p:nvPr/>
        </p:nvSpPr>
        <p:spPr>
          <a:xfrm flipH="1">
            <a:off x="4284720" y="4292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Line 11"/>
          <p:cNvSpPr/>
          <p:nvPr/>
        </p:nvSpPr>
        <p:spPr>
          <a:xfrm flipH="1">
            <a:off x="5148000" y="602136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12"/>
          <p:cNvSpPr/>
          <p:nvPr/>
        </p:nvSpPr>
        <p:spPr>
          <a:xfrm>
            <a:off x="5435640" y="1628640"/>
            <a:ext cx="316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arent cell – chromosome pa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13"/>
          <p:cNvSpPr/>
          <p:nvPr/>
        </p:nvSpPr>
        <p:spPr>
          <a:xfrm>
            <a:off x="5435640" y="2708280"/>
            <a:ext cx="2158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hromosomes copi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14"/>
          <p:cNvSpPr/>
          <p:nvPr/>
        </p:nvSpPr>
        <p:spPr>
          <a:xfrm>
            <a:off x="5364000" y="3933720"/>
            <a:ext cx="30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division - pairs spl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15"/>
          <p:cNvSpPr/>
          <p:nvPr/>
        </p:nvSpPr>
        <p:spPr>
          <a:xfrm>
            <a:off x="5651640" y="4724280"/>
            <a:ext cx="302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division – produces 4 gamete cells with ½ the original no. of chromoso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4000" y="260280"/>
            <a:ext cx="7272360" cy="88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eiosis – mouse testes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4" descr="meiosis 9 stages pics"/>
          <p:cNvPicPr/>
          <p:nvPr/>
        </p:nvPicPr>
        <p:blipFill>
          <a:blip r:embed="rId1"/>
          <a:stretch/>
        </p:blipFill>
        <p:spPr>
          <a:xfrm>
            <a:off x="826920" y="1125360"/>
            <a:ext cx="7199640" cy="5419800"/>
          </a:xfrm>
          <a:prstGeom prst="rect">
            <a:avLst/>
          </a:prstGeom>
          <a:ln w="0">
            <a:noFill/>
          </a:ln>
        </p:spPr>
      </p:pic>
      <p:sp>
        <p:nvSpPr>
          <p:cNvPr id="70" name="Text Box 8"/>
          <p:cNvSpPr/>
          <p:nvPr/>
        </p:nvSpPr>
        <p:spPr>
          <a:xfrm>
            <a:off x="1042920" y="134136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arent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9"/>
          <p:cNvSpPr/>
          <p:nvPr/>
        </p:nvSpPr>
        <p:spPr>
          <a:xfrm>
            <a:off x="5940360" y="566100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4 game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10"/>
          <p:cNvSpPr/>
          <p:nvPr/>
        </p:nvSpPr>
        <p:spPr>
          <a:xfrm>
            <a:off x="5724360" y="1773360"/>
            <a:ext cx="20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div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11"/>
          <p:cNvSpPr/>
          <p:nvPr/>
        </p:nvSpPr>
        <p:spPr>
          <a:xfrm>
            <a:off x="1042920" y="508464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div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eiosis – division err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Picture 4" descr="meiosis error 2 triploid"/>
          <p:cNvPicPr/>
          <p:nvPr/>
        </p:nvPicPr>
        <p:blipFill>
          <a:blip r:embed="rId1"/>
          <a:stretch/>
        </p:blipFill>
        <p:spPr>
          <a:xfrm>
            <a:off x="1290600" y="1773360"/>
            <a:ext cx="3135240" cy="41036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meiosis error 21 triploid"/>
          <p:cNvPicPr/>
          <p:nvPr/>
        </p:nvPicPr>
        <p:blipFill>
          <a:blip r:embed="rId2"/>
          <a:stretch/>
        </p:blipFill>
        <p:spPr>
          <a:xfrm>
            <a:off x="5224320" y="1844640"/>
            <a:ext cx="3092760" cy="4176720"/>
          </a:xfrm>
          <a:prstGeom prst="rect">
            <a:avLst/>
          </a:prstGeom>
          <a:ln w="0">
            <a:noFill/>
          </a:ln>
        </p:spPr>
      </p:pic>
      <p:sp>
        <p:nvSpPr>
          <p:cNvPr id="78" name="Line 10"/>
          <p:cNvSpPr/>
          <p:nvPr/>
        </p:nvSpPr>
        <p:spPr>
          <a:xfrm flipV="1">
            <a:off x="5724360" y="6021360"/>
            <a:ext cx="2876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Line 11"/>
          <p:cNvSpPr/>
          <p:nvPr/>
        </p:nvSpPr>
        <p:spPr>
          <a:xfrm flipH="1" flipV="1">
            <a:off x="3348000" y="5949720"/>
            <a:ext cx="21600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12"/>
          <p:cNvSpPr/>
          <p:nvPr/>
        </p:nvSpPr>
        <p:spPr>
          <a:xfrm>
            <a:off x="3348000" y="6165720"/>
            <a:ext cx="26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hromosome pai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eiosis error - fertilis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4" descr="meiosis error 21tri fertilise"/>
          <p:cNvPicPr/>
          <p:nvPr/>
        </p:nvPicPr>
        <p:blipFill>
          <a:blip r:embed="rId1"/>
          <a:stretch/>
        </p:blipFill>
        <p:spPr>
          <a:xfrm>
            <a:off x="4140360" y="1844640"/>
            <a:ext cx="4249440" cy="4537080"/>
          </a:xfrm>
          <a:prstGeom prst="rect">
            <a:avLst/>
          </a:prstGeom>
          <a:ln w="0">
            <a:noFill/>
          </a:ln>
        </p:spPr>
      </p:pic>
      <p:sp>
        <p:nvSpPr>
          <p:cNvPr id="84" name="Text Box 7"/>
          <p:cNvSpPr/>
          <p:nvPr/>
        </p:nvSpPr>
        <p:spPr>
          <a:xfrm>
            <a:off x="755640" y="1916280"/>
            <a:ext cx="3311640" cy="41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hould the gamete with the chromosome pair be fertilised then the offspring will not be ‘normal’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 humans this often occurs with the 21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pair – producing a child with Downs Syndr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21 trisomy – Downs Syndro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4" descr="trisomy-21"/>
          <p:cNvPicPr/>
          <p:nvPr/>
        </p:nvPicPr>
        <p:blipFill>
          <a:blip r:embed="rId1"/>
          <a:stretch/>
        </p:blipFill>
        <p:spPr>
          <a:xfrm>
            <a:off x="826920" y="1557360"/>
            <a:ext cx="4857840" cy="4896000"/>
          </a:xfrm>
          <a:prstGeom prst="rect">
            <a:avLst/>
          </a:prstGeom>
          <a:ln w="0">
            <a:noFill/>
          </a:ln>
        </p:spPr>
      </p:pic>
      <p:sp>
        <p:nvSpPr>
          <p:cNvPr id="88" name="Oval 7"/>
          <p:cNvSpPr/>
          <p:nvPr/>
        </p:nvSpPr>
        <p:spPr>
          <a:xfrm>
            <a:off x="2556000" y="5589720"/>
            <a:ext cx="1584360" cy="934920"/>
          </a:xfrm>
          <a:prstGeom prst="ellipse">
            <a:avLst/>
          </a:prstGeom>
          <a:noFill/>
          <a:ln w="69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8"/>
          <p:cNvSpPr/>
          <p:nvPr/>
        </p:nvSpPr>
        <p:spPr>
          <a:xfrm>
            <a:off x="5796000" y="2781360"/>
            <a:ext cx="2303280" cy="35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an you see the extra 21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chromosom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s this person male or femal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Oval 9"/>
          <p:cNvSpPr/>
          <p:nvPr/>
        </p:nvSpPr>
        <p:spPr>
          <a:xfrm>
            <a:off x="4356000" y="4941720"/>
            <a:ext cx="1008000" cy="936720"/>
          </a:xfrm>
          <a:prstGeom prst="ellipse">
            <a:avLst/>
          </a:prstGeom>
          <a:noFill/>
          <a:ln w="442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5T14:25:12Z</dcterms:created>
  <dc:creator>rik</dc:creator>
  <dc:description/>
  <dc:language>en-US</dc:language>
  <cp:lastModifiedBy>LEGION2</cp:lastModifiedBy>
  <dcterms:modified xsi:type="dcterms:W3CDTF">2016-01-12T11:23:58Z</dcterms:modified>
  <cp:revision>14</cp:revision>
  <dc:subject/>
  <dc:title>Meiosis</dc:title>
</cp:coreProperties>
</file>