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5402-946B-4053-877B-F2E44AB0AE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826-A54D-4BD5-A9C6-44FE9371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2D75-3D44-4096-BEAB-383F2AC2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B6E-917A-490A-8C48-E7DE51D9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547E-B209-4793-B877-A17FD7E6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5C4-853A-48B3-A47D-88995CF9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8BB-3F9A-4B40-8BDD-038AA2A7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FB3-3CF8-42EC-BE1D-0DB2FB8D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51C-8C01-429E-862B-56CFE532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694-9CC5-44C3-ABD3-8DD780ED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EDC7-6535-4347-8315-BB0457D4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722-2083-4AC1-9ADE-8517312F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D3FB-17C4-4669-AF96-A664F37B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EEF0-FF63-4D5F-9400-A5790F8BE7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 – 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duction divisio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tion of sex cells –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y do we need meio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is necessary to halve the number of chromosomes going into the sex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halve the chromosomes in game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 fertilisation the male and female sex cells will provide ½ of the chromosomes each – so the offspring has genes from both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456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meiosis simple"/>
          <p:cNvPicPr/>
          <p:nvPr/>
        </p:nvPicPr>
        <p:blipFill>
          <a:blip r:embed="rId1"/>
          <a:stretch/>
        </p:blipFill>
        <p:spPr>
          <a:xfrm>
            <a:off x="611280" y="1484280"/>
            <a:ext cx="4263840" cy="4967280"/>
          </a:xfrm>
          <a:prstGeom prst="rect">
            <a:avLst/>
          </a:prstGeom>
          <a:ln w="0">
            <a:noFill/>
          </a:ln>
        </p:spPr>
      </p:pic>
      <p:sp>
        <p:nvSpPr>
          <p:cNvPr id="59" name="Line 8"/>
          <p:cNvSpPr/>
          <p:nvPr/>
        </p:nvSpPr>
        <p:spPr>
          <a:xfrm flipH="1">
            <a:off x="3779640" y="19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 flipH="1">
            <a:off x="3924360" y="328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428472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 flipH="1">
            <a:off x="5148000" y="602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5435640" y="1628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 – chromosom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5435640" y="270828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364000" y="3933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- pair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651640" y="472428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– produces 4 gamete cells with ½ the original no. of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27236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mouse testes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meiosis 9 stages pics"/>
          <p:cNvPicPr/>
          <p:nvPr/>
        </p:nvPicPr>
        <p:blipFill>
          <a:blip r:embed="rId1"/>
          <a:stretch/>
        </p:blipFill>
        <p:spPr>
          <a:xfrm>
            <a:off x="826920" y="1125360"/>
            <a:ext cx="7199640" cy="5419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042920" y="134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940360" y="566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 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724360" y="1773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042920" y="508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division 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meiosis error 2 triploid"/>
          <p:cNvPicPr/>
          <p:nvPr/>
        </p:nvPicPr>
        <p:blipFill>
          <a:blip r:embed="rId1"/>
          <a:stretch/>
        </p:blipFill>
        <p:spPr>
          <a:xfrm>
            <a:off x="1290600" y="1773360"/>
            <a:ext cx="3135240" cy="410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eiosis error 21 triploid"/>
          <p:cNvPicPr/>
          <p:nvPr/>
        </p:nvPicPr>
        <p:blipFill>
          <a:blip r:embed="rId2"/>
          <a:stretch/>
        </p:blipFill>
        <p:spPr>
          <a:xfrm>
            <a:off x="5224320" y="1844640"/>
            <a:ext cx="3092760" cy="4176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 flipV="1">
            <a:off x="5724360" y="602136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1"/>
          <p:cNvSpPr/>
          <p:nvPr/>
        </p:nvSpPr>
        <p:spPr>
          <a:xfrm flipH="1" flipV="1">
            <a:off x="3348000" y="5949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348000" y="6165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 pa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error -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meiosis error 21tri fertilise"/>
          <p:cNvPicPr/>
          <p:nvPr/>
        </p:nvPicPr>
        <p:blipFill>
          <a:blip r:embed="rId1"/>
          <a:stretch/>
        </p:blipFill>
        <p:spPr>
          <a:xfrm>
            <a:off x="4140360" y="1844640"/>
            <a:ext cx="4249440" cy="4537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755640" y="1916280"/>
            <a:ext cx="331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uld the gamete with the chromosome pair be fertilised then the offspring will not be ‘normal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humans this often occurs with the 2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air – producing a child with Downs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1 trisomy – Down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trisomy-21"/>
          <p:cNvPicPr/>
          <p:nvPr/>
        </p:nvPicPr>
        <p:blipFill>
          <a:blip r:embed="rId1"/>
          <a:stretch/>
        </p:blipFill>
        <p:spPr>
          <a:xfrm>
            <a:off x="826920" y="1557360"/>
            <a:ext cx="4857840" cy="4896000"/>
          </a:xfrm>
          <a:prstGeom prst="rect">
            <a:avLst/>
          </a:prstGeom>
          <a:ln w="0">
            <a:noFill/>
          </a:ln>
        </p:spPr>
      </p:pic>
      <p:sp>
        <p:nvSpPr>
          <p:cNvPr id="88" name="Oval 7"/>
          <p:cNvSpPr/>
          <p:nvPr/>
        </p:nvSpPr>
        <p:spPr>
          <a:xfrm>
            <a:off x="2556000" y="5589720"/>
            <a:ext cx="1584360" cy="934920"/>
          </a:xfrm>
          <a:prstGeom prst="ellipse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796000" y="2781360"/>
            <a:ext cx="23032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you see the extra 2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hromos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is person male or fema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9"/>
          <p:cNvSpPr/>
          <p:nvPr/>
        </p:nvSpPr>
        <p:spPr>
          <a:xfrm>
            <a:off x="4356000" y="4941720"/>
            <a:ext cx="1008000" cy="936720"/>
          </a:xfrm>
          <a:prstGeom prst="ellipse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4:25:12Z</dcterms:created>
  <dc:creator>rik</dc:creator>
  <dc:description/>
  <dc:language>en-US</dc:language>
  <cp:lastModifiedBy>LEGION2</cp:lastModifiedBy>
  <dcterms:modified xsi:type="dcterms:W3CDTF">2016-01-12T11:23:58Z</dcterms:modified>
  <cp:revision>14</cp:revision>
  <dc:subject/>
  <dc:title>Meiosis</dc:title>
</cp:coreProperties>
</file>