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625D-1257-4F54-9801-D481EFFBF8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351-E1C7-4FFD-AA2C-B792F386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152-A024-4960-957B-8C5A6A60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C6B-B552-4659-8309-120A1996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9AD-1C52-4302-BCEF-714DEFB3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8440-8D48-44AE-A5ED-D381AF75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17DC-A7A8-4E46-9594-8BE62F5D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A4AB-2162-4E45-9081-A34CA945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A4BC-7A41-4290-8BE0-7B13A3C9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FC2E-2725-4F02-BE4E-FBC5EF06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CAA0-8F43-45BB-8601-9A972738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106A-FE62-4A21-97BB-E6982279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4E8-5120-48B4-BB3E-85BF46E0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79BE-35A0-46F7-8145-E253368A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EE11-3A96-43CE-A802-7F5D42AA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5D43-342A-4677-B742-872068D1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03D8-7F98-4FE5-A412-6E10009B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8BBD-EDDE-4E7E-9A75-D9E14379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EC6-4356-4EE2-B962-83C1065E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6D2-F824-4DD9-8BCB-1F83934D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3F8-8FB1-4F6E-9DB9-449BAFEE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803-64CE-4590-96E2-CC8B60B1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0B3-8769-4829-86EE-35BAAD8A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06C-4A18-43B7-B983-6A554427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6D0-7499-4DBD-8F2D-274D578B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7C10-06DC-4961-AE04-0EFFD5954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353B-6141-4F17-A611-7019B310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ndfather of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>
            <a:lum bright="70000" contrast="-70000"/>
          </a:blip>
          <a:srcRect l="0" t="2079" r="0" b="0"/>
          <a:stretch/>
        </p:blipFill>
        <p:spPr>
          <a:xfrm>
            <a:off x="1143000" y="0"/>
            <a:ext cx="8001000" cy="6948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genetics had its beginnings in an abbey garden, where a monk named Gregor Mendel documented a particulate mechanism of inheri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scovered the basic principles of heredity by breeding garden peas in carefully planne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pproach to science had been influenced at the University of Vienna by one of his professors: the physicist Dopp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tudy inheritance, Mendel chose to use peas, probably as they are available in many varie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plants also allowed strict control over the 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hose to study only characters that varied in an ‘either-or’ rather than a ‘more-or-less’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cro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ybridise 2 varieties of pea plants, Mendel used an artist’s br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nsferred pollen from a true breeding white flower to the carpel of a true breeding purple 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2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31488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cking heritable character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236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tracked heritable characters for 3 gen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brids were allowed to self-pollinate a 3:1 ratio of the 2 varieties occurred in the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048120" cy="3593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law of segreg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31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arrying out these monohybrid crosses, Mendel determined that the 2 alleles for each character segregate during gamete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discovered this c.18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was not discovered until 19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7212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terminolo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reeding: When the plants self-pollinate, all their offspring are of the same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sation: Mating, or crossing, of two varie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hybrid cross: A cross that tracks the inheritance of a single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generation: True breeding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first filial) Hybrid offspring of the P gen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second filial) Offspring from the self-fertilisation of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imp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theories of inheritance, first discovered in garden peas, are equally valid for figs, flies, fish, birds and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impact endures, not only on genetics, but on all of science, as a case study of the power of hypothesis/deductive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51:13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1:33:28Z</dcterms:modified>
  <cp:revision>18</cp:revision>
  <dc:subject/>
  <dc:title>Gregor Mendel</dc:title>
</cp:coreProperties>
</file>