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3830-3272-4A16-9BCC-F390B953B4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ndfather of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ndfather of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genetics had its beginnings in an abbey garden, where a monk named Gregor Mendel documented a particulate mechanism of inheri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scovered the basic principles of heredity by breeding garden peas in carefully planned exper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approach to science had been influenced at the University of Vienna by one of his professors: the physicist Doppl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genetics had its beginnings in an abbey garden, where a monk named Gregor Mendel documented a particulate mechanism of inheri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scovered the basic principles of heredity by breeding garden peas in carefully planned experi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approach to science had been influenced at the University of Vienna by one of his professors: the physicist Doppl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inheritance, Mendel chose to use peas, probably as they are available in many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plants also allowed strict control over the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study only characters that varied in an ‘either-or’ rather than a ‘more-or-less’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study inheritance, Mendel chose to use peas, probably as they are available in many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plants also allowed strict control over the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study only characters that varied in an ‘either-or’ rather than a ‘more-or-less’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ybridise 2 varieties of pea plants, Mendel used an artist’s bru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ransferred pollen from a true breeding white flower to the carpel of a true breeding purple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ybridise 2 varieties of pea plants, Mendel used an artist’s bru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ransferred pollen from a true breeding white flower to the carpel of a true breeding purple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heritabl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tracked heritable characters for 3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1 hybrids were allowed to self-pollinate a 3:1 ratio of the 2 varieties occurred in the F2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heritabl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tracked heritable characters for 3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1 hybrids were allowed to self-pollinate a 3:1 ratio of the 2 varieties occurred in the F2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law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rying out these monohybrid crosses, Mendel determined that the 2 alleles for each character segregate during gamete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discovered this c.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was not discovered until 19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law of segre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rrying out these monohybrid crosses, Mendel determined that the 2 alleles for each character segregate during gamete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discovered this c.1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was not discovered until 19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reeding: When the plants self-pollinate, all their offspring are of the sam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isation: Mating, or crossing, of two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: A cross that tracks the inheritance of a single charac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generation: True breeding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generation: (first filial) Hybrid offspring of the P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generation: (second filial) Offspring from the self-fertilisation of the F1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reeding: When the plants self-pollinate, all their offspring are of the sam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isation: Mating, or crossing, of two varie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hybrid cross: A cross that tracks the inheritance of a single charac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generation: True breeding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generation: (first filial) Hybrid offspring of the P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generation: (second filial) Offspring from the self-fertilisation of the F1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heories of inheritance, first discovered in garden peas, are equally valid for figs, flies, fish, birds and human be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 endures, not only on genetics, but on all of science, as a case study of the power of hypothesis/deductive th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theories of inheritance, first discovered in garden peas, are equally valid for figs, flies, fish, birds and human be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impact endures, not only on genetics, but on all of science, as a case study of the power of hypothesis/deductive th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276-3916-435F-B4DA-2FA53FA3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1608-182F-45F5-9B0D-288D1AEF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9EC8-32AB-48E5-8AF7-2F66AFED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D19B-343D-40C2-9A98-1C275C61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638C-458A-4137-A89A-EE319B21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317E-9928-4D75-AE4F-F0720A48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9C88-D5BC-4545-A809-60195AFA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1CC0-ED89-4542-B637-6FCFBF05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8B9C-A621-4D3D-B91C-C06F8C3F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86E7-0275-4977-BF7A-B91E4D8F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2E7A-8FEC-4071-BC09-5ECD7021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1C57-468E-4BE7-A815-8F65A954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B759-6B3C-4D8D-8E06-FBF8EBBA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1EAE-0222-489F-8999-8B599AE9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3188-4148-4205-B9FD-BCC9ABE5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4F2C-49E2-43C3-A226-2A26AAFA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068C-A0A5-478F-A96C-EDCFB18D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D089-29B6-4640-A757-74DFF5CE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231E-B6BA-4001-93C6-A36FA840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0362-3F87-4107-9E64-00E7850F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D737-6530-4487-886B-1008BC01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016-9F7C-4F04-A599-CFD214CD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EC8-711C-42E1-863D-827C725F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B763-3D35-4497-B555-7F4E8A1A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0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C01C-E4F1-45EF-A619-A0BC5920D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30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5CCC-7834-42AF-9311-1AF3AAD58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regor Men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andfather of 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>
            <a:lum bright="70000" contrast="-70000"/>
          </a:blip>
          <a:srcRect l="0" t="2079" r="0" b="0"/>
          <a:stretch/>
        </p:blipFill>
        <p:spPr>
          <a:xfrm>
            <a:off x="1143000" y="0"/>
            <a:ext cx="8001000" cy="6948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genetics had its beginnings in an abbey garden, where a monk named Gregor Mendel documented a particulate mechanism of inheri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iscovered the basic principles of heredity by breeding garden peas in carefully planned experi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approach to science had been influenced at the University of Vienna by one of his professors: the physicist Dopp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study inheritance, Mendel chose to use peas, probably as they are available in many varie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 of plants also allowed strict control over the m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hose to study only characters that varied in an ‘either-or’ rather than a ‘more-or-less’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tic cros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ybridise 2 varieties of pea plants, Mendel used an artist’s bru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transferred pollen from a true breeding white flower to the carpel of a true breeding purple fl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2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331488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acking heritable characterist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2880" y="1752120"/>
            <a:ext cx="4236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 tracked heritable characters for 3 gen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ybrids were allowed to self-pollinate a 3:1 ratio of the 2 varieties occurred in the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5638680" y="1905120"/>
            <a:ext cx="3048120" cy="35938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law of segreg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2880" y="1752120"/>
            <a:ext cx="431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arrying out these monohybrid crosses, Mendel determined that the 2 alleles for each character segregate during gamete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del discovered this c.186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was not discovered until 195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372120" cy="51814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terminolog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breeding: When the plants self-pollinate, all their offspring are of the same var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sation: Mating, or crossing, of two varie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hybrid cross: A cross that tracks the inheritance of a single charac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generation: True breeding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ion: (first filial) Hybrid offspring of the P gen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ion: (second filial) Offspring from the self-fertilisation of the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ybr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del’s impa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’s theories of inheritance, first discovered in garden peas, are equally valid for figs, flies, fish, birds and human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’s impact endures, not only on genetics, but on all of science, as a case study of the power of hypothesis/deductive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20:51:13Z</dcterms:created>
  <dc:creator>Fearghal Kelly</dc:creator>
  <dc:description/>
  <dc:language>en-US</dc:language>
  <cp:lastModifiedBy>LEGION2</cp:lastModifiedBy>
  <cp:lastPrinted>1904-01-01T00:00:00Z</cp:lastPrinted>
  <dcterms:modified xsi:type="dcterms:W3CDTF">2016-01-12T11:33:28Z</dcterms:modified>
  <cp:revision>18</cp:revision>
  <dc:subject/>
  <dc:title>Gregor Mendel</dc:title>
</cp:coreProperties>
</file>