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C16C-B9D3-4E82-99E4-50EEE0B7E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What are the stages of Mitosi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is an example of asexual reproduction? Homework #3 due tomorrow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are boxed i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What are the stages of Mit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is an example of asexual reproduction? Homework #3 due tomor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are boxed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- process by which cells reprodu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cell parts that determine what traits a living thing will ha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d - one strand of DNA; after replication, a chromosome is made up of two identical chromati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 cells - new cells produced by cell divi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 – a division of the cytoplasm of one parent cell into 2 daughter cel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- process by which cells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cell parts that determine what traits a living thing will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d - one strand of DNA; after replication, a chromosome is made up of two identical chromat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 cells - new cells produced by 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 – a division of the cytoplasm of one parent cell into 2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itosis produces identical offspring (2N---2N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itosis produces identical offspring (2N---2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phase of mitosis where the cell performs its normal activities for life. (MRS. GONE without the 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in the chromatin state (kind of like spaghett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Mito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phase of mitosis where the cell performs its normal activities for life. (MRS. GONE without the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in the chromatin state (kind of like spaghet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- the nuclear membrane breaks down.  The double stranded chromosomes are able to move feely around the cytoplas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- the nuclear membrane breaks down.  The double stranded chromosomes are able to move feely around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C48C-8395-4919-A1BD-6FD8F4DA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F7F-C7B2-41C7-9FB8-6071BB93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F344-A6F3-4334-A968-DE11EABE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8087-A695-4146-853E-8EE81CBF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5A9B-DF94-4A41-9610-87433C2A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E6CF-D22C-445E-A9CF-564302C1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FBA2-B5E0-4F84-9475-F699FCC2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D909-9CCA-44EA-97AC-149F006B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1251-2B5F-4F95-BD2C-C2EACF3E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5041-B81E-4D9C-B32E-59CF9298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3F0E-213C-47FD-8D3E-6C8CD606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3605-1881-4FBF-BADD-DD00DA8E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8529-7AF7-4D34-8D76-BA4F84F4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25D9-5A92-466A-AF72-407C3BF4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0091-E338-4218-A846-40842FE0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13F5-85B5-492E-9C72-1D021D12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0C43-5A5F-4572-8766-4EF23AEF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70FEC-A856-478D-9B50-E41B201B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94F01-DFE5-41A4-9FF3-DF969D50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102AE-0892-4FF1-88B1-9806130F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33BAB-56E1-4824-9741-48363062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64916-49F0-4211-B40A-243EA5FB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DD14-C7C3-43C1-9EF9-342BEEAA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3B138-DD08-4053-8283-736C6CAE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A540F-E36E-46A5-AB8A-EEFB34F2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2BA59-F4AD-4806-A1DE-DF0BE158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ECBCA-91A5-4D3E-A359-9378568C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DD00E-A9A3-4AB7-AC10-8883D00E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F2640-6836-4ACE-8D90-8C111BF1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D8CDB-947B-4BA4-B24C-2954DFAA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01CB-715B-4010-81CA-CCE8FF2D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EE09-372C-495D-856E-B736198E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7010-8A70-4CBB-BD51-A8A5814D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5035-41C1-4401-82B2-C7AA75BA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4B03-8310-4D2B-874E-CB691BE1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69E0-4AB0-4F97-9E8C-D4E8E3A3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D872-6ADA-4A51-93D7-0E8E5F93C5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79C5-0968-4FF2-B0CC-8659B798F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41E4-7ABD-4934-AE15-80C3C6434A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: What are the stages of Mitosi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Now:  What is an example of asexual reproduction? Homework #3 due tomorr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s are boxed 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3048120" y="3657600"/>
            <a:ext cx="1828800" cy="6094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Telophase__The_Final_Stage_of_Mitosis.as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02_27675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3809880" y="4648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28600" y="2895480"/>
            <a:ext cx="403848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57200" y="4038480"/>
            <a:ext cx="5029200" cy="2057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5791320" y="0"/>
            <a:ext cx="2514600" cy="914400"/>
          </a:xfrm>
          <a:prstGeom prst="wedgeRoundRectCallout">
            <a:avLst>
              <a:gd name="adj1" fmla="val -122097"/>
              <a:gd name="adj2" fmla="val 292708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02_276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457200" y="4038480"/>
            <a:ext cx="5029200" cy="2057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85800" y="2895480"/>
            <a:ext cx="3581280" cy="8384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02_27677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838080" y="182880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YTOKINE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S02_23a"/>
          <p:cNvPicPr/>
          <p:nvPr/>
        </p:nvPicPr>
        <p:blipFill>
          <a:blip r:embed="rId1"/>
          <a:stretch/>
        </p:blipFill>
        <p:spPr>
          <a:xfrm>
            <a:off x="0" y="0"/>
            <a:ext cx="8839080" cy="677232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S02_23b"/>
          <p:cNvPicPr/>
          <p:nvPr/>
        </p:nvPicPr>
        <p:blipFill>
          <a:blip r:embed="rId1"/>
          <a:stretch/>
        </p:blipFill>
        <p:spPr>
          <a:xfrm>
            <a:off x="0" y="530280"/>
            <a:ext cx="9144000" cy="63277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Picture 5" descr="800px-Major_events_in_mitosis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3256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5335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28600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39625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617220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80773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ter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6"/>
          <p:cNvSpPr txBox="1"/>
          <p:nvPr/>
        </p:nvSpPr>
        <p:spPr>
          <a:xfrm>
            <a:off x="2209680" y="4952880"/>
            <a:ext cx="4419720" cy="110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PMAT</a:t>
            </a:r>
            <a:endParaRPr b="1" lang="en-US" sz="3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1828800" y="4724280"/>
            <a:ext cx="5257800" cy="17528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762120" y="380880"/>
            <a:ext cx="8001000" cy="12193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609480" y="228600"/>
            <a:ext cx="8001000" cy="12193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6019920" y="1600200"/>
            <a:ext cx="2057400" cy="4572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6324480" y="2590920"/>
            <a:ext cx="1676520" cy="53316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533520" y="3124080"/>
            <a:ext cx="7467480" cy="4572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048f1c"/>
          <p:cNvPicPr/>
          <p:nvPr/>
        </p:nvPicPr>
        <p:blipFill>
          <a:blip r:embed="rId1"/>
          <a:stretch/>
        </p:blipFill>
        <p:spPr>
          <a:xfrm>
            <a:off x="195120" y="0"/>
            <a:ext cx="5708880" cy="6858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048f1d"/>
          <p:cNvPicPr/>
          <p:nvPr/>
        </p:nvPicPr>
        <p:blipFill>
          <a:blip r:embed="rId2"/>
          <a:stretch/>
        </p:blipFill>
        <p:spPr>
          <a:xfrm>
            <a:off x="6480" y="0"/>
            <a:ext cx="589752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c048f1e"/>
          <p:cNvPicPr/>
          <p:nvPr/>
        </p:nvPicPr>
        <p:blipFill>
          <a:blip r:embed="rId3"/>
          <a:stretch/>
        </p:blipFill>
        <p:spPr>
          <a:xfrm>
            <a:off x="-14400" y="0"/>
            <a:ext cx="59184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c048f1f"/>
          <p:cNvPicPr/>
          <p:nvPr/>
        </p:nvPicPr>
        <p:blipFill>
          <a:blip r:embed="rId4"/>
          <a:stretch/>
        </p:blipFill>
        <p:spPr>
          <a:xfrm>
            <a:off x="71280" y="0"/>
            <a:ext cx="582624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WordArt 6"/>
          <p:cNvSpPr txBox="1"/>
          <p:nvPr/>
        </p:nvSpPr>
        <p:spPr>
          <a:xfrm>
            <a:off x="6095880" y="533520"/>
            <a:ext cx="3048120" cy="31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lant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ytokinesis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55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ll div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process by which cells rep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romosom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ell parts that determine what traits a living thing will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romat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one strand of DNA; after replication, a chromosome is made up of two identical chromat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ughter 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new cells produced by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ytokine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division of the cytoplasm of one parent cell into 2 daught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990720"/>
            <a:ext cx="8839080" cy="58672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02_27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02_276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tosis produces identical offspring (2N---2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U10_10b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53708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U09_02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499284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s is the phase of mitosis where the cell performs its normal activities for life. (MRS. GONE without the R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NA is in the chromatin state (kind of like spaghetti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304920" y="1828800"/>
            <a:ext cx="4572000" cy="21337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990720" y="762120"/>
            <a:ext cx="380988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990720" y="0"/>
            <a:ext cx="3809880" cy="11912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ages of Mito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304920" y="5181480"/>
            <a:ext cx="4572000" cy="16765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3" descr="help"/>
          <p:cNvPicPr/>
          <p:nvPr/>
        </p:nvPicPr>
        <p:blipFill>
          <a:blip r:embed="rId1"/>
          <a:stretch/>
        </p:blipFill>
        <p:spPr>
          <a:xfrm>
            <a:off x="5029200" y="1828800"/>
            <a:ext cx="4114800" cy="30891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02_276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67" name="Line 3"/>
          <p:cNvSpPr/>
          <p:nvPr/>
        </p:nvSpPr>
        <p:spPr>
          <a:xfrm flipH="1">
            <a:off x="6019560" y="99072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 flipH="1">
            <a:off x="6400440" y="106668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172200" y="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02_276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304920" y="3124080"/>
            <a:ext cx="304776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4648320"/>
            <a:ext cx="6933960" cy="18288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 flipH="1">
            <a:off x="6095520" y="91440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 flipH="1">
            <a:off x="7848720" y="1447920"/>
            <a:ext cx="30456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781680" y="3049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hase- the nuclear membrane breaks down.  The double stranded chromosomes are able to move feely around the cytopla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rophase__The_First_Stage_of_Mitosis.asf" descr=""/>
          <p:cNvPicPr/>
          <p:nvPr/>
        </p:nvPicPr>
        <p:blipFill>
          <a:blip r:embed="rId1"/>
          <a:stretch/>
        </p:blipFill>
        <p:spPr>
          <a:xfrm>
            <a:off x="149400" y="380880"/>
            <a:ext cx="8994600" cy="61326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02_276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02_276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4"/>
          <p:cNvSpPr/>
          <p:nvPr/>
        </p:nvSpPr>
        <p:spPr>
          <a:xfrm>
            <a:off x="228600" y="2895480"/>
            <a:ext cx="350532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80880" y="4419720"/>
            <a:ext cx="4343400" cy="19810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5791320" y="0"/>
            <a:ext cx="2514600" cy="914400"/>
          </a:xfrm>
          <a:prstGeom prst="wedgeRoundRectCallout">
            <a:avLst>
              <a:gd name="adj1" fmla="val -131564"/>
              <a:gd name="adj2" fmla="val 203648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 flipH="1" flipV="1">
            <a:off x="7238880" y="419076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 flipH="1" flipV="1">
            <a:off x="6552720" y="42670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 flipH="1">
            <a:off x="6019920" y="4343400"/>
            <a:ext cx="21333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 flipH="1">
            <a:off x="5714640" y="4343400"/>
            <a:ext cx="2438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7238880" y="4575240"/>
            <a:ext cx="1905120" cy="2303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822960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03:29:41Z</dcterms:created>
  <dc:creator>Saul</dc:creator>
  <dc:description/>
  <dc:language>en-US</dc:language>
  <cp:lastModifiedBy>LEGION2</cp:lastModifiedBy>
  <dcterms:modified xsi:type="dcterms:W3CDTF">2016-01-12T11:36:01Z</dcterms:modified>
  <cp:revision>53</cp:revision>
  <dc:subject/>
  <dc:title>Aim: What are the stages of Mitosis?</dc:title>
</cp:coreProperties>
</file>