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8608-CB19-462C-B489-72D0092D0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What are the stages of Mitosi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is an example of asexual reproduction? Homework #3 due tomorrow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are boxed i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What are the stages of Mit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is an example of asexual reproduction? Homework #3 due tomor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are boxed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- process by which cells reprodu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cell parts that determine what traits a living thing will ha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d - one strand of DNA; after replication, a chromosome is made up of two identical chromati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 cells - new cells produced by cell divi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 – a division of the cytoplasm of one parent cell into 2 daughter cel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- process by which cells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cell parts that determine what traits a living thing will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d - one strand of DNA; after replication, a chromosome is made up of two identical chromat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 cells - new cells produced by 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 – a division of the cytoplasm of one parent cell into 2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itosis produces identical offspring (2N---2N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itosis produces identical offspring (2N---2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phase of mitosis where the cell performs its normal activities for life. (MRS. GONE without the 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in the chromatin state (kind of like spaghett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Mito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phase of mitosis where the cell performs its normal activities for life. (MRS. GONE without the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in the chromatin state (kind of like spaghet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- the nuclear membrane breaks down.  The double stranded chromosomes are able to move feely around the cytoplas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- the nuclear membrane breaks down.  The double stranded chromosomes are able to move feely around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BF22-82F0-4441-BEF1-E679734D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4B7F-9B08-40D8-A150-6AC0901D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D00E-71FA-4FE5-A91F-2C06472F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4999-D179-45B9-A030-FF9E8E59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955E-2971-4575-A90D-18201C89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3A10-D389-442A-A83F-E61AC6DA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7520-C828-4979-824C-CCD39715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20A4-D214-4BD7-A135-80ACA7CF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6DAF-FDE6-4F56-AA18-DEBCA81A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73FA-D9B3-4478-8C62-00B94BF4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8B08-F650-49C0-B07E-9B7CFAA3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7811-1F80-4747-8573-64F04B7B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FF76-AE2A-48BF-94AB-A69A5775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9B26-EC00-4B0D-BF54-42D7A106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E723-0971-4D3A-9A9B-DFADF676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145F-CBBA-4CA9-94D5-208D5BDC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4783-374C-4ACD-95E5-32412DF0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2B41F-D1E2-4442-A877-2CC8AECF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C3D90-D9DF-4491-86D2-2F93D976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9A8A2-1868-4554-8B7E-9FBDD2E6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1DA84-74F1-4D7B-9C9A-626700A6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6B43F-06DE-4D88-90D9-1EA91C52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B759-800F-45C8-B974-4BE02483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92F45-9331-4C0B-ADBF-8E17A07B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C8C7C-DD69-411C-9A98-7BA9F596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CD942-A28F-4E2F-AE09-3E4FA125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17150-44FA-4F87-91FF-CA4AC7AE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364D0-A21D-44AD-86D8-64D16DE0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C3ADC-2817-4B1F-96FB-BE463AE0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D5183-C555-4F2D-A470-82EBEFAA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D5D2-FCA2-41ED-8ADD-DD6D72F5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6E9B-EFBD-4E4B-A0C5-74DA2A13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5B0C-4B78-45D6-AAB2-2944A002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C198-BD58-45DA-8748-6E49B225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859D-907F-487E-8CFB-B44BA022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2DFA-6378-4C2F-83B7-61F64A29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1C79-17EB-4B1B-B3D5-AC5441A291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DF06-0102-4292-8BF9-6081D6FB1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2395-CBBD-4FE9-A418-0CD9CCFF37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: What are the stages of Mitosi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Now:  What is an example of asexual reproduction? Homework #3 due tomorr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s are boxed 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3048120" y="3657600"/>
            <a:ext cx="1828800" cy="6094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Telophase__The_Final_Stage_of_Mitosis.as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02_27675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3809880" y="4648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28600" y="2895480"/>
            <a:ext cx="403848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57200" y="4038480"/>
            <a:ext cx="5029200" cy="2057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5791320" y="0"/>
            <a:ext cx="2514600" cy="914400"/>
          </a:xfrm>
          <a:prstGeom prst="wedgeRoundRectCallout">
            <a:avLst>
              <a:gd name="adj1" fmla="val -122097"/>
              <a:gd name="adj2" fmla="val 292708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02_276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457200" y="4038480"/>
            <a:ext cx="5029200" cy="2057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85800" y="2895480"/>
            <a:ext cx="3581280" cy="8384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02_27677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838080" y="182880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YTOKINE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S02_23a"/>
          <p:cNvPicPr/>
          <p:nvPr/>
        </p:nvPicPr>
        <p:blipFill>
          <a:blip r:embed="rId1"/>
          <a:stretch/>
        </p:blipFill>
        <p:spPr>
          <a:xfrm>
            <a:off x="0" y="0"/>
            <a:ext cx="8839080" cy="677232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S02_23b"/>
          <p:cNvPicPr/>
          <p:nvPr/>
        </p:nvPicPr>
        <p:blipFill>
          <a:blip r:embed="rId1"/>
          <a:stretch/>
        </p:blipFill>
        <p:spPr>
          <a:xfrm>
            <a:off x="0" y="530280"/>
            <a:ext cx="9144000" cy="63277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Picture 5" descr="800px-Major_events_in_mitosis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3256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5335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28600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39625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617220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80773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ter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6"/>
          <p:cNvSpPr txBox="1"/>
          <p:nvPr/>
        </p:nvSpPr>
        <p:spPr>
          <a:xfrm>
            <a:off x="2209680" y="4952880"/>
            <a:ext cx="4419720" cy="110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PMAT</a:t>
            </a:r>
            <a:endParaRPr b="1" lang="en-US" sz="3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1828800" y="4724280"/>
            <a:ext cx="5257800" cy="17528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762120" y="380880"/>
            <a:ext cx="8001000" cy="12193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609480" y="228600"/>
            <a:ext cx="8001000" cy="12193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6019920" y="1600200"/>
            <a:ext cx="2057400" cy="4572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6324480" y="2590920"/>
            <a:ext cx="1676520" cy="53316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533520" y="3124080"/>
            <a:ext cx="7467480" cy="4572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048f1c"/>
          <p:cNvPicPr/>
          <p:nvPr/>
        </p:nvPicPr>
        <p:blipFill>
          <a:blip r:embed="rId1"/>
          <a:stretch/>
        </p:blipFill>
        <p:spPr>
          <a:xfrm>
            <a:off x="195120" y="0"/>
            <a:ext cx="5708880" cy="6858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048f1d"/>
          <p:cNvPicPr/>
          <p:nvPr/>
        </p:nvPicPr>
        <p:blipFill>
          <a:blip r:embed="rId2"/>
          <a:stretch/>
        </p:blipFill>
        <p:spPr>
          <a:xfrm>
            <a:off x="6480" y="0"/>
            <a:ext cx="589752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c048f1e"/>
          <p:cNvPicPr/>
          <p:nvPr/>
        </p:nvPicPr>
        <p:blipFill>
          <a:blip r:embed="rId3"/>
          <a:stretch/>
        </p:blipFill>
        <p:spPr>
          <a:xfrm>
            <a:off x="-14400" y="0"/>
            <a:ext cx="59184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c048f1f"/>
          <p:cNvPicPr/>
          <p:nvPr/>
        </p:nvPicPr>
        <p:blipFill>
          <a:blip r:embed="rId4"/>
          <a:stretch/>
        </p:blipFill>
        <p:spPr>
          <a:xfrm>
            <a:off x="71280" y="0"/>
            <a:ext cx="582624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WordArt 6"/>
          <p:cNvSpPr txBox="1"/>
          <p:nvPr/>
        </p:nvSpPr>
        <p:spPr>
          <a:xfrm>
            <a:off x="6095880" y="533520"/>
            <a:ext cx="3048120" cy="31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lant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ytokinesis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55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ll div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process by which cells rep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romosom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ell parts that determine what traits a living thing will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romat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one strand of DNA; after replication, a chromosome is made up of two identical chromat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ughter 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new cells produced by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ytokine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division of the cytoplasm of one parent cell into 2 daught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990720"/>
            <a:ext cx="8839080" cy="58672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02_27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02_276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tosis produces identical offspring (2N---2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U10_10b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53708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U09_02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499284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s is the phase of mitosis where the cell performs its normal activities for life. (MRS. GONE without the R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NA is in the chromatin state (kind of like spaghetti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304920" y="1828800"/>
            <a:ext cx="4572000" cy="21337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990720" y="762120"/>
            <a:ext cx="380988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990720" y="0"/>
            <a:ext cx="3809880" cy="11912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ages of Mito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304920" y="5181480"/>
            <a:ext cx="4572000" cy="16765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3" descr="help"/>
          <p:cNvPicPr/>
          <p:nvPr/>
        </p:nvPicPr>
        <p:blipFill>
          <a:blip r:embed="rId1"/>
          <a:stretch/>
        </p:blipFill>
        <p:spPr>
          <a:xfrm>
            <a:off x="5029200" y="1828800"/>
            <a:ext cx="4114800" cy="30891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02_276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67" name="Line 3"/>
          <p:cNvSpPr/>
          <p:nvPr/>
        </p:nvSpPr>
        <p:spPr>
          <a:xfrm flipH="1">
            <a:off x="6019560" y="99072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 flipH="1">
            <a:off x="6400440" y="106668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172200" y="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02_276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304920" y="3124080"/>
            <a:ext cx="304776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4648320"/>
            <a:ext cx="6933960" cy="18288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 flipH="1">
            <a:off x="6095520" y="91440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 flipH="1">
            <a:off x="7848720" y="1447920"/>
            <a:ext cx="30456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781680" y="3049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hase- the nuclear membrane breaks down.  The double stranded chromosomes are able to move feely around the cytopla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rophase__The_First_Stage_of_Mitosis.asf" descr=""/>
          <p:cNvPicPr/>
          <p:nvPr/>
        </p:nvPicPr>
        <p:blipFill>
          <a:blip r:embed="rId1"/>
          <a:stretch/>
        </p:blipFill>
        <p:spPr>
          <a:xfrm>
            <a:off x="149400" y="380880"/>
            <a:ext cx="8994600" cy="61326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02_276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02_276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4"/>
          <p:cNvSpPr/>
          <p:nvPr/>
        </p:nvSpPr>
        <p:spPr>
          <a:xfrm>
            <a:off x="228600" y="2895480"/>
            <a:ext cx="350532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80880" y="4419720"/>
            <a:ext cx="4343400" cy="19810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5791320" y="0"/>
            <a:ext cx="2514600" cy="914400"/>
          </a:xfrm>
          <a:prstGeom prst="wedgeRoundRectCallout">
            <a:avLst>
              <a:gd name="adj1" fmla="val -131564"/>
              <a:gd name="adj2" fmla="val 203648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 flipH="1" flipV="1">
            <a:off x="7238880" y="419076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 flipH="1" flipV="1">
            <a:off x="6552720" y="42670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 flipH="1">
            <a:off x="6019920" y="4343400"/>
            <a:ext cx="21333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 flipH="1">
            <a:off x="5714640" y="4343400"/>
            <a:ext cx="2438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7238880" y="4575240"/>
            <a:ext cx="1905120" cy="2303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822960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03:29:41Z</dcterms:created>
  <dc:creator>Saul</dc:creator>
  <dc:description/>
  <dc:language>en-US</dc:language>
  <cp:lastModifiedBy>LEGION2</cp:lastModifiedBy>
  <dcterms:modified xsi:type="dcterms:W3CDTF">2016-01-12T11:36:01Z</dcterms:modified>
  <cp:revision>53</cp:revision>
  <dc:subject/>
  <dc:title>Aim: What are the stages of Mitosis?</dc:title>
</cp:coreProperties>
</file>