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69FE-D87D-4771-810F-DE77E885B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What are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is an example of asexual reproduction? Homework #3 due tomor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are boxed 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P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division - process by which cells re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- cell parts that determine what traits a living thing will h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d - one strand of DNA; after replication, a chromosome is made up of two identical chromat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ughter cells - new cells produced by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kinesis – a division of the cytoplasm of one parent cell into 2 daught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tosis produces identical offspring (2N---2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phase of mitosis where the cell performs its normal activities for life. (MRS. GONE without the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in the chromatin state (kind of like spaghet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s of Mi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hase- the nuclear membrane breaks down.  The double stranded chromosomes are able to move feely around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6A3F-A121-432C-A851-A96302159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3B54-7238-4B04-864B-7A5C6101E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698-1375-4860-B89D-2CB7EAC7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14B1-7B5D-4DBD-8AD0-7057F935C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8D7ED-733D-4B08-9FF1-49A78F3B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56CD-064F-49BC-AFB1-A741C06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FCA8-28F6-494E-A407-1F7D15CD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C467-9A1C-4BC5-BCF7-453E3F391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5A19-2172-4B48-AE8F-39AC697B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7F98-AA3D-48F7-8187-01CAD7A2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C949-F97F-449F-B912-2B3FFCBE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EC5A-C9A5-4340-AB39-12FD6D8C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ED05-76D8-48FD-97B1-6A7F3085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189F-A97C-4261-9B61-51143C01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81CA-FAB6-48A1-B37B-D36BA7FD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2175-E152-44B4-9C67-F2E528B27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5B20F-D44F-4863-B9AA-D337F7CC9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3016EA-8799-4B3C-A003-82B1F07F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447242-20C0-4EE2-B2A7-42857588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CB574-E13B-49A7-966A-4EA738D2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C3D33-F063-4F12-A729-7428D924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C65BE-C751-4D0B-9EA2-EC23CC98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460-4F4F-403F-B697-4317F33C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10CD6-FF67-4720-8EE0-7AF357F4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59EB-19FB-4C23-BC30-5DBA08747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D765-C1E3-4983-805F-51271C6F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1AB20-221C-4FA6-932B-35D8E0E2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BE697-E06B-4319-9D60-077C0AF6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0A4BF-383D-442F-9AC3-45712D520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CFD0F-939A-4877-8324-76BC2DBCF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080-8EC7-4947-B2B9-FE414676C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80A-4734-41C8-B1D1-B5509B8DD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8222-2495-468B-AD5E-69040233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EBBB-5267-44FB-AC5D-ABF0569C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1EEC-0083-4108-8F0F-44E0A1E6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9E72-F7CC-4F08-98E5-29055F16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5703-2F30-4921-9BE8-0A2C9518D46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4868-E9ED-4A05-9F1A-61AB71D26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0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91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94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69087-98A9-48A8-97AA-25A65B4969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: What are the stages of Mitosi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 Now:  What is an example of asexual reproduction? Homework #3 due tomorrow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s are boxed 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3048120" y="3657600"/>
            <a:ext cx="1828800" cy="6094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6" name="Telophase__The_Final_Stage_of_Mitosis.as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02_27675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4"/>
          <p:cNvSpPr/>
          <p:nvPr/>
        </p:nvSpPr>
        <p:spPr>
          <a:xfrm>
            <a:off x="380988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DN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228600" y="2895480"/>
            <a:ext cx="40384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7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22097"/>
              <a:gd name="adj2" fmla="val 29270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phase = AWA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02_27676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4"/>
          <p:cNvSpPr/>
          <p:nvPr/>
        </p:nvSpPr>
        <p:spPr>
          <a:xfrm>
            <a:off x="457200" y="4038480"/>
            <a:ext cx="5029200" cy="2057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685800" y="2895480"/>
            <a:ext cx="3581280" cy="8384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02_27677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838080" y="182880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YTOKINESI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S02_23a"/>
          <p:cNvPicPr/>
          <p:nvPr/>
        </p:nvPicPr>
        <p:blipFill>
          <a:blip r:embed="rId1"/>
          <a:stretch/>
        </p:blipFill>
        <p:spPr>
          <a:xfrm>
            <a:off x="0" y="0"/>
            <a:ext cx="8839080" cy="677232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S02_23b"/>
          <p:cNvPicPr/>
          <p:nvPr/>
        </p:nvPicPr>
        <p:blipFill>
          <a:blip r:embed="rId1"/>
          <a:stretch/>
        </p:blipFill>
        <p:spPr>
          <a:xfrm>
            <a:off x="0" y="530280"/>
            <a:ext cx="9144000" cy="63277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Picture 5" descr="800px-Major_events_in_mitosis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3256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533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7"/>
          <p:cNvSpPr/>
          <p:nvPr/>
        </p:nvSpPr>
        <p:spPr>
          <a:xfrm>
            <a:off x="22860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39625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617220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1"/>
          <p:cNvSpPr/>
          <p:nvPr/>
        </p:nvSpPr>
        <p:spPr>
          <a:xfrm>
            <a:off x="8077320" y="54864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can we remember the stages of mito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ter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WordArt 6"/>
          <p:cNvSpPr txBox="1"/>
          <p:nvPr/>
        </p:nvSpPr>
        <p:spPr>
          <a:xfrm>
            <a:off x="2209680" y="4952880"/>
            <a:ext cx="4419720" cy="110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PMAT</a:t>
            </a:r>
            <a:endParaRPr b="1" lang="en-US" sz="3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1828800" y="4724280"/>
            <a:ext cx="5257800" cy="17528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762120" y="38088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mitosis different in plant cel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nly difference is during telophase, where instead of the cell membrane pinching in for cytokinesis, the cell wall forms between the two daughter cell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609480" y="228600"/>
            <a:ext cx="8001000" cy="12193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6019920" y="1600200"/>
            <a:ext cx="205740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6324480" y="2590920"/>
            <a:ext cx="1676520" cy="53316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33520" y="3124080"/>
            <a:ext cx="7467480" cy="4572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c048f1c"/>
          <p:cNvPicPr/>
          <p:nvPr/>
        </p:nvPicPr>
        <p:blipFill>
          <a:blip r:embed="rId1"/>
          <a:stretch/>
        </p:blipFill>
        <p:spPr>
          <a:xfrm>
            <a:off x="195120" y="0"/>
            <a:ext cx="570888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048f1d"/>
          <p:cNvPicPr/>
          <p:nvPr/>
        </p:nvPicPr>
        <p:blipFill>
          <a:blip r:embed="rId2"/>
          <a:stretch/>
        </p:blipFill>
        <p:spPr>
          <a:xfrm>
            <a:off x="6480" y="0"/>
            <a:ext cx="589752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c048f1e"/>
          <p:cNvPicPr/>
          <p:nvPr/>
        </p:nvPicPr>
        <p:blipFill>
          <a:blip r:embed="rId3"/>
          <a:stretch/>
        </p:blipFill>
        <p:spPr>
          <a:xfrm>
            <a:off x="-14400" y="0"/>
            <a:ext cx="5918400" cy="6858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c048f1f"/>
          <p:cNvPicPr/>
          <p:nvPr/>
        </p:nvPicPr>
        <p:blipFill>
          <a:blip r:embed="rId4"/>
          <a:stretch/>
        </p:blipFill>
        <p:spPr>
          <a:xfrm>
            <a:off x="71280" y="0"/>
            <a:ext cx="5826240" cy="6858000"/>
          </a:xfrm>
          <a:prstGeom prst="rect">
            <a:avLst/>
          </a:prstGeom>
          <a:ln w="0">
            <a:noFill/>
          </a:ln>
        </p:spPr>
      </p:pic>
      <p:sp>
        <p:nvSpPr>
          <p:cNvPr id="241" name="WordArt 6"/>
          <p:cNvSpPr txBox="1"/>
          <p:nvPr/>
        </p:nvSpPr>
        <p:spPr>
          <a:xfrm>
            <a:off x="6095880" y="533520"/>
            <a:ext cx="3048120" cy="315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plant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cytokinesis</a:t>
            </a:r>
            <a:endParaRPr b="1" lang="en-US" sz="3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vocabulary we’ll ne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-360" y="990720"/>
            <a:ext cx="8955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ell divis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process by which cells reprodu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osom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ell parts that determine what traits a living thing will h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hromat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one strand of DNA; after replication, a chromosome is made up of two identical chroma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ughter 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new cells produced by cell 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ytokine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a division of the cytoplasm of one parent cell into 2 daughter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990720"/>
            <a:ext cx="8839080" cy="58672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02_276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02_276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itosis produces identical offspring (2N---2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" name="Picture 4" descr="U10_10b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53708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U09_02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99284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s is the phase of mitosis where the cell performs its normal activities for life. (MRS. GONE without the R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DNA is in the chromatin state (kind of like spaghetti)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304920" y="1828800"/>
            <a:ext cx="4572000" cy="21337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9"/>
          <p:cNvSpPr/>
          <p:nvPr/>
        </p:nvSpPr>
        <p:spPr>
          <a:xfrm>
            <a:off x="990720" y="762120"/>
            <a:ext cx="380988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990720" y="0"/>
            <a:ext cx="3809880" cy="119124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tages of Mitosi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04920" y="5181480"/>
            <a:ext cx="4572000" cy="167652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3" descr="help"/>
          <p:cNvPicPr/>
          <p:nvPr/>
        </p:nvPicPr>
        <p:blipFill>
          <a:blip r:embed="rId1"/>
          <a:stretch/>
        </p:blipFill>
        <p:spPr>
          <a:xfrm>
            <a:off x="5029200" y="1828800"/>
            <a:ext cx="4114800" cy="308916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02_27671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67" name="Line 3"/>
          <p:cNvSpPr/>
          <p:nvPr/>
        </p:nvSpPr>
        <p:spPr>
          <a:xfrm flipH="1">
            <a:off x="6019560" y="990720"/>
            <a:ext cx="9903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 flipH="1">
            <a:off x="6400440" y="10666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172200" y="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appe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02_27672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3"/>
          <p:cNvSpPr/>
          <p:nvPr/>
        </p:nvSpPr>
        <p:spPr>
          <a:xfrm>
            <a:off x="304920" y="3124080"/>
            <a:ext cx="304776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04920" y="4648320"/>
            <a:ext cx="6933960" cy="18288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5"/>
          <p:cNvSpPr/>
          <p:nvPr/>
        </p:nvSpPr>
        <p:spPr>
          <a:xfrm flipH="1">
            <a:off x="6095520" y="914400"/>
            <a:ext cx="12193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"/>
          <p:cNvSpPr/>
          <p:nvPr/>
        </p:nvSpPr>
        <p:spPr>
          <a:xfrm flipH="1">
            <a:off x="7848720" y="1447920"/>
            <a:ext cx="304560" cy="21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781680" y="30492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mov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hase- the nuclear membrane breaks down.  The double stranded chromosomes are able to move feely around the cytopla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rophase__The_First_Stage_of_Mitosis.asf" descr=""/>
          <p:cNvPicPr/>
          <p:nvPr/>
        </p:nvPicPr>
        <p:blipFill>
          <a:blip r:embed="rId1"/>
          <a:stretch/>
        </p:blipFill>
        <p:spPr>
          <a:xfrm>
            <a:off x="149400" y="380880"/>
            <a:ext cx="8994600" cy="613260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02_276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02_27674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228600" y="2895480"/>
            <a:ext cx="3505320" cy="91440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80880" y="4419720"/>
            <a:ext cx="4343400" cy="1981080"/>
          </a:xfrm>
          <a:prstGeom prst="rect">
            <a:avLst/>
          </a:prstGeom>
          <a:noFill/>
          <a:ln w="475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6"/>
          <p:cNvSpPr/>
          <p:nvPr/>
        </p:nvSpPr>
        <p:spPr>
          <a:xfrm>
            <a:off x="5791320" y="0"/>
            <a:ext cx="2514600" cy="914400"/>
          </a:xfrm>
          <a:prstGeom prst="wedgeRoundRectCallout">
            <a:avLst>
              <a:gd name="adj1" fmla="val -131564"/>
              <a:gd name="adj2" fmla="val 203648"/>
              <a:gd name="adj3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Aphase =  MIDD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 flipH="1" flipV="1">
            <a:off x="7238880" y="419076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H="1" flipV="1">
            <a:off x="6552720" y="4267080"/>
            <a:ext cx="1600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H="1">
            <a:off x="6019920" y="4343400"/>
            <a:ext cx="21333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0"/>
          <p:cNvSpPr/>
          <p:nvPr/>
        </p:nvSpPr>
        <p:spPr>
          <a:xfrm flipH="1">
            <a:off x="5714640" y="4343400"/>
            <a:ext cx="24382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7238880" y="4575240"/>
            <a:ext cx="1905120" cy="2303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indle fib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 fro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centri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822960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8T03:29:41Z</dcterms:created>
  <dc:creator>Saul</dc:creator>
  <dc:description/>
  <dc:language>en-US</dc:language>
  <cp:lastModifiedBy>LEGION2</cp:lastModifiedBy>
  <dcterms:modified xsi:type="dcterms:W3CDTF">2016-01-12T11:36:01Z</dcterms:modified>
  <cp:revision>53</cp:revision>
  <dc:subject/>
  <dc:title>Aim: What are the stages of Mitosis?</dc:title>
</cp:coreProperties>
</file>