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9D0B-9735-4BD3-A2F0-85A21C376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What are the stages of Mitosi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is an example of asexual reproduction? Homework #3 due tomorrow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are boxed i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What are the stages of Mit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is an example of asexual reproduction? Homework #3 due tomor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are boxed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- process by which cells reprodu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cell parts that determine what traits a living thing will ha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d - one strand of DNA; after replication, a chromosome is made up of two identical chromati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 cells - new cells produced by cell divi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 – a division of the cytoplasm of one parent cell into 2 daughter cel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- process by which cells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cell parts that determine what traits a living thing will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d - one strand of DNA; after replication, a chromosome is made up of two identical chromat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 cells - new cells produced by 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 – a division of the cytoplasm of one parent cell into 2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itosis produces identical offspring (2N---2N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itosis produces identical offspring (2N---2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phase of mitosis where the cell performs its normal activities for life. (MRS. GONE without the 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in the chromatin state (kind of like spaghett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Mito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phase of mitosis where the cell performs its normal activities for life. (MRS. GONE without the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in the chromatin state (kind of like spaghet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- the nuclear membrane breaks down.  The double stranded chromosomes are able to move feely around the cytoplas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- the nuclear membrane breaks down.  The double stranded chromosomes are able to move feely around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6BEF-47BB-4662-B7D0-C870BA39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AA56-2D3D-499A-B83F-043E5973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A89C-3273-40DE-AADB-7A045955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8557-E9B2-426D-B824-F5FB47C3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871C-4E24-4EF8-8978-78BF2F96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3416-7119-4092-9C85-452638A0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32F6-2721-4840-9C6D-CE3F62F8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4AAB-2536-44DE-9A6E-7388BC83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CAA0-503A-4447-A43B-A7CC5612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6274-E5B7-4E8D-9889-25804019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6F92-8B9C-4D9B-86EE-8565B5CD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DF9C-0A97-4B39-8855-24C5DD4E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1C98-91E4-4DE4-AFB9-C214F1B6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AA79-99C6-4A8B-ADA0-A9FF82EC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075C-1C14-4E07-A193-474BD817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7C39-E91B-4BD6-8233-5D45AC1F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EEF3-960C-48CD-88BC-D81D5198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57649-92AE-4B89-B58F-AD6D7979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5D045-1571-44D9-B7FC-ABB05915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BBC70-1958-47DD-84B2-7D55B5E9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9CA8A-0CEE-4387-80BC-9CE6EC35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6A09A-0362-4CC7-9D22-A195ADBE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EC29-4093-46D5-B5FD-0F3B4CC1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3E20E-1960-4BC4-B70B-73F0794F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65D65-1A38-443A-BA6C-5544D882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B2B8A-2277-4BC9-AE26-25D54D4A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D70A3-8197-46BA-8A27-918746DE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01B8C-CAC7-47CF-B2E7-FF51F7DB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4CEC8-36B1-4539-A7AA-C4A074690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10E45-AF43-4900-865C-5C903773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ED0E-FB88-4410-8644-B1019837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0BA8-BB5A-4ADA-B11C-F28FDFA3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ABF8-60FB-43E5-8954-A626B7FF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3847-5819-4D50-8F34-0914CBBD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7A86-FF60-4363-B03D-8D206D5B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EB31-CD93-452A-95FF-CFFB76CD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1121-FB68-4FC0-ACD7-73DA26F1CC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DA64-BC5A-460F-BB2F-7ECDC433B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7EC5-A553-4015-B09E-1DB860A2EF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: What are the stages of Mitosi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Now:  What is an example of asexual reproduction? Homework #3 due tomorr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s are boxed 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3048120" y="3657600"/>
            <a:ext cx="1828800" cy="6094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Telophase__The_Final_Stage_of_Mitosis.as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02_27675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3809880" y="4648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28600" y="2895480"/>
            <a:ext cx="403848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57200" y="4038480"/>
            <a:ext cx="5029200" cy="2057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5791320" y="0"/>
            <a:ext cx="2514600" cy="914400"/>
          </a:xfrm>
          <a:prstGeom prst="wedgeRoundRectCallout">
            <a:avLst>
              <a:gd name="adj1" fmla="val -122097"/>
              <a:gd name="adj2" fmla="val 292708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02_276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457200" y="4038480"/>
            <a:ext cx="5029200" cy="2057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85800" y="2895480"/>
            <a:ext cx="3581280" cy="8384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02_27677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838080" y="182880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YTOKINE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S02_23a"/>
          <p:cNvPicPr/>
          <p:nvPr/>
        </p:nvPicPr>
        <p:blipFill>
          <a:blip r:embed="rId1"/>
          <a:stretch/>
        </p:blipFill>
        <p:spPr>
          <a:xfrm>
            <a:off x="0" y="0"/>
            <a:ext cx="8839080" cy="677232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S02_23b"/>
          <p:cNvPicPr/>
          <p:nvPr/>
        </p:nvPicPr>
        <p:blipFill>
          <a:blip r:embed="rId1"/>
          <a:stretch/>
        </p:blipFill>
        <p:spPr>
          <a:xfrm>
            <a:off x="0" y="530280"/>
            <a:ext cx="9144000" cy="63277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Picture 5" descr="800px-Major_events_in_mitosis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3256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5335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28600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39625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617220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80773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ter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6"/>
          <p:cNvSpPr txBox="1"/>
          <p:nvPr/>
        </p:nvSpPr>
        <p:spPr>
          <a:xfrm>
            <a:off x="2209680" y="4952880"/>
            <a:ext cx="4419720" cy="110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PMAT</a:t>
            </a:r>
            <a:endParaRPr b="1" lang="en-US" sz="3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1828800" y="4724280"/>
            <a:ext cx="5257800" cy="17528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762120" y="380880"/>
            <a:ext cx="8001000" cy="12193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609480" y="228600"/>
            <a:ext cx="8001000" cy="12193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6019920" y="1600200"/>
            <a:ext cx="2057400" cy="4572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6324480" y="2590920"/>
            <a:ext cx="1676520" cy="53316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533520" y="3124080"/>
            <a:ext cx="7467480" cy="4572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048f1c"/>
          <p:cNvPicPr/>
          <p:nvPr/>
        </p:nvPicPr>
        <p:blipFill>
          <a:blip r:embed="rId1"/>
          <a:stretch/>
        </p:blipFill>
        <p:spPr>
          <a:xfrm>
            <a:off x="195120" y="0"/>
            <a:ext cx="5708880" cy="6858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048f1d"/>
          <p:cNvPicPr/>
          <p:nvPr/>
        </p:nvPicPr>
        <p:blipFill>
          <a:blip r:embed="rId2"/>
          <a:stretch/>
        </p:blipFill>
        <p:spPr>
          <a:xfrm>
            <a:off x="6480" y="0"/>
            <a:ext cx="589752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c048f1e"/>
          <p:cNvPicPr/>
          <p:nvPr/>
        </p:nvPicPr>
        <p:blipFill>
          <a:blip r:embed="rId3"/>
          <a:stretch/>
        </p:blipFill>
        <p:spPr>
          <a:xfrm>
            <a:off x="-14400" y="0"/>
            <a:ext cx="59184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c048f1f"/>
          <p:cNvPicPr/>
          <p:nvPr/>
        </p:nvPicPr>
        <p:blipFill>
          <a:blip r:embed="rId4"/>
          <a:stretch/>
        </p:blipFill>
        <p:spPr>
          <a:xfrm>
            <a:off x="71280" y="0"/>
            <a:ext cx="582624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WordArt 6"/>
          <p:cNvSpPr txBox="1"/>
          <p:nvPr/>
        </p:nvSpPr>
        <p:spPr>
          <a:xfrm>
            <a:off x="6095880" y="533520"/>
            <a:ext cx="3048120" cy="31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lant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ytokinesis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55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ll div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process by which cells rep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romosom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ell parts that determine what traits a living thing will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romat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one strand of DNA; after replication, a chromosome is made up of two identical chromat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ughter 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new cells produced by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ytokine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division of the cytoplasm of one parent cell into 2 daught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990720"/>
            <a:ext cx="8839080" cy="58672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02_27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02_276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tosis produces identical offspring (2N---2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U10_10b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53708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U09_02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499284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s is the phase of mitosis where the cell performs its normal activities for life. (MRS. GONE without the R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NA is in the chromatin state (kind of like spaghetti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304920" y="1828800"/>
            <a:ext cx="4572000" cy="21337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990720" y="762120"/>
            <a:ext cx="380988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990720" y="0"/>
            <a:ext cx="3809880" cy="11912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ages of Mito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304920" y="5181480"/>
            <a:ext cx="4572000" cy="16765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3" descr="help"/>
          <p:cNvPicPr/>
          <p:nvPr/>
        </p:nvPicPr>
        <p:blipFill>
          <a:blip r:embed="rId1"/>
          <a:stretch/>
        </p:blipFill>
        <p:spPr>
          <a:xfrm>
            <a:off x="5029200" y="1828800"/>
            <a:ext cx="4114800" cy="30891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02_276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67" name="Line 3"/>
          <p:cNvSpPr/>
          <p:nvPr/>
        </p:nvSpPr>
        <p:spPr>
          <a:xfrm flipH="1">
            <a:off x="6019560" y="99072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 flipH="1">
            <a:off x="6400440" y="106668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172200" y="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02_276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304920" y="3124080"/>
            <a:ext cx="304776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4648320"/>
            <a:ext cx="6933960" cy="18288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 flipH="1">
            <a:off x="6095520" y="91440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 flipH="1">
            <a:off x="7848720" y="1447920"/>
            <a:ext cx="30456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781680" y="3049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hase- the nuclear membrane breaks down.  The double stranded chromosomes are able to move feely around the cytopla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rophase__The_First_Stage_of_Mitosis.asf" descr=""/>
          <p:cNvPicPr/>
          <p:nvPr/>
        </p:nvPicPr>
        <p:blipFill>
          <a:blip r:embed="rId1"/>
          <a:stretch/>
        </p:blipFill>
        <p:spPr>
          <a:xfrm>
            <a:off x="149400" y="380880"/>
            <a:ext cx="8994600" cy="61326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02_276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02_276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4"/>
          <p:cNvSpPr/>
          <p:nvPr/>
        </p:nvSpPr>
        <p:spPr>
          <a:xfrm>
            <a:off x="228600" y="2895480"/>
            <a:ext cx="350532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80880" y="4419720"/>
            <a:ext cx="4343400" cy="19810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5791320" y="0"/>
            <a:ext cx="2514600" cy="914400"/>
          </a:xfrm>
          <a:prstGeom prst="wedgeRoundRectCallout">
            <a:avLst>
              <a:gd name="adj1" fmla="val -131564"/>
              <a:gd name="adj2" fmla="val 203648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 flipH="1" flipV="1">
            <a:off x="7238880" y="419076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 flipH="1" flipV="1">
            <a:off x="6552720" y="42670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 flipH="1">
            <a:off x="6019920" y="4343400"/>
            <a:ext cx="21333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 flipH="1">
            <a:off x="5714640" y="4343400"/>
            <a:ext cx="2438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7238880" y="4575240"/>
            <a:ext cx="1905120" cy="2303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822960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03:29:41Z</dcterms:created>
  <dc:creator>Saul</dc:creator>
  <dc:description/>
  <dc:language>en-US</dc:language>
  <cp:lastModifiedBy>LEGION2</cp:lastModifiedBy>
  <dcterms:modified xsi:type="dcterms:W3CDTF">2016-01-12T11:36:01Z</dcterms:modified>
  <cp:revision>53</cp:revision>
  <dc:subject/>
  <dc:title>Aim: What are the stages of Mitosis?</dc:title>
</cp:coreProperties>
</file>