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711B-21D8-4081-A448-3B24DA330A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mplex organisms originated from a single fertilised eg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cell in your body started here, through cell division the numbers are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then specialise and change into their various r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is the process by which new body cell are produced f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ing damaged or old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complex process  requiring different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 identical to orig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are copied and double in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now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aughter cells contain the same genetic information from the original parent cell from which it was cop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different type cell in your body contains the same genes, but only some act to make the cells specialise – e.g. into nerve or muscl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– bone cell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cop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ies sepa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spl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ical meri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 –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DC36-2EE7-4495-BD26-CD16DE29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9CA3-F421-47B8-B49B-A5CFFE33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E7DA-2730-42C6-933E-25F7145E8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8543-0A49-44E6-BCC0-77F70E132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C06E-38C4-44A3-988F-5F46A7EB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C2C0-BCC9-4B27-81B5-92E0A51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9BB6-A291-4716-99EE-4969CD66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E8B-1AE1-441E-B420-AE93E0234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A2D3-3A96-4AFC-93C4-91CB2419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58C-6350-4F67-BD77-C6602178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FD00-3160-4B10-B787-DF4C2109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D39-4010-4813-B673-916562A7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B1EF-5C57-48D6-BA90-D332E40762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28782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ell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4" descr="cells-split"/>
          <p:cNvPicPr/>
          <p:nvPr/>
        </p:nvPicPr>
        <p:blipFill>
          <a:blip r:embed="rId1"/>
          <a:stretch/>
        </p:blipFill>
        <p:spPr>
          <a:xfrm>
            <a:off x="4500720" y="1341360"/>
            <a:ext cx="3109680" cy="4248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468360" y="1557360"/>
            <a:ext cx="36720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l complex organisms originated from a single fertilised eg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ery cell in your body started here, through cell division the numbers are incre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 then specialise and change into their various r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itosis is the process by which new body cell are produced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placing damaged or old cel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is a complex process  requiring different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mitosis-big"/>
          <p:cNvPicPr/>
          <p:nvPr/>
        </p:nvPicPr>
        <p:blipFill>
          <a:blip r:embed="rId1"/>
          <a:stretch/>
        </p:blipFill>
        <p:spPr>
          <a:xfrm>
            <a:off x="826920" y="333360"/>
            <a:ext cx="4191120" cy="5689440"/>
          </a:xfrm>
          <a:prstGeom prst="rect">
            <a:avLst/>
          </a:prstGeom>
          <a:ln w="0">
            <a:noFill/>
          </a:ln>
        </p:spPr>
      </p:pic>
      <p:sp>
        <p:nvSpPr>
          <p:cNvPr id="59" name="Line 11"/>
          <p:cNvSpPr/>
          <p:nvPr/>
        </p:nvSpPr>
        <p:spPr>
          <a:xfrm flipH="1">
            <a:off x="3924000" y="551664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5219640" y="4941720"/>
            <a:ext cx="27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 identical to orig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3"/>
          <p:cNvSpPr/>
          <p:nvPr/>
        </p:nvSpPr>
        <p:spPr>
          <a:xfrm flipH="1">
            <a:off x="3708000" y="765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5148360" y="549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5"/>
          <p:cNvSpPr/>
          <p:nvPr/>
        </p:nvSpPr>
        <p:spPr>
          <a:xfrm flipH="1">
            <a:off x="3635280" y="1844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5148360" y="1700280"/>
            <a:ext cx="25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are copied and double in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7"/>
          <p:cNvSpPr/>
          <p:nvPr/>
        </p:nvSpPr>
        <p:spPr>
          <a:xfrm flipH="1">
            <a:off x="3779640" y="400536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219640" y="3573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now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daughter cells contain the same genetic information from the original parent cell from which it was copi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very different type cell in your body contains the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am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genes, but only some act to make the cells specialise – e.g. into nerve or muscle tiss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itosis – bone cell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numa_int"/>
          <p:cNvPicPr/>
          <p:nvPr/>
        </p:nvPicPr>
        <p:blipFill>
          <a:blip r:embed="rId1"/>
          <a:stretch/>
        </p:blipFill>
        <p:spPr>
          <a:xfrm>
            <a:off x="611280" y="1557360"/>
            <a:ext cx="2736720" cy="2189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numa_pro"/>
          <p:cNvPicPr/>
          <p:nvPr/>
        </p:nvPicPr>
        <p:blipFill>
          <a:blip r:embed="rId2"/>
          <a:stretch/>
        </p:blipFill>
        <p:spPr>
          <a:xfrm>
            <a:off x="3708360" y="1628640"/>
            <a:ext cx="2664000" cy="2130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NUMA_TELO"/>
          <p:cNvPicPr/>
          <p:nvPr/>
        </p:nvPicPr>
        <p:blipFill>
          <a:blip r:embed="rId3"/>
          <a:stretch/>
        </p:blipFill>
        <p:spPr>
          <a:xfrm>
            <a:off x="6227640" y="4076640"/>
            <a:ext cx="2521080" cy="2160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NUMA_META"/>
          <p:cNvPicPr/>
          <p:nvPr/>
        </p:nvPicPr>
        <p:blipFill>
          <a:blip r:embed="rId4"/>
          <a:stretch/>
        </p:blipFill>
        <p:spPr>
          <a:xfrm>
            <a:off x="539640" y="400536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numa_ana"/>
          <p:cNvPicPr/>
          <p:nvPr/>
        </p:nvPicPr>
        <p:blipFill>
          <a:blip r:embed="rId5"/>
          <a:stretch/>
        </p:blipFill>
        <p:spPr>
          <a:xfrm>
            <a:off x="3492360" y="4076640"/>
            <a:ext cx="2652840" cy="21225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685800" y="1700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3710160" y="162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736920" y="3881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3618000" y="4025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6497640" y="416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826920" y="3141720"/>
            <a:ext cx="20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3851280" y="299736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romosomes cop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539640" y="61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pies sepa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4"/>
          <p:cNvSpPr/>
          <p:nvPr/>
        </p:nvSpPr>
        <p:spPr>
          <a:xfrm>
            <a:off x="6516720" y="609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 daughter c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7524720" y="350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6"/>
          <p:cNvSpPr/>
          <p:nvPr/>
        </p:nvSpPr>
        <p:spPr>
          <a:xfrm>
            <a:off x="7236000" y="2637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s spl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230328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lants</a:t>
            </a:r>
            <a:br>
              <a:rPr sz="4400"/>
            </a:b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pical meri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mitosis 5 stages"/>
          <p:cNvPicPr/>
          <p:nvPr/>
        </p:nvPicPr>
        <p:blipFill>
          <a:blip r:embed="rId1"/>
          <a:stretch/>
        </p:blipFill>
        <p:spPr>
          <a:xfrm>
            <a:off x="2627280" y="333360"/>
            <a:ext cx="6192720" cy="61754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at – epithelial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mitosis pic2"/>
          <p:cNvPicPr/>
          <p:nvPr/>
        </p:nvPicPr>
        <p:blipFill>
          <a:blip r:embed="rId1"/>
          <a:stretch/>
        </p:blipFill>
        <p:spPr>
          <a:xfrm>
            <a:off x="1187280" y="1773360"/>
            <a:ext cx="6697800" cy="45878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302256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ell membr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mitosis anim"/>
          <p:cNvPicPr/>
          <p:nvPr/>
        </p:nvPicPr>
        <p:blipFill>
          <a:blip r:embed="rId1"/>
          <a:stretch/>
        </p:blipFill>
        <p:spPr>
          <a:xfrm>
            <a:off x="684360" y="1484280"/>
            <a:ext cx="6408720" cy="5041800"/>
          </a:xfrm>
          <a:prstGeom prst="rect">
            <a:avLst/>
          </a:prstGeom>
          <a:ln w="0">
            <a:noFill/>
          </a:ln>
        </p:spPr>
      </p:pic>
      <p:sp>
        <p:nvSpPr>
          <p:cNvPr id="97" name="Line 8"/>
          <p:cNvSpPr/>
          <p:nvPr/>
        </p:nvSpPr>
        <p:spPr>
          <a:xfrm>
            <a:off x="3564000" y="1052640"/>
            <a:ext cx="503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09:10:42Z</dcterms:created>
  <dc:creator>rik</dc:creator>
  <dc:description/>
  <dc:language>en-US</dc:language>
  <cp:lastModifiedBy>LEGION2</cp:lastModifiedBy>
  <dcterms:modified xsi:type="dcterms:W3CDTF">2016-01-12T11:40:50Z</dcterms:modified>
  <cp:revision>13</cp:revision>
  <dc:subject/>
  <dc:title>Mitosis &amp; Meiosis</dc:title>
</cp:coreProperties>
</file>