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81882-E75D-4F89-9903-4DB01BF2E86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 and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 and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ere are two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unc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fibres disinteg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ioles repl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ur membrane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div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ere are two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unc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fibres disinteg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ioles repl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ur membrane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div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daughter cells pro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daughter cell has half the chromosomes of the pa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sets of cell division invol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daughter cells pro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daughter cell has half the chromosomes of the pa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sets of cell division invol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 and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division of somatic (body)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division of gametes (sex cel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 and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division of somatic (body)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division of gametes (sex cel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esting things happe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preparing to div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material dou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esting things happe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preparing to div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material dou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 pair u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thicken and shor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become 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 chromatids joined by a centrom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ioles move to the opposite sides of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olus disapp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membrane disinteg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 pair u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thicken and shor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become 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 chromatids joined by a centrom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ioles move to the opposite sides of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olus disapp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membrane disinteg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meet in the middl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arrange at equator of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attached to spindle fibres by centrome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logous chromosomes do not assoc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meet in the middl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arrange at equator of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attached to spindle fibres by centrome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logous chromosomes do not assoc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get pulled a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fibres contract pulling chromatids to the opposite poles of the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get pulled a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fibres contract pulling chromatids to the opposite poles of the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EA47-047E-42BC-B90F-A56F39B1B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1555-D01A-4BF6-8FDB-7826D8441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947C-B964-40E1-ABC8-DD5043ECD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A63A-88E8-416E-BA38-B4C75C336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363D-2115-4097-8AB7-CC81F639B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FA89-BE5D-4156-9798-F879FCDA5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B9DD-658E-4D6B-A650-1E8B5515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BDB5-D89C-48B8-84C5-BA4017909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EB5E-BEFD-43AB-BD4F-9BA14B234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A840-AFD3-4BAF-A353-487FB71D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C0C0-8FC9-4BEC-99E8-F8D38F57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209A-DDBE-4ED2-B10F-1294CB9D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CB594-F40E-4FFA-B913-22C20C8E31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VlN7K1-9QB0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oHH4JxGxC0s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itosis and Mei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igher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66"/>
                </a:solidFill>
                <a:latin typeface="Comic Sans MS"/>
              </a:rPr>
              <a:t>T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lo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w there are </a:t>
            </a:r>
            <a:r>
              <a:rPr b="1" lang="en-GB" sz="3200" spc="-1" strike="noStrike">
                <a:solidFill>
                  <a:srgbClr val="ff0066"/>
                </a:solidFill>
                <a:latin typeface="Comic Sans MS"/>
              </a:rPr>
              <a:t>tw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romosomes unco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pindle fibres disinteg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entrioles replic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ucleur membrane f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ell div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rcRect l="24891" t="75843" r="9333" b="7804"/>
          <a:stretch/>
        </p:blipFill>
        <p:spPr>
          <a:xfrm>
            <a:off x="0" y="4140360"/>
            <a:ext cx="9144000" cy="2717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3048120" y="380880"/>
            <a:ext cx="3663720" cy="373392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95280" y="0"/>
            <a:ext cx="591516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160020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ei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 daughter cells produ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ach daughter cell has half the chromosomes of the pa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 sets of cell division invol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7920" y="214200"/>
            <a:ext cx="6476760" cy="64296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itosis and Mei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itos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vision of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omatic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body)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ei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vision of gametes (sex cell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it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ter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o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ta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a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elo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66"/>
                </a:solidFill>
                <a:latin typeface="Comic Sans MS"/>
              </a:rPr>
              <a:t>I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ter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Comic Sans MS"/>
              </a:rPr>
              <a:t>Interestin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hings happe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ell preparing to div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enetic material dou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867280" y="4038480"/>
            <a:ext cx="2743200" cy="2435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2"/>
          <a:srcRect l="0" t="0" r="53562" b="82720"/>
          <a:stretch/>
        </p:blipFill>
        <p:spPr>
          <a:xfrm>
            <a:off x="762120" y="4114800"/>
            <a:ext cx="4419360" cy="196704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66"/>
                </a:solidFill>
                <a:latin typeface="Comic Sans MS"/>
              </a:rPr>
              <a:t>Pro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romosome </a:t>
            </a:r>
            <a:r>
              <a:rPr b="1" lang="en-GB" sz="2800" spc="-1" strike="noStrike">
                <a:solidFill>
                  <a:srgbClr val="ff0066"/>
                </a:solidFill>
                <a:latin typeface="Comic Sans MS"/>
              </a:rPr>
              <a:t>pair up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romosomes thicken and shor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become vi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2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chromatid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joined by a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centrom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Centriol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ove to the opposite sides of the nucle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ucleolu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isapp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uclear membrane disinteg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2819520" y="380880"/>
            <a:ext cx="3809880" cy="3381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2"/>
          <a:srcRect l="0" t="17842" r="43112" b="67294"/>
          <a:stretch/>
        </p:blipFill>
        <p:spPr>
          <a:xfrm>
            <a:off x="1219320" y="4419720"/>
            <a:ext cx="6858000" cy="214308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66"/>
                </a:solidFill>
                <a:latin typeface="Comic Sans MS"/>
              </a:rPr>
              <a:t>M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ta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romosomes </a:t>
            </a:r>
            <a:r>
              <a:rPr b="1" lang="en-GB" sz="3200" spc="-1" strike="noStrike">
                <a:solidFill>
                  <a:srgbClr val="ff0066"/>
                </a:solidFill>
                <a:latin typeface="Comic Sans MS"/>
              </a:rPr>
              <a:t>meet in the middle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romosomes arrange at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equato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of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ecome attached to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pindle fibre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by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centrome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Homologou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chromosomes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do not associ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rcRect l="0" t="34202" r="30670" b="50934"/>
          <a:stretch/>
        </p:blipFill>
        <p:spPr>
          <a:xfrm>
            <a:off x="0" y="4402080"/>
            <a:ext cx="8686800" cy="2227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2"/>
          <a:srcRect l="0" t="28180" r="0" b="24547"/>
          <a:stretch/>
        </p:blipFill>
        <p:spPr>
          <a:xfrm>
            <a:off x="1981080" y="457200"/>
            <a:ext cx="4648320" cy="339264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66"/>
                </a:solidFill>
                <a:latin typeface="Comic Sans MS"/>
              </a:rPr>
              <a:t>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a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romosomes get pulled </a:t>
            </a:r>
            <a:r>
              <a:rPr b="1" lang="en-GB" sz="3200" spc="-1" strike="noStrike">
                <a:solidFill>
                  <a:srgbClr val="ff0066"/>
                </a:solidFill>
                <a:latin typeface="Comic Sans MS"/>
              </a:rPr>
              <a:t>a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pindle fibres contract pulling chromatids to the opposite poles of the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5791320" y="3792600"/>
            <a:ext cx="3085920" cy="3065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2"/>
          <a:srcRect l="14222" t="55022" r="28889" b="28625"/>
          <a:stretch/>
        </p:blipFill>
        <p:spPr>
          <a:xfrm>
            <a:off x="228600" y="4900680"/>
            <a:ext cx="5029200" cy="172872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16:15:05Z</dcterms:created>
  <dc:creator>hhashmi</dc:creator>
  <dc:description/>
  <dc:language>en-US</dc:language>
  <cp:lastModifiedBy>LEGION2</cp:lastModifiedBy>
  <dcterms:modified xsi:type="dcterms:W3CDTF">2016-01-12T11:46:21Z</dcterms:modified>
  <cp:revision>6</cp:revision>
  <dc:subject/>
  <dc:title>Mitosis and Meiosis</dc:title>
</cp:coreProperties>
</file>