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5779-C99E-45C6-9E09-E35F6CDF05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are two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unc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repl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r membrane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aughter cells produ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daughter cell has half the chromosomes of the 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ets of cell division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 and 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somatic (body)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i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division of gametes (sex cel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esting things happe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preparing to div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material dou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 pair up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thicken and shor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become vi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chromatids joined by a centro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oles move to the opposite sides of the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lus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membrane disinteg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meet in the middl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arrange at equator of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attached to spindle fibres by centrom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logous chromosomes do not assoc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omes get pulled a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dle fibres contract pulling chromatids to the opposite poles of the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2413-F833-4DCE-8D20-EE0C4F53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A149-4E6B-4108-B86E-92C52B14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D13-E52A-49E8-A1C0-1F58EB9D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253A-99A7-47F1-9D02-5157358EB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001-6C6C-4DE1-A9DE-DA31DB9C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E48F-58CE-469A-8D3D-D23473FCF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8104-D094-4D91-B561-9F9DD3F4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7079-E821-454A-95A9-10998F71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F46D-185E-45D6-B567-F7A871AC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C0B-7811-40C2-86F0-21F044CA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75C-AFBF-49A9-9ACE-D0409B74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6686-38AC-4D6F-871F-E6608DC0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E479-26FC-4A0A-896D-AF1DD49CCB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lN7K1-9QB0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HH4JxGxC0s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T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l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w there are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tw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unc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disinteg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ntrioles repl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ucleur membrane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rcRect l="24891" t="75843" r="9333" b="7804"/>
          <a:stretch/>
        </p:blipFill>
        <p:spPr>
          <a:xfrm>
            <a:off x="0" y="4140360"/>
            <a:ext cx="9144000" cy="2717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3663720" cy="373392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0"/>
            <a:ext cx="591516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160020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 daughter cells produ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ach daughter cell has half the chromosomes of the pa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 sets of cell division invol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14200"/>
            <a:ext cx="6476760" cy="64296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 and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itos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omatic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body)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ivision of gametes (sex cel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r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et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a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oph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I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ter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Interesting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ings happ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ell preparing to di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dou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867280" y="4038480"/>
            <a:ext cx="2743200" cy="243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2"/>
          <a:srcRect l="0" t="0" r="53562" b="82720"/>
          <a:stretch/>
        </p:blipFill>
        <p:spPr>
          <a:xfrm>
            <a:off x="762120" y="4114800"/>
            <a:ext cx="4419360" cy="19670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 </a:t>
            </a:r>
            <a:r>
              <a:rPr b="1" lang="en-GB" sz="2800" spc="-1" strike="noStrike">
                <a:solidFill>
                  <a:srgbClr val="ff0066"/>
                </a:solidFill>
                <a:latin typeface="Comic Sans MS"/>
              </a:rPr>
              <a:t>pair up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romosomes thicken and shor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become vi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2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hromatid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oined by a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om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entriole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ove to the opposite sides of the nucle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ucleolu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isapp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uclear membrane disinte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819520" y="380880"/>
            <a:ext cx="3809880" cy="338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rcRect l="0" t="17842" r="43112" b="67294"/>
          <a:stretch/>
        </p:blipFill>
        <p:spPr>
          <a:xfrm>
            <a:off x="1219320" y="4419720"/>
            <a:ext cx="6858000" cy="2143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M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t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meet in the middle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arrange at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quato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of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Become attach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indle fibr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y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entrome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omologou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romosome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do not associ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rcRect l="0" t="34202" r="30670" b="50934"/>
          <a:stretch/>
        </p:blipFill>
        <p:spPr>
          <a:xfrm>
            <a:off x="0" y="4402080"/>
            <a:ext cx="8686800" cy="222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rcRect l="0" t="28180" r="0" b="24547"/>
          <a:stretch/>
        </p:blipFill>
        <p:spPr>
          <a:xfrm>
            <a:off x="1981080" y="457200"/>
            <a:ext cx="4648320" cy="3392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66"/>
                </a:solidFill>
                <a:latin typeface="Comic Sans MS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na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romosomes get pulled </a:t>
            </a:r>
            <a:r>
              <a:rPr b="1" lang="en-GB" sz="3200" spc="-1" strike="noStrike">
                <a:solidFill>
                  <a:srgbClr val="ff0066"/>
                </a:solidFill>
                <a:latin typeface="Comic Sans MS"/>
              </a:rPr>
              <a:t>a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indle fibres contract pulling chromatids to the opposite poles of the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5791320" y="3792600"/>
            <a:ext cx="3085920" cy="3065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rcRect l="14222" t="55022" r="28889" b="28625"/>
          <a:stretch/>
        </p:blipFill>
        <p:spPr>
          <a:xfrm>
            <a:off x="228600" y="4900680"/>
            <a:ext cx="5029200" cy="17287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6:15:05Z</dcterms:created>
  <dc:creator>hhashmi</dc:creator>
  <dc:description/>
  <dc:language>en-US</dc:language>
  <cp:lastModifiedBy>LEGION2</cp:lastModifiedBy>
  <dcterms:modified xsi:type="dcterms:W3CDTF">2016-01-12T11:46:21Z</dcterms:modified>
  <cp:revision>6</cp:revision>
  <dc:subject/>
  <dc:title>Mitosis and Meiosis</dc:title>
</cp:coreProperties>
</file>