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41B3-76D7-408F-B94E-9B4190A08B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udy of inherited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o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roun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(dominant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t the allele for wrinkled seeds be: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  (recessive alle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round seeds    x  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ph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genotyp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%  heterozygotes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 phenotype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round seeds x round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Rr     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generatio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5%  plants producing roun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plants producing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%  RR      50%  Rr      25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:1 Round seeds: wrinkl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e observed ratio match the theoretical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oretical or expected ratio of plants producing round or wrinkled seeds is 3 round :1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observed ratio was 2.96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crepancy is due to statistical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ed  ratio is very rarely the same as the expected rati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rger the sample the more nearly the results approximate to the theoretical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al tests such as the chi-squared test can be used to test the closeness of fit of the observed and theoretical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1 generation is limited to the offspring of two homozygou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the term F2 is limited to the offspring of intercrossing the F1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l other cases the terms offspring (1) and offspring (2) should be 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lete set of headings will b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1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 (1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(2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f the parents are not  homozyg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kcros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o test whether a plant producing round seeds is homozygous RR  or heterozygous Rr it can be crossed with a homozygous r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omozygous dominant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round 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RR 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plant is heterozygous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 round x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    Rr           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 100%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100% 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enotype  50% round  50%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     50% Rr   50% r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662-101C-4F1C-B495-FBD2100E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2B1-C24E-4412-98D0-F28EE229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8ED-1296-4A4F-B929-F019F694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B4C-EEA9-44C7-835E-2665913D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51AA-2B21-432F-91B3-DC84EBEB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B5D-CCB9-4DB0-9125-1B9E3358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174C-EDD2-41BB-9481-496032A2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CEE-05C9-488E-AB59-45DA02FF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CBB-0768-4E6D-9D46-72552F46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5CB6-D35E-4053-811B-49479EA3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04D-458D-49AD-AD52-941E4D95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C0EE-8378-46B5-BD41-31AC61D7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7820-D067-42D6-A4AF-3BC5DF319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33"/>
                </a:solidFill>
                <a:latin typeface="Verdana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The study of inherite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Verdana"/>
              </a:rPr>
              <a:t>Monohybrid inheri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be: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(dominant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et the allele for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be: </a:t>
            </a:r>
            <a:r>
              <a:rPr b="0" lang="en-GB" sz="1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(recessive allel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    x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er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380988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4197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12"/>
          <p:cNvSpPr/>
          <p:nvPr/>
        </p:nvSpPr>
        <p:spPr>
          <a:xfrm>
            <a:off x="5943600" y="2819520"/>
            <a:ext cx="30492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6477120" y="2819520"/>
            <a:ext cx="30456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609480" y="5638680"/>
            <a:ext cx="784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ph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1 genotyp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100%  heterozygotes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20"/>
          <p:cNvGraphicFramePr/>
          <p:nvPr/>
        </p:nvGraphicFramePr>
        <p:xfrm>
          <a:off x="3200400" y="3733920"/>
          <a:ext cx="312408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733920"/>
                    <a:ext cx="31240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6600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0033"/>
                </a:solidFill>
                <a:latin typeface="Verdana"/>
              </a:rPr>
              <a:t>F1 intercross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 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x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           Rr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F2 generati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8"/>
          <p:cNvSpPr/>
          <p:nvPr/>
        </p:nvSpPr>
        <p:spPr>
          <a:xfrm>
            <a:off x="3962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Oval 9"/>
          <p:cNvSpPr/>
          <p:nvPr/>
        </p:nvSpPr>
        <p:spPr>
          <a:xfrm>
            <a:off x="46483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62485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5562720" y="20574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990720" y="4876920"/>
            <a:ext cx="73911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75% 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plants producing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wrinkle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</a:t>
            </a:r>
            <a:r>
              <a:rPr b="1" lang="en-GB" sz="1600" spc="-1" strike="noStrike">
                <a:solidFill>
                  <a:srgbClr val="99ff33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25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50%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 25%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atio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3:1 Roun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: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 wrinkled </a:t>
            </a: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see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17"/>
          <p:cNvGraphicFramePr/>
          <p:nvPr/>
        </p:nvGraphicFramePr>
        <p:xfrm>
          <a:off x="3276720" y="3124080"/>
          <a:ext cx="3504960" cy="152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24080"/>
                    <a:ext cx="350496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Does the observed ratio match the theoretical rati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theoretical or expected ratio of plants producing round or wrinkled seeds is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3 round :1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ndel’s observed ratio was 2.96: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discrepancy is due to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err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observed  ratio is very rarely the same as the expected rati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larger the sampl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he more nearly the results approximate to the theoretical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Statistical tes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such as the </a:t>
            </a: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chi-squared tes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can be used to test the closeness of fit of the observed and theoretic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1 generation is limited to the offspring of two homozygous par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use of the term F2 is limited to the offspring of intercrossing the F1 gene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 all other cases the terms offspring (1) and offspring (2) should be use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complete set of headings will b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arents 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1)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 (1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ph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Offspring (2)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genotyp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33"/>
                </a:solidFill>
                <a:latin typeface="Verdana"/>
              </a:rPr>
              <a:t>What if the parents are not  homozygo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Backcross</a:t>
            </a:r>
            <a:br>
              <a:rPr sz="2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o test whether a plant producing round seeds is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 or heter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it can be crossed with a homozygous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pl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49604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omozygous dominant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ound 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RR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496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If plant is heterozygous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arent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phenotype    round x wrinkl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enotype         Rr            r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gamet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Offspr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5"/>
          <p:cNvSpPr/>
          <p:nvPr/>
        </p:nvSpPr>
        <p:spPr>
          <a:xfrm>
            <a:off x="16002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6"/>
          <p:cNvSpPr/>
          <p:nvPr/>
        </p:nvSpPr>
        <p:spPr>
          <a:xfrm>
            <a:off x="205740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7"/>
          <p:cNvSpPr/>
          <p:nvPr/>
        </p:nvSpPr>
        <p:spPr>
          <a:xfrm>
            <a:off x="2666880" y="31240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8"/>
          <p:cNvSpPr/>
          <p:nvPr/>
        </p:nvSpPr>
        <p:spPr>
          <a:xfrm>
            <a:off x="3048120" y="312408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13"/>
          <p:cNvSpPr/>
          <p:nvPr/>
        </p:nvSpPr>
        <p:spPr>
          <a:xfrm>
            <a:off x="60958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14"/>
          <p:cNvSpPr/>
          <p:nvPr/>
        </p:nvSpPr>
        <p:spPr>
          <a:xfrm>
            <a:off x="655308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5"/>
          <p:cNvSpPr/>
          <p:nvPr/>
        </p:nvSpPr>
        <p:spPr>
          <a:xfrm>
            <a:off x="71629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6"/>
          <p:cNvSpPr/>
          <p:nvPr/>
        </p:nvSpPr>
        <p:spPr>
          <a:xfrm>
            <a:off x="76201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22"/>
          <p:cNvGraphicFramePr/>
          <p:nvPr/>
        </p:nvGraphicFramePr>
        <p:xfrm>
          <a:off x="1523880" y="3733920"/>
          <a:ext cx="2212920" cy="105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23"/>
          <p:cNvGraphicFramePr/>
          <p:nvPr/>
        </p:nvGraphicFramePr>
        <p:xfrm>
          <a:off x="5791320" y="3733920"/>
          <a:ext cx="2212920" cy="105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733920"/>
                    <a:ext cx="221292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24"/>
          <p:cNvSpPr/>
          <p:nvPr/>
        </p:nvSpPr>
        <p:spPr>
          <a:xfrm>
            <a:off x="457200" y="5181480"/>
            <a:ext cx="3429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 100% round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100% 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495680" y="5257800"/>
            <a:ext cx="44197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Offspring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phenotype  50% round  50% wrink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genotype     50% Rr   50% r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8"/>
          <p:cNvSpPr/>
          <p:nvPr/>
        </p:nvSpPr>
        <p:spPr>
          <a:xfrm>
            <a:off x="4495680" y="144792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2:34:59Z</dcterms:created>
  <dc:creator>Angela Wall</dc:creator>
  <dc:description/>
  <dc:language>en-US</dc:language>
  <cp:lastModifiedBy>LEGION2</cp:lastModifiedBy>
  <dcterms:modified xsi:type="dcterms:W3CDTF">2016-01-12T11:48:38Z</dcterms:modified>
  <cp:revision>33</cp:revision>
  <dc:subject/>
  <dc:title>Genetics</dc:title>
</cp:coreProperties>
</file>