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7FBB-309C-4A15-8A4F-8AD80CACC6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213-AE8F-4731-9F08-32C4051B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BE3-D176-4F7C-A147-8BD073BE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152-4408-45BB-916C-12623387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D73-CA5A-4837-870D-98F5D916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B5B-D5FD-4632-914F-EF99D4B1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6B3-10F3-4C94-A02A-09E3576D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62A-2EBF-4747-90C0-E1FF665E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A9A-33A6-44A1-A379-5FA38594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86F-CB5B-400E-9BE8-E59E1F52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23F-B269-402C-B109-6D82B714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F19-71FE-48AC-B265-CD9F4537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BBB-F2DC-4740-A9FB-D16E401D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FF28-BD3D-4FC8-B527-90627D1FB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33"/>
                </a:solidFill>
                <a:latin typeface="Verdana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The study of inherited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Monohybrid inheri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be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dominant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be: </a:t>
            </a:r>
            <a:r>
              <a:rPr b="0" lang="en-GB" sz="1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recessive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   x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380988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4197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594360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64771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09480" y="5638680"/>
            <a:ext cx="784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ph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heterozygotes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20"/>
          <p:cNvGraphicFramePr/>
          <p:nvPr/>
        </p:nvGraphicFramePr>
        <p:xfrm>
          <a:off x="3200400" y="3733920"/>
          <a:ext cx="312408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733920"/>
                    <a:ext cx="3124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Verdana"/>
              </a:rPr>
              <a:t>F1 intercros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 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x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           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2 gener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8"/>
          <p:cNvSpPr/>
          <p:nvPr/>
        </p:nvSpPr>
        <p:spPr>
          <a:xfrm>
            <a:off x="3962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9"/>
          <p:cNvSpPr/>
          <p:nvPr/>
        </p:nvSpPr>
        <p:spPr>
          <a:xfrm>
            <a:off x="46483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6248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55627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990720" y="4876920"/>
            <a:ext cx="7391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75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50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25%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atio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3:1 Roun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: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wrinkle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17"/>
          <p:cNvGraphicFramePr/>
          <p:nvPr/>
        </p:nvGraphicFramePr>
        <p:xfrm>
          <a:off x="3276720" y="3124080"/>
          <a:ext cx="3504960" cy="15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35049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Does the observed ratio match the theoretical rat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heoretical or expected ratio of plants producing round or wrinkled seeds is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3 round :1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ndel’s observed ratio was 2.96: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screpancy is due to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bserved  ratio is very rarely the same as the expected rat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larger the samp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e more nearly the results approximate to the theoretical ra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tes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uch as 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chi-squared te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an be used to test the closeness of fit of the observed and theoretical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1 generation is limited to the offspring of two homozygous par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2 is limited to the offspring of intercrossing the F1 gen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all other cases the terms offspring (1) and offspring (2) should be us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lete set of headings will b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1)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 (1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What if the parents are not  homozyg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Backcross</a:t>
            </a: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 test whether a plant producing round seeds is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or heter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t can be crossed with a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l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4960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omozygous dominant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ound 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RR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496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eterozygous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   round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   Rr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5"/>
          <p:cNvSpPr/>
          <p:nvPr/>
        </p:nvSpPr>
        <p:spPr>
          <a:xfrm>
            <a:off x="16002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7"/>
          <p:cNvSpPr/>
          <p:nvPr/>
        </p:nvSpPr>
        <p:spPr>
          <a:xfrm>
            <a:off x="266688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3048120" y="31240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60958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65530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71629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76201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22"/>
          <p:cNvGraphicFramePr/>
          <p:nvPr/>
        </p:nvGraphicFramePr>
        <p:xfrm>
          <a:off x="1523880" y="3733920"/>
          <a:ext cx="2212920" cy="10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23"/>
          <p:cNvGraphicFramePr/>
          <p:nvPr/>
        </p:nvGraphicFramePr>
        <p:xfrm>
          <a:off x="5791320" y="3733920"/>
          <a:ext cx="2212920" cy="105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24"/>
          <p:cNvSpPr/>
          <p:nvPr/>
        </p:nvSpPr>
        <p:spPr>
          <a:xfrm>
            <a:off x="457200" y="518148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 100% 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100% 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495680" y="5257800"/>
            <a:ext cx="4419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50% round  50% wrink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 50% Rr   50% r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4495680" y="14479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34:59Z</dcterms:created>
  <dc:creator>Angela Wall</dc:creator>
  <dc:description/>
  <dc:language>en-US</dc:language>
  <cp:lastModifiedBy>LEGION2</cp:lastModifiedBy>
  <dcterms:modified xsi:type="dcterms:W3CDTF">2016-01-12T11:48:38Z</dcterms:modified>
  <cp:revision>33</cp:revision>
  <dc:subject/>
  <dc:title>Genetics</dc:title>
</cp:coreProperties>
</file>