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4A39-DD35-4C6F-B4BE-F4F890E3A0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inherited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inherited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roun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(dominant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wrinkle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 (recessive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round seeds    x  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heterozygotes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roun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(dominant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wrinkle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 (recessive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round seeds    x  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heterozygotes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 phenotyp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round seeds x round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Rr     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gen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5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plants producing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 RR      50%  Rr      25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1 Round seeds: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 phenotyp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round seeds x round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Rr     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gen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5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plants producing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 RR      50%  Rr      25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1 Round seeds: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observed ratio match the theoretical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tical or expected ratio of plants producing round or wrinkled seeds is 3 round :1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observed ratio was 2.96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pancy is due to statistical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 ratio is very rarely the same as the expected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sample the more nearly the results approximate to the theoretic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tests such as the chi-squared test can be used to test the closeness of fit of the observed and theoretical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observed ratio match the theoretical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tical or expected ratio of plants producing round or wrinkled seeds is 3 round :1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observed ratio was 2.96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pancy is due to statistical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 ratio is very rarely the same as the expected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sample the more nearly the results approximate to the theoretic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tests such as the chi-squared test can be used to test the closeness of fit of the observed and theoretical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1 generation is limited to the offspring of two homozygou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2 is limited to the offspring of intercrossing the 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 cases the terms offspring (1) and offspring (2) should be 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et of headings will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1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 (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the parents are not  homozyg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1 generation is limited to the offspring of two homozygou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2 is limited to the offspring of intercrossing the 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 cases the terms offspring (1) and offspring (2) should be 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et of headings will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1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 (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the parents are not  homozyg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cro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est whether a plant producing round seeds is homozygous RR  or heterozygous Rr it can be crossed with a homozygous r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omozygous dominant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round 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RR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eterozygous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 round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   Rr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100%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100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50% round  50%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50% Rr   50% r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cro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est whether a plant producing round seeds is homozygous RR  or heterozygous Rr it can be crossed with a homozygous r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omozygous dominant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round 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RR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eterozygous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 round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   Rr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100%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100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50% round  50%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50% Rr   50% r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640-CF92-4ECB-810A-4C761663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238-701B-4129-BFEF-EC7847E6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1D5-1D76-4D65-9038-F4881EBE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D4A0-DAAD-45A3-BC5A-5B6C0BED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886-AAF0-4B82-876F-D95A3524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093-144C-49B8-8688-D1AC691F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2D8-E09E-474E-BCDD-BED750C8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DFC-B3B6-4756-A914-B405A8BA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C11-91FE-4C46-8B90-8FCB70B9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ECF-1133-4F07-9082-34A8ACB7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FD0-0A7F-46C4-BA7E-93F1DDCC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6646-AA8C-4B59-AB62-5C902E05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0855-9989-4DC7-916D-F0124FDAD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33"/>
                </a:solidFill>
                <a:latin typeface="Verdana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The study of inherited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Monohybrid inheri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t the allele for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 be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dominant alle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t the allele for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be: </a:t>
            </a:r>
            <a:r>
              <a:rPr b="0" lang="en-GB" sz="1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recessive alle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    x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gene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380988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4197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594360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64771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09480" y="5638680"/>
            <a:ext cx="784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phenotyp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 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genotyp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  heterozygotes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20"/>
          <p:cNvGraphicFramePr/>
          <p:nvPr/>
        </p:nvGraphicFramePr>
        <p:xfrm>
          <a:off x="3200400" y="3733920"/>
          <a:ext cx="3124080" cy="160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733920"/>
                    <a:ext cx="3124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Verdana"/>
              </a:rPr>
              <a:t>F1 intercros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 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x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            Rr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2 genera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 8"/>
          <p:cNvSpPr/>
          <p:nvPr/>
        </p:nvSpPr>
        <p:spPr>
          <a:xfrm>
            <a:off x="39625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9"/>
          <p:cNvSpPr/>
          <p:nvPr/>
        </p:nvSpPr>
        <p:spPr>
          <a:xfrm>
            <a:off x="46483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62485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55627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990720" y="4876920"/>
            <a:ext cx="7391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75% 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5%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5%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50%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25%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atio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3:1 Round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eds: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 wrinkled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17"/>
          <p:cNvGraphicFramePr/>
          <p:nvPr/>
        </p:nvGraphicFramePr>
        <p:xfrm>
          <a:off x="3276720" y="3124080"/>
          <a:ext cx="3504960" cy="15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24080"/>
                    <a:ext cx="35049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Verdana"/>
              </a:rPr>
              <a:t>Does the observed ratio match the theoretical rati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heoretical or expected ratio of plants producing round or wrinkled seeds is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3 round :1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ndel’s observed ratio was 2.96: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screpancy is due to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tatistical 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bserved  ratio is very rarely the same as the expected rati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larger the samp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e more nearly the results approximate to the theoretical ra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tatistical tes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uch as the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chi-squared tes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an be used to test the closeness of fit of the observed and theoretical ra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use of the term F1 generation is limited to the offspring of two homozygous par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use of the term F2 is limited to the offspring of intercrossing the F1 gene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all other cases the terms offspring (1) and offspring (2) should be us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omplete set of headings will b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arents 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arents 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1)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 (1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2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2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Verdana"/>
              </a:rPr>
              <a:t>What if the parents are not  homozyg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Backcross</a:t>
            </a:r>
            <a:br>
              <a:rPr sz="2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o test whether a plant producing round seeds is hom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or heter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t can be crossed with a hom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pl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4960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f plant is homozygous dominant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ound  x wrink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      RR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            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Offsp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496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f plant is heterozygous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    round x wrink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         Rr            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Offsp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Oval 5"/>
          <p:cNvSpPr/>
          <p:nvPr/>
        </p:nvSpPr>
        <p:spPr>
          <a:xfrm>
            <a:off x="160020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7"/>
          <p:cNvSpPr/>
          <p:nvPr/>
        </p:nvSpPr>
        <p:spPr>
          <a:xfrm>
            <a:off x="266688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3048120" y="31240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609588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655308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71629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76201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22"/>
          <p:cNvGraphicFramePr/>
          <p:nvPr/>
        </p:nvGraphicFramePr>
        <p:xfrm>
          <a:off x="1523880" y="3733920"/>
          <a:ext cx="2212920" cy="105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733920"/>
                    <a:ext cx="2212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23"/>
          <p:cNvGraphicFramePr/>
          <p:nvPr/>
        </p:nvGraphicFramePr>
        <p:xfrm>
          <a:off x="5791320" y="3733920"/>
          <a:ext cx="2212920" cy="105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9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733920"/>
                    <a:ext cx="2212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24"/>
          <p:cNvSpPr/>
          <p:nvPr/>
        </p:nvSpPr>
        <p:spPr>
          <a:xfrm>
            <a:off x="457200" y="5181480"/>
            <a:ext cx="3429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ffsp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phenotype   100% 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enotype    100% 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495680" y="5257800"/>
            <a:ext cx="4419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ffsp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phenotype  50% round  50% wrink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enotype     50% Rr   50% r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8"/>
          <p:cNvSpPr/>
          <p:nvPr/>
        </p:nvSpPr>
        <p:spPr>
          <a:xfrm>
            <a:off x="4495680" y="14479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2:34:59Z</dcterms:created>
  <dc:creator>Angela Wall</dc:creator>
  <dc:description/>
  <dc:language>en-US</dc:language>
  <cp:lastModifiedBy>LEGION2</cp:lastModifiedBy>
  <dcterms:modified xsi:type="dcterms:W3CDTF">2016-01-12T11:48:38Z</dcterms:modified>
  <cp:revision>33</cp:revision>
  <dc:subject/>
  <dc:title>Genetics</dc:title>
</cp:coreProperties>
</file>