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84ED-4C25-456E-A7E2-50D3D291FF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C50-4EC1-483F-935C-4FD981D7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4D1-DFBB-43D2-9C41-3DC1B2BB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271-2937-463E-A75D-7C570E45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5E9-2EE0-421C-86E2-876BF737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FC82-786F-4AE0-8EDD-C35361EA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2E8-7F37-491E-ACCE-F3ACAD74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3CD-5F2F-48CF-9AED-CFEFAF55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256-B715-4792-8D7A-AF390AA7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EE2-577A-4143-A8B9-1305E292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352-37D6-40A3-94B8-B7DAB7EC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780-B8FB-4F13-8ABD-5CF2329B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F3B-83B2-4FD8-B43A-0F1C6F5D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2786-6A3F-4BFF-A4DF-8E307D5618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Nondisjunction%20Meiosis%20I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rn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mete with no sex chromosomes fuses with normal X gam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ygote has chromosome complement 2n =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s are female and short in st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fertile because ovaries haven’t developed n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linefelt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X egg fertilised by normal 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 X egg is fertilised by an X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ygote has chromosome complement 2n = 47 (44 + X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6956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638320" y="1980720"/>
            <a:ext cx="3048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ways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ly infert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nnot produce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spindle fibres in a gamete mother cell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tion of abnormal diploid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ch contains 2 complete sets of chromosomes instead of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ertilisation of abnormal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mutant plants which possess complete extra sets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ype of chromosome mutation i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181480" y="228600"/>
            <a:ext cx="37339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strawberry plant is exposed to a chem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ue to the effect of chemical, total non-disjunction at meiosis produces diploid gametes(2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wo diploid gametes fuse at fer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new plant develops which has four sets of chromosomes (4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conomic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yploid plants are larger than diploid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d seed and frui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y commercially developed crop plants are polyp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pp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trawbe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tomato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 greater y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ffects of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even sets of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polyploidy plants are ster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e seedless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 in vig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istance to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r amount of an organism’s genetic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genotype produces change in phenotype =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types of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f one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romosome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in chromosom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in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of sex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Non-disjunctio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during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indle fibre fails during mei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of one pair of homologous chromosome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receive extra copy of affected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lack that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0"/>
            <a:ext cx="8153280" cy="6802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wn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n-disjunction in chromosom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ccurs in human egg mother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or more abnormal eggs formed (n = 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rtilised by normal sperm (n = 2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tion of abnormal zygote (2n =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4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47920" y="0"/>
            <a:ext cx="7010280" cy="68835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n dis-junction of 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1:20:05Z</dcterms:created>
  <dc:creator>hhashmi</dc:creator>
  <dc:description/>
  <dc:language>en-US</dc:language>
  <cp:lastModifiedBy>LEGION2</cp:lastModifiedBy>
  <dcterms:modified xsi:type="dcterms:W3CDTF">2016-01-12T11:51:04Z</dcterms:modified>
  <cp:revision>5</cp:revision>
  <dc:subject/>
  <dc:title>Mutation</dc:title>
</cp:coreProperties>
</file>