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6DEB-3048-480D-B4E3-35DB839603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51B-6205-4EED-BD97-EC585148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DA7-D4D7-4C21-B0B1-8E2A1B05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147-9A97-41B2-A0F3-264D6960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BA5E-6FBD-4C86-81D9-F0A0201C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C379-BA5F-4A76-AEF3-3A01B26B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BFE-C14C-4528-AC63-E57DF16E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AA5-EEA3-4093-8818-5BCCE459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A50-9C79-4737-8102-2291D8FC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1EB-F484-4327-890A-6D0661E7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5F4-2578-4F2F-85AD-60F120B8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164-C87A-4E0A-9848-9B4411C2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C08-131F-464A-935A-FBE6724D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539B-C1FE-473C-8B8C-A4B1C6417C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Nondisjunction%20Meiosis%20I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rn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mete with no sex chromosomes fuses with normal X gam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ygote has chromosome complement 2n =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s are female and short in st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fertile because ovaries haven’t developed norm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linefelt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X egg fertilised by normal 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 X egg is fertilised by an X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ygote has chromosome complement 2n = 47 (44 + X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90720" y="0"/>
            <a:ext cx="6956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638320" y="1980720"/>
            <a:ext cx="3048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ways 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ly infert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nnot produce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spindle fibres in a gamete mother cell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tion of abnormal diploid gam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ach contains 2 complete sets of chromosomes instead of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ertilisation of abnormal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mutant plants which possess complete extra sets of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type of chromosome mutation i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181480" y="228600"/>
            <a:ext cx="37339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strawberry plant is exposed to a chem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ue to the effect of chemical, total non-disjunction at meiosis produces diploid gametes(2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wo diploid gametes fuse at fert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new plant develops which has four sets of chromosomes (4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conomic signific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yploid plants are larger than diploid re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d seed and frui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ny commercially developed crop plants are polypl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pp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trawber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tomato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 greater y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ffects of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even sets of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polyploidy plants are ster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e seedless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 in vig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istance to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r amount of an organism’s genetic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genotype produces change in phenotype =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types of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f one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romosome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in chromosom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in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of sex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Non-disjunctio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during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indle fibre fails during mei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of one pair of homologous chromosome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receive extra copy of affected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lack that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0"/>
            <a:ext cx="8153280" cy="6802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wn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n-disjunction in chromosome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ccurs in human egg mother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or more abnormal eggs formed (n = 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rtilised by normal sperm (n = 2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tion of abnormal zygote (2n = 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4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47920" y="0"/>
            <a:ext cx="7010280" cy="68835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n dis-junction of sex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1:20:05Z</dcterms:created>
  <dc:creator>hhashmi</dc:creator>
  <dc:description/>
  <dc:language>en-US</dc:language>
  <cp:lastModifiedBy>LEGION2</cp:lastModifiedBy>
  <dcterms:modified xsi:type="dcterms:W3CDTF">2016-01-12T11:51:04Z</dcterms:modified>
  <cp:revision>5</cp:revision>
  <dc:subject/>
  <dc:title>Mutation</dc:title>
</cp:coreProperties>
</file>