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E972-0D48-4C3C-8A65-095B44B1FD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with no sex chromosomes fuses with normal X 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are female and short in st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tile because ovaries haven’t developed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with no sex chromosomes fuses with normal X 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are female and short in st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tile because ovaries haven’t developed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linefelt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X egg fertilised by normal 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X egg is fertilised by an X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7 (44 + XX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linefelt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 egg fertilised by normal 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X egg is fertilised by an X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7 (44 + XX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infert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produce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infert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produce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pindle fibres in a gamete mother cell f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mologous pair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of abnormal diploid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ntains 2 complete sets of chromosomes instead of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pindle fibres in a gamete mother cell f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mologous pair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of abnormal diploid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ntains 2 complete sets of chromosomes instead of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 of abnormal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mutant plants which possess complete extra sets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chromosome mutation is calle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 of abnormal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mutant plants which possess complete extra sets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chromosome mutation is calle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the strawberry plant is exposed to a chem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: due to the effect of chemical, total non-disjunction at meiosis produces diploid gametes(2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 two diploid gametes fuse at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 a new plant develops which has four sets of chromosomes (4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the strawberry plant is exposed to a chem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: due to the effect of chemical, total non-disjunction at meiosis produces diploid gametes(2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 two diploid gametes fuse at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 a new plant develops which has four sets of chromosomes (4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 plants are larger than diploid rel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eed and fruit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ercially developed crop plants are 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p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rawbe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mato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greater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 plants are larger than diploid rel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eed and fruit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ercially developed crop plants are 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p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rawbe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mato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greater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ven sets of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olyploidy plants are ster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seedless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in vig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ven sets of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olyploidy plants are ster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seedless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in vig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r amount of an organism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genotype produces change in phenotype = mu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f on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r amount of an organism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genotype produces change in phenotype = mu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f on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omosome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 in chromoso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in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chromoso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in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 fails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one pair of homologous chromosome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receive extra copy of affected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lack that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 fails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one pair of homologous chromosome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receive extra copy of affected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lack that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wn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in chromosom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ccurs in human egg mothe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or more abnormal eggs formed (n = 2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d by normal sperm (n = 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 of abnormal zygote (2n = 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in chromosom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human egg mothe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r more abnormal eggs formed (n = 2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d by normal sperm (n = 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bnormal zygote (2n = 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dis-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dis-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39A4-D717-42B2-98E8-595B9C6E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366B-5E39-49A3-98CB-2CEE95E8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3BDB-9100-429F-A674-0282F2D4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D95-5B97-4804-9320-D545FFA6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658-0281-402D-98B7-0B30E35A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CB69-0532-4DDE-B487-736AD4C1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FC32-640E-4B16-B13F-44488D61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DC5C-2D18-4B89-80F7-5E5EA19A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DF88-D094-4729-ADE2-0346C803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6DD7-AB81-4075-88D5-BF312013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5E6-A789-46DA-803D-B57CFB09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4F79-DCB3-401F-990C-4DCE381E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FF50-56C0-4C25-AF5E-BC30AE45D9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iostudio.com/d_%20Meiotic%20Nondisjunction%20Meiosis%20I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rner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mete with no sex chromosomes fuses with normal X gam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ygote has chromosome complement 2n = 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dividuals are female and short in st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fertile because ovaries haven’t developed norm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linefelter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XX egg fertilised by normal Y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 X egg is fertilised by an XY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ygote has chromosome complement 2n = 47 (44 + XX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90720" y="0"/>
            <a:ext cx="6956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638320" y="1980720"/>
            <a:ext cx="3048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ways 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ly infert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nnot produce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plete non-disjunction and 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spindle fibres in a gamete mother cell 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mologous pairs fail to become sepa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duction of abnormal diploid gam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ach contains 2 complete sets of chromosomes instead of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ertilisation of abnormal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mutant plants which possess complete extra sets of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type of chromosome mutation is call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olyplo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5181480" y="228600"/>
            <a:ext cx="37339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strawberry plant is exposed to a chem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ue to the effect of chemical, total non-disjunction at meiosis produces diploid gametes(2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wo diploid gametes fuse at ferti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 new plant develops which has four sets of chromosomes (4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conomic signific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lyploid plants are larger than diploid rel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reased seed and fruit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ny commercially developed crop plants are polypl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app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strawber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tomato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w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 greater y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ffects of 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even sets of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polyploidy plants are ster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duce seedless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rease in vig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sistance to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structure or amount of an organism’s genetic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genotype produces change in phenotype =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types of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structure of one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romosome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in chromosom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n-disjunction in 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n-disjunction of sex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lete non-disjunction and polyplo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Non-disjunctio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during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pindle fibre fails during mei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of one pair of homologous chromosomes fail to become sepa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gametes receive extra copy of affected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gametes lack that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0"/>
            <a:ext cx="8153280" cy="6802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own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n-disjunction in chromosome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ccurs in human egg mother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or more abnormal eggs formed (n = 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rtilised by normal sperm (n = 2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tion of abnormal zygote (2n = 4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46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47920" y="0"/>
            <a:ext cx="7010280" cy="68835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n dis-junction of sex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1:20:05Z</dcterms:created>
  <dc:creator>hhashmi</dc:creator>
  <dc:description/>
  <dc:language>en-US</dc:language>
  <cp:lastModifiedBy>LEGION2</cp:lastModifiedBy>
  <dcterms:modified xsi:type="dcterms:W3CDTF">2016-01-12T11:51:04Z</dcterms:modified>
  <cp:revision>5</cp:revision>
  <dc:subject/>
  <dc:title>Mutation</dc:title>
</cp:coreProperties>
</file>