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4E9F-D63F-4733-9C36-CA3DEFDC64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lymerase Chain Reactio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im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 understand the process of PCR and its use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rter - Match each term with its correct description (work in pairs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04 September 2015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 the process of PCR and its 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 - Match each term with its correct description (work in pai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 September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The first step for PCR would be to synthesize "primers" of about 20 letters-lo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ONE primer exactly like the lower left-hand sequence, and ONE primer exactly like the upper right-hand sequence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TTAACGGGGCCCTTTAAA.....…TTTAAACCCGGGT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ATTGCCCCGGGAAATTT.......................&gt;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nd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&lt;........................................TTTAAACCCGGGTT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ATTGCCCCGGGAAATTT........AAATTTGGGCCCAAA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tep for PCR would be to synthesize "primers" of about 20 letters-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primer exactly like the lower left-hand sequence, and ONE primer exactly like the upper right-hand sequ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AACGGGGCCCTTTAAA.....…TTTAAACCCGGG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ATTGCCCCGGGAAATTT......................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........................................TTTAAACCCGGGT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ATTGCCCCGGGAAATTT........AAATTTGGGCCCA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polymerase must be thermostable (37oC – 95oC used) to avoid fresh enzyme being adde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must be thermostable (37oC – 95oC used) to avoid fresh enzyme being ad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member…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ucleotides used must be very pur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must not be contaminated  - any foreign DNA would also be copied….PCR in legal cases in UK suspended at presen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tides used must be very p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must not be contaminated  - any foreign DNA would also be copied….PCR in legal cases in UK suspended at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hat is it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nimation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http://www.dnalc.org/ddnalc/resources/pcr.html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http://www.maxanim.com/genetics/PCR/pcr.swf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nalc.org/ddnalc/resources/pc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axanim.com/genetics/PCR/pcr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formatio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lymerase chain reaction enables large amounts of DNA to be produced from very small samples (0.1ml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re is a repeating cycle of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paration of double DNA strand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ynthesis of a complementary strand for each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 enables large amounts of DNA to be produced from very small samples (0.1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repeating cycle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on of double DNA str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hesis of a complementary strand for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hat happens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Sample DNA , nucleotides, DNA primers &amp; thermostable DNA polymerase placed in PCR machin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Strands of sample DNA separated by heating to 95oC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Mixture cooled to 37oC to allow primers to bin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Mixture heated to 72oC for replication (optimum temp of DNA polymerase)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Cycle repeats many times (~8mins /cycle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DNA , nucleotides, DNA primers &amp; thermostable DNA polymerase placed in PCR mach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nds of sample DNA separated by heating to 95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 cooled to 37oC to allow primers to b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 heated to 72oC for replication (optimum temp of DNA polymera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e repeats many times (~8mins /cyc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oblem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paration achieved by heating to 95oC – no suitable helicas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polymerase can’t work on completely single stranded DNA – double stranded regions needed at the start of sequence to be copied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imers (short sequences DNA) complementary to bases at start of region to be copied use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 synthesize  primers , base sequence at start must be know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on achieved by heating to 95oC – no suitable heli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can’t work on completely single stranded DNA – double stranded regions needed at the start of sequence to be copi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rs (short sequences DNA) complementary to bases at start of region to be copied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ynthesize  primers , base sequence at start must be kn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TTAACGGGGCCCTTTAAA.....…TTTAAACCCGGGTT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ATTGCCCCGGGAAATTT.....…AAATTTGGGCCCAAA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the sequence of bases which ONLY flank a particular region of a particular organism's DNA, and NO OTHER ORGANISM'S DNA. This region would be a target sequence for PCR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AACGGGGCCCTTTAAA.....…TTTAAACCCGGGT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ATTGCCCCGGGAAATTT.....…AAATTTGGGCCCA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of bases which ONLY flank a particular region of a particular organism's DNA, and NO OTHER ORGANISM'S DNA. This region would be a target sequence for PC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9187-45B3-4B04-9FD9-880E2971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7575-6D59-4D8F-86C5-EB15C515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7A21-3E25-4B31-ADD7-A3FA551CD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807A-BDED-40EF-9482-A2FBA4A54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3A18-B3E6-4F55-B866-B7ABB3191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737B-8EE3-455F-9853-F75A9718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980B-3796-4807-BD1A-F2FEDE76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FEB4-AEE8-440C-8440-762787CF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EFA9-16F9-416B-A487-F44C3772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3C31-70E9-4A8F-9178-2BAF9B1C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D46E-7DDC-40CD-B914-85C93258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E552-5039-4EF9-8241-7CFFCD80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A4E1-A4DE-46FA-A3C2-730826C8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86D5-B1A4-4245-A722-0CB854A2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E699-5198-4BEE-A422-96BA6ABA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80F5-7134-4E56-89E5-F04A692D8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A366-7415-4DD3-AE59-369769BCC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79CF-6823-4DC5-A95E-BC78A010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CD39-A271-468D-9970-02A529D1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5304-D4CC-4EE7-9903-CCD436A7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7450-68F1-4C3B-B744-768658DC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1AD2-6BB4-4C97-ACFB-901E9C5A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46F5-FF24-4B3A-9116-828F3A68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567A-7294-4C35-85AD-27D056DA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6060-3B37-45B8-9B20-F5F8A4A9A0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56A0-C894-4AAD-A9FF-A670E47A830D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nalc.org/ddnalc/resources/pcr.html" TargetMode="External"/><Relationship Id="rId2" Type="http://schemas.openxmlformats.org/officeDocument/2006/relationships/hyperlink" Target="http://www.maxanim.com/genetics/PCR/pcr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Polymerase Chain Reac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09120" y="18284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Aim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To understand the process of </a:t>
            </a:r>
            <a:r>
              <a:rPr b="0" lang="en-GB" sz="3600" spc="-1" strike="noStrike">
                <a:solidFill>
                  <a:srgbClr val="ff0000"/>
                </a:solidFill>
                <a:latin typeface="Verdana"/>
              </a:rPr>
              <a:t>PCR</a:t>
            </a: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 and its </a:t>
            </a:r>
            <a:r>
              <a:rPr b="0" lang="en-GB" sz="3600" spc="-1" strike="noStrike">
                <a:solidFill>
                  <a:srgbClr val="ff0000"/>
                </a:solidFill>
                <a:latin typeface="Verdana"/>
              </a:rPr>
              <a:t>uses</a:t>
            </a: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Verdana"/>
              </a:rPr>
              <a:t>Starter - Match each term with its correct description (work in pairs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486400" y="304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8682-532A-4683-AF4F-5194E293D662}" type="datetime3">
              <a:rPr b="0" lang="en-GB" sz="2400" spc="-1" strike="noStrike">
                <a:solidFill>
                  <a:srgbClr val="eaeaea"/>
                </a:solidFill>
                <a:latin typeface="Arial"/>
                <a:ea typeface="MS PGothic"/>
              </a:rPr>
              <a:t>31 July 2026</a:t>
            </a:fld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609480"/>
            <a:ext cx="81392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The first step for PCR would be to synthesize "primers" of about 20 letters-lo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ONE primer exactly like the lower left-hand sequence, and ONE primer exactly like the upper right-hand sequence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TTAACGGGGCCCTTTAAA.....…TTTAAACCCGGGT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AATTGCCCCGGGAAATTT</a:t>
            </a: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.......................&gt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and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&lt;........................................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TTTAAACCCGGGTT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AATTGCCCCGGGAAATTT........AAATTTGGGCCCAA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DNA polymerase must be thermostable (37</a:t>
            </a:r>
            <a:r>
              <a:rPr b="0" lang="en-GB" sz="3200" spc="-1" strike="noStrike" baseline="30000">
                <a:solidFill>
                  <a:srgbClr val="eaeaea"/>
                </a:solidFill>
                <a:latin typeface="Verdana"/>
              </a:rPr>
              <a:t>o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C – 95</a:t>
            </a:r>
            <a:r>
              <a:rPr b="0" lang="en-GB" sz="3200" spc="-1" strike="noStrike" baseline="30000">
                <a:solidFill>
                  <a:srgbClr val="eaeaea"/>
                </a:solidFill>
                <a:latin typeface="Verdana"/>
              </a:rPr>
              <a:t>o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C used) to avoid fresh enzyme being adde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Remember…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Nucleotides used must be very pur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DNA must not be contaminated  - any foreign DNA would also be copied….PCR in legal cases in UK suspended at prese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Picture 4" descr="pcr"/>
          <p:cNvPicPr/>
          <p:nvPr/>
        </p:nvPicPr>
        <p:blipFill>
          <a:blip r:embed="rId1"/>
          <a:stretch/>
        </p:blipFill>
        <p:spPr>
          <a:xfrm>
            <a:off x="1619280" y="1773360"/>
            <a:ext cx="6400800" cy="435744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www.dnalc.org/ddnalc/resources/pcr.htm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http://www.maxanim.com/genetics/PCR/pcr.swf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4" descr="300px-PCR"/>
          <p:cNvPicPr/>
          <p:nvPr/>
        </p:nvPicPr>
        <p:blipFill>
          <a:blip r:embed="rId1"/>
          <a:stretch/>
        </p:blipFill>
        <p:spPr>
          <a:xfrm>
            <a:off x="3071880" y="152280"/>
            <a:ext cx="2844720" cy="64008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4" descr="Pcr"/>
          <p:cNvPicPr/>
          <p:nvPr/>
        </p:nvPicPr>
        <p:blipFill>
          <a:blip r:embed="rId1"/>
          <a:stretch/>
        </p:blipFill>
        <p:spPr>
          <a:xfrm>
            <a:off x="1257480" y="0"/>
            <a:ext cx="681984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Inform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Polymerase chain reaction enables large amounts of DNA to be produced from very small samples (0.1ml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here is a repeating cycle of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separation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of double DNA strand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synthesis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of a complementary strand for eac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What happen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ample DNA , nucleotides, DNA primers &amp; thermostable DNA polymerase placed in PCR machin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trands of sample DNA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separated 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by heating to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95</a:t>
            </a:r>
            <a:r>
              <a:rPr b="0" lang="en-GB" sz="2800" spc="-1" strike="noStrike" baseline="30000">
                <a:solidFill>
                  <a:srgbClr val="ff0000"/>
                </a:solidFill>
                <a:latin typeface="Verdana"/>
              </a:rPr>
              <a:t>o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Mixture cooled to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37</a:t>
            </a:r>
            <a:r>
              <a:rPr b="0" lang="en-GB" sz="2800" spc="-1" strike="noStrike" baseline="30000">
                <a:solidFill>
                  <a:srgbClr val="ff0000"/>
                </a:solidFill>
                <a:latin typeface="Verdana"/>
              </a:rPr>
              <a:t>o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C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to allow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primers to bind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Mixture heated to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72</a:t>
            </a:r>
            <a:r>
              <a:rPr b="0" lang="en-GB" sz="2800" spc="-1" strike="noStrike" baseline="30000">
                <a:solidFill>
                  <a:srgbClr val="ff0000"/>
                </a:solidFill>
                <a:latin typeface="Verdana"/>
              </a:rPr>
              <a:t>o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C 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for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replication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(optimum temp of DNA polymerase)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Cycle repeats many times (~8mins /cycle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eparation achieved by heating to 95</a:t>
            </a:r>
            <a:r>
              <a:rPr b="0" lang="en-GB" sz="2800" spc="-1" strike="noStrike" baseline="30000">
                <a:solidFill>
                  <a:srgbClr val="eaeaea"/>
                </a:solidFill>
                <a:latin typeface="Verdana"/>
              </a:rPr>
              <a:t>o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C – no suitable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helicas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DNA polymerase can’t work on completely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single stranded DNA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– double stranded regions needed at the start of sequence to be copied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primers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(short sequences DNA) complementary to bases at start of region to be copied us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To synthesize  primers , base sequence at start must be know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582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TTAACGGGGCCCTTTAAA.....…TTTAAACCCGGGTT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AATTGCCCCGGGAAATTT.....…AAATTTGGGCCCAA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he sequence of bases which ONLY flank a particular region of a particular organism's DNA, and NO OTHER ORGANISM'S DNA. This region would be a target sequence for PC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9:44:27Z</dcterms:created>
  <dc:creator>Dominic Conrad</dc:creator>
  <dc:description/>
  <dc:language>en-US</dc:language>
  <cp:lastModifiedBy>LEGION2</cp:lastModifiedBy>
  <dcterms:modified xsi:type="dcterms:W3CDTF">2016-01-12T11:54:55Z</dcterms:modified>
  <cp:revision>9</cp:revision>
  <dc:subject/>
  <dc:title>Polymerase Chain Reaction PCR</dc:title>
</cp:coreProperties>
</file>