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8FDB-F95C-4963-9CA3-730620BD40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understand the process of PCR and its us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rter - Match each term with its correct description (work in pairs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04 September 2015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process of PCR and its 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 - Match each term with its correct description (work in pai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 September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he first step for PCR would be to synthesize "primers" of about 20 letters-lo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ONE primer exactly like the lower left-hand sequence, and ONE primer exactly like the upper right-hand sequence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TAACGGGGCCCTTTAAA.....…TTTAAACCCGGGT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ATTGCCCCGGGAAATTT.......................&gt;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nd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&lt;........................................TTTAAACCCGGGTT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ATTGCCCCGGGAAATTT........AAATTTGGGCCCAA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tep for PCR would be to synthesize "primers" of about 20 letters-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rimer exactly like the lower left-hand sequence, and ONE primer exactly like the upper right-hand sequ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AACGGGGCCCTTTAAA.....…TTTAAACCCGGG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TTGCCCCGGGAAATTT......................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........................................TTTAAACCCGGGT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TTGCCCCGGGAAATTT........AAATTTGGGCCC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olymerase must be thermostable (37oC – 95oC used) to avoid fresh enzyme being add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must be thermostable (37oC – 95oC used) to avoid fresh enzyme being ad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member…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ucleotides used must be very pur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must not be contaminated  - any foreign DNA would also be copied….PCR in legal cases in UK suspended at presen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tides used must be very p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must not be contaminated  - any foreign DNA would also be copied….PCR in legal cases in UK suspended at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ttp://www.dnalc.org/ddnalc/resources/pcr.htm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ttp://www.maxanim.com/genetics/PCR/pcr.swf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nalc.org/ddnalc/resources/pc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axanim.com/genetics/PCR/pcr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formati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lymerase chain reaction enables large amounts of DNA to be produced from very small samples (0.1ml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re is a repeating cycle of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ion of double DNA strand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ynthesis of a complementary strand for each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 enables large amounts of DNA to be produced from very small samples (0.1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peating cycle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ouble DNA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sis of a complementary strand for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hat happens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Sample DNA , nucleotides, DNA primers &amp; thermostable DNA polymerase placed in PCR machin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Strands of sample DNA separated by heating to 95oC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Mixture cooled to 37oC to allow primers to bin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Mixture heated to 72oC for replication (optimum temp of DNA polymerase)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Cycle repeats many times (~8mins /cycle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DNA , nucleotides, DNA primers &amp; thermostable DNA polymerase placed in PCR mach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nds of sample DNA separated by heating to 95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 cooled to 37oC to allow primers to b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 heated to 72oC for replication (optimum temp of DNA polymera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repeats many times (~8mins /cyc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ion achieved by heating to 95oC – no suitable helicas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olymerase can’t work on completely single stranded DNA – double stranded regions needed at the start of sequence to be copied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imers (short sequences DNA) complementary to bases at start of region to be copied use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synthesize  primers , base sequence at start must be know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achieved by heating to 95oC – no suitable heli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can’t work on completely single stranded DNA – double stranded regions needed at the start of sequence to be copi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 (short sequences DNA) complementary to bases at start of region to be copied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ynthesize  primers , base sequence at start must be 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TAACGGGGCCCTTTAAA.....…TTTAAACCCGGGTT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ATTGCCCCGGGAAATTT.....…AAATTTGGGCCCAA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he sequence of bases which ONLY flank a particular region of a particular organism's DNA, and NO OTHER ORGANISM'S DNA. This region would be a target sequence for PC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AACGGGGCCCTTTAAA.....…TTTAAACCCGGGT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TTGCCCCGGGAAATTT.....…AAATTTGGGCCC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which ONLY flank a particular region of a particular organism's DNA, and NO OTHER ORGANISM'S DNA. This region would be a target sequence for PC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8E9E-99B1-4364-82FE-EABFD1B9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1F6C-B0C4-4C6C-8952-55D22463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9F69-6DED-4EEB-9F6A-8C3BDB8B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F609-CFB2-4307-AFDE-BFC4E3CF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06D3-0C91-4D5B-884C-49666DDA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34A2-5794-4E44-9B84-88034C39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B824-7A5B-4259-91C9-FD2798F5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4B67-F426-4AF3-AB37-5B0337A2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6058-F84A-4CC1-9A34-620CA26B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5F49-8C0C-4A6E-B602-6EE2866E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F6E6-3618-4BA6-B58E-AA0240DE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3E21-EF9B-4F78-BD59-C25970B8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7884-1B2B-42C3-8D0B-9E3465B4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F80E-6074-423F-84A4-DFEBA116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CF1E-92FE-413B-8807-1184E765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DD16-6093-4576-AB1E-E75052D2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4FA1-7908-4EDA-AB9D-A519F885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3DA1-3647-4763-9FF7-166050C8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FCE-F3AD-47B5-B7F2-85F077A3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5D72-7C5C-4017-951F-96950201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3D1F-24F7-48FC-8B8A-2C0E8C9B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501B-4CC0-45E4-A88A-3A98C6A8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E804-425C-48D7-9C2E-212C5C00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6988-9CDB-489A-B70A-F4970AD8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8E8B-3C88-497C-B14D-3D8F2E6A5E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3EE7-71F1-4A27-9035-D279AEE20653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nalc.org/ddnalc/resources/pcr.html" TargetMode="External"/><Relationship Id="rId2" Type="http://schemas.openxmlformats.org/officeDocument/2006/relationships/hyperlink" Target="http://www.maxanim.com/genetics/PCR/pcr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olymerase Chain Reac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09120" y="18284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Aim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To understand the process of </a:t>
            </a:r>
            <a:r>
              <a:rPr b="0" lang="en-GB" sz="3600" spc="-1" strike="noStrike">
                <a:solidFill>
                  <a:srgbClr val="ff0000"/>
                </a:solidFill>
                <a:latin typeface="Verdana"/>
              </a:rPr>
              <a:t>PCR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 and its </a:t>
            </a:r>
            <a:r>
              <a:rPr b="0" lang="en-GB" sz="3600" spc="-1" strike="noStrike">
                <a:solidFill>
                  <a:srgbClr val="ff0000"/>
                </a:solidFill>
                <a:latin typeface="Verdana"/>
              </a:rPr>
              <a:t>uses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Verdana"/>
              </a:rPr>
              <a:t>Starter - Match each term with its correct description (work in pairs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486400" y="304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E21D-9E74-4091-A8FA-F9241440835F}" type="datetime3">
              <a:rPr b="0" lang="en-GB" sz="2400" spc="-1" strike="noStrike">
                <a:solidFill>
                  <a:srgbClr val="eaeaea"/>
                </a:solidFill>
                <a:latin typeface="Arial"/>
                <a:ea typeface="MS PGothic"/>
              </a:rPr>
              <a:t>29 July 2026</a:t>
            </a:fld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609480"/>
            <a:ext cx="81392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he first step for PCR would be to synthesize "primers" of about 20 letters-lo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ONE primer exactly like the lower left-hand sequence, and ONE primer exactly like the upper right-hand sequenc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TAACGGGGCCCTTTAAA.....…TTTAAACCCGGG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AATTGCCCCGGGAAATTT</a:t>
            </a: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.......................&gt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and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&lt;........................................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TTTAAACCCGGGT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ATTGCCCCGGGAAATTT........AAATTTGGGCCCAA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DNA polymerase must be thermostable (37</a:t>
            </a:r>
            <a:r>
              <a:rPr b="0" lang="en-GB" sz="32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 – 95</a:t>
            </a:r>
            <a:r>
              <a:rPr b="0" lang="en-GB" sz="32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 used) to avoid fresh enzyme being add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Remember…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Nucleotides used must be very pur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DNA must not be contaminated  - any foreign DNA would also be copied….PCR in legal cases in UK suspended at pres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4" descr="pcr"/>
          <p:cNvPicPr/>
          <p:nvPr/>
        </p:nvPicPr>
        <p:blipFill>
          <a:blip r:embed="rId1"/>
          <a:stretch/>
        </p:blipFill>
        <p:spPr>
          <a:xfrm>
            <a:off x="1619280" y="1773360"/>
            <a:ext cx="6400800" cy="43574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dnalc.org/ddnalc/resources/pcr.htm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www.maxanim.com/genetics/PCR/pcr.swf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300px-PCR"/>
          <p:cNvPicPr/>
          <p:nvPr/>
        </p:nvPicPr>
        <p:blipFill>
          <a:blip r:embed="rId1"/>
          <a:stretch/>
        </p:blipFill>
        <p:spPr>
          <a:xfrm>
            <a:off x="3071880" y="152280"/>
            <a:ext cx="2844720" cy="64008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4" descr="Pcr"/>
          <p:cNvPicPr/>
          <p:nvPr/>
        </p:nvPicPr>
        <p:blipFill>
          <a:blip r:embed="rId1"/>
          <a:stretch/>
        </p:blipFill>
        <p:spPr>
          <a:xfrm>
            <a:off x="1257480" y="0"/>
            <a:ext cx="681984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Inform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Polymerase chain reaction enables large amounts of DNA to be produced from very small samples (0.1ml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re is a repeating cycle of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separation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double DNA stran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synthesi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a complementary strand for eac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What happen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ample DNA , nucleotides, DNA primers &amp; thermostable DNA polymerase placed in PCR machin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trands of sample DNA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separated 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by heating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95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Mixture cooled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37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to allow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primers to bind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Mixture heated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72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 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for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replication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(optimum temp of DNA polymerase)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Cycle repeats many times (~8mins /cycle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eparation achieved by heating to 95</a:t>
            </a:r>
            <a:r>
              <a:rPr b="0" lang="en-GB" sz="28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C – no suitable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helica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DNA polymerase can’t work on completely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single stranded DNA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– double stranded regions needed at the start of sequence to be copied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primers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(short sequences DNA) complementary to bases at start of region to be copied us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o synthesize  primers , base sequence at start must be know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582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TAACGGGGCCCTTTAAA.....…TTTAAACCCGGGT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ATTGCCCCGGGAAATTT.....…AAATTTGGGCCCAA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 sequence of bases which ONLY flank a particular region of a particular organism's DNA, and NO OTHER ORGANISM'S DNA. This region would be a target sequence for PC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9:44:27Z</dcterms:created>
  <dc:creator>Dominic Conrad</dc:creator>
  <dc:description/>
  <dc:language>en-US</dc:language>
  <cp:lastModifiedBy>LEGION2</cp:lastModifiedBy>
  <dcterms:modified xsi:type="dcterms:W3CDTF">2016-01-12T11:54:55Z</dcterms:modified>
  <cp:revision>9</cp:revision>
  <dc:subject/>
  <dc:title>Polymerase Chain Reaction PCR</dc:title>
</cp:coreProperties>
</file>