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4B6A-0C41-4B34-A5E2-E7FEE9EF1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948-ABC1-42DA-9969-EA7780AE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A5F-DE68-4E81-B539-C3BFF2A1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E68-F075-4375-B333-75078B44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563-8EEB-43E9-A030-23A34784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E3C8-99F0-4292-BD79-02E53883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6BF8-0C89-4FF6-9844-BFFE1185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B955-6014-44FA-9475-CAE69B72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42A9-2234-4C5E-8669-473D8FDD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5CB4-4376-464E-BA57-3680AFE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B6E8-A634-4BC1-A84A-03D67F1C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2977-0B83-4EC4-883D-B25043B1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DF5-7563-49A9-9741-D7A67AED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F1C7-CCF1-4846-A49D-4299BAC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9607-A591-4824-AE06-FF3E762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D23A-72B3-4461-A7E3-A21213E5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3042-EF33-4B4F-B6CF-20422957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A180-B574-415C-92EC-C6CBB0D4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7FB-9FBC-4A7D-8A9D-A9D8DAA9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D7C-EBF2-4B17-9DD0-EF0F5AD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F3B-B780-4154-A731-7878716E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530-41E8-49F2-B65F-CBD02896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BA6-C977-48F5-8604-987C9015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772-5206-4BCC-B178-3237E91D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ACD-E155-4B2B-A440-9667DAAA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EC4A-30E1-4123-B5FA-8BE47F7118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79A7-AC17-4FF0-BB4A-EB665208898C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pcr.html" TargetMode="External"/><Relationship Id="rId2" Type="http://schemas.openxmlformats.org/officeDocument/2006/relationships/hyperlink" Target="http://www.maxanim.com/genetics/PCR/pcr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FDA4-238C-4A74-A6D3-4262E3DAB8FC}" type="datetime3">
              <a:rPr b="0" lang="en-GB" sz="2400" spc="-1" strike="noStrike">
                <a:solidFill>
                  <a:srgbClr val="eaeaea"/>
                </a:solidFill>
                <a:latin typeface="Arial"/>
                <a:ea typeface="MS PGothic"/>
              </a:rPr>
              <a:t>31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pcr"/>
          <p:cNvPicPr/>
          <p:nvPr/>
        </p:nvPicPr>
        <p:blipFill>
          <a:blip r:embed="rId1"/>
          <a:stretch/>
        </p:blipFill>
        <p:spPr>
          <a:xfrm>
            <a:off x="1619280" y="1773360"/>
            <a:ext cx="640080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LEGION2</cp:lastModifiedBy>
  <dcterms:modified xsi:type="dcterms:W3CDTF">2016-01-12T11:54:55Z</dcterms:modified>
  <cp:revision>9</cp:revision>
  <dc:subject/>
  <dc:title>Polymerase Chain Reaction PCR</dc:title>
</cp:coreProperties>
</file>